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1F0D3-3AEB-495E-802A-C792D01C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A4660-3AE4-48E3-9912-5E45EFFC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485DD-8D87-4C37-9C3A-C11D68D3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5D482-3872-4111-8FF1-63D309E1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B4B8-AF54-42B3-9F5A-22F17280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60D1-DEAF-47FA-B8D8-42C44552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6650-9045-4F5C-B2A9-CA87A723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359C-D43B-477E-8953-00AA333C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37B4-27DE-43D9-9EF0-49A11E42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9764-5EA6-4E73-85F7-22F5CDDC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C684-700F-4070-BACC-F4B685A8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D9A69-AEDC-4291-B98E-E69FFB7C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102F-966B-4156-A3AE-A75007E9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837C-D116-4C0D-8523-2D284148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3052-D9AC-4887-A3E3-65364974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4BEA-00D0-4C29-ADCF-22F8EF13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9A3B-C262-4A75-9EEE-2DF13A6B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F94AA-2268-49D0-9654-24819E84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98839-03BC-4AB0-842C-61722923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0B7D0-6B69-4B05-B859-F7D989BE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A2C71-D023-4924-9860-384CA20E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D4855-59BF-4FF0-8478-FB8116EF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5A856-FC67-4214-87FE-82E54A3F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315B5-F608-454A-B6BC-64D3179B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D87D-8FDC-4EA5-A9BB-FF6FABEA9A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6533-6E70-454D-9A85-DD36866D6B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dddddd"/>
                </a:solidFill>
                <a:latin typeface="Garamond"/>
              </a:rPr>
              <a:t>Chapter Two</a:t>
            </a:r>
            <a:br>
              <a:rPr sz="4000"/>
            </a:br>
            <a:r>
              <a:rPr b="1" i="1" lang="en-US" sz="4000" spc="-1" strike="noStrike">
                <a:solidFill>
                  <a:srgbClr val="dddddd"/>
                </a:solidFill>
                <a:latin typeface="Garamond"/>
              </a:rPr>
              <a:t>Polynomial Functions</a:t>
            </a:r>
            <a:endParaRPr b="1" lang="en-US" sz="4000" spc="-1" strike="noStrike">
              <a:solidFill>
                <a:srgbClr val="dddddd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Degree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degree of a function is the highest power of variables in a term of the fun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3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2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3x+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4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5x+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"/>
          <p:cNvSpPr/>
          <p:nvPr/>
        </p:nvSpPr>
        <p:spPr>
          <a:xfrm>
            <a:off x="1938240" y="2581200"/>
            <a:ext cx="2509920" cy="687600"/>
          </a:xfrm>
          <a:custGeom>
            <a:avLst/>
            <a:gdLst/>
            <a:ahLst/>
            <a:rect l="l" t="t" r="r" b="b"/>
            <a:pathLst>
              <a:path w="6971" h="1911">
                <a:moveTo>
                  <a:pt x="5457" y="7491"/>
                </a:moveTo>
                <a:cubicBezTo>
                  <a:pt x="5447" y="7530"/>
                  <a:pt x="5435" y="7546"/>
                  <a:pt x="5432" y="7590"/>
                </a:cubicBezTo>
                <a:cubicBezTo>
                  <a:pt x="5428" y="7654"/>
                  <a:pt x="5410" y="7702"/>
                  <a:pt x="5407" y="7764"/>
                </a:cubicBezTo>
                <a:cubicBezTo>
                  <a:pt x="5403" y="7862"/>
                  <a:pt x="5422" y="7943"/>
                  <a:pt x="5432" y="8037"/>
                </a:cubicBezTo>
                <a:cubicBezTo>
                  <a:pt x="5457" y="8256"/>
                  <a:pt x="5428" y="8491"/>
                  <a:pt x="5407" y="8706"/>
                </a:cubicBezTo>
                <a:cubicBezTo>
                  <a:pt x="5395" y="8828"/>
                  <a:pt x="5407" y="8956"/>
                  <a:pt x="5407" y="9079"/>
                </a:cubicBezTo>
                <a:cubicBezTo>
                  <a:pt x="5443" y="9055"/>
                  <a:pt x="5432" y="9011"/>
                  <a:pt x="5432" y="8954"/>
                </a:cubicBezTo>
                <a:cubicBezTo>
                  <a:pt x="5432" y="8822"/>
                  <a:pt x="5432" y="8690"/>
                  <a:pt x="5432" y="8558"/>
                </a:cubicBezTo>
              </a:path>
              <a:path w="6971" h="1911">
                <a:moveTo>
                  <a:pt x="5432" y="8210"/>
                </a:moveTo>
                <a:cubicBezTo>
                  <a:pt x="5432" y="7963"/>
                  <a:pt x="5402" y="7682"/>
                  <a:pt x="5457" y="7441"/>
                </a:cubicBezTo>
                <a:cubicBezTo>
                  <a:pt x="5471" y="7379"/>
                  <a:pt x="5472" y="7320"/>
                  <a:pt x="5507" y="7268"/>
                </a:cubicBezTo>
                <a:cubicBezTo>
                  <a:pt x="5546" y="7210"/>
                  <a:pt x="5576" y="7212"/>
                  <a:pt x="5631" y="7193"/>
                </a:cubicBezTo>
                <a:cubicBezTo>
                  <a:pt x="5702" y="7169"/>
                  <a:pt x="5753" y="7171"/>
                  <a:pt x="5829" y="7169"/>
                </a:cubicBezTo>
                <a:cubicBezTo>
                  <a:pt x="6464" y="7156"/>
                  <a:pt x="7108" y="7153"/>
                  <a:pt x="7739" y="7193"/>
                </a:cubicBezTo>
                <a:cubicBezTo>
                  <a:pt x="7969" y="7207"/>
                  <a:pt x="8204" y="7193"/>
                  <a:pt x="8434" y="7193"/>
                </a:cubicBezTo>
                <a:cubicBezTo>
                  <a:pt x="8432" y="7211"/>
                  <a:pt x="8409" y="7290"/>
                  <a:pt x="8409" y="7293"/>
                </a:cubicBezTo>
                <a:cubicBezTo>
                  <a:pt x="8413" y="7352"/>
                  <a:pt x="8423" y="7407"/>
                  <a:pt x="8434" y="7466"/>
                </a:cubicBezTo>
                <a:cubicBezTo>
                  <a:pt x="8451" y="7560"/>
                  <a:pt x="8463" y="7669"/>
                  <a:pt x="8483" y="7764"/>
                </a:cubicBezTo>
                <a:cubicBezTo>
                  <a:pt x="8504" y="7863"/>
                  <a:pt x="8513" y="7964"/>
                  <a:pt x="8533" y="8062"/>
                </a:cubicBezTo>
                <a:cubicBezTo>
                  <a:pt x="8556" y="8174"/>
                  <a:pt x="8555" y="8270"/>
                  <a:pt x="8558" y="8384"/>
                </a:cubicBezTo>
                <a:cubicBezTo>
                  <a:pt x="8560" y="8479"/>
                  <a:pt x="8565" y="8589"/>
                  <a:pt x="8582" y="8682"/>
                </a:cubicBezTo>
                <a:cubicBezTo>
                  <a:pt x="8601" y="8788"/>
                  <a:pt x="8610" y="8830"/>
                  <a:pt x="8582" y="8930"/>
                </a:cubicBezTo>
                <a:cubicBezTo>
                  <a:pt x="8565" y="8990"/>
                  <a:pt x="8561" y="9007"/>
                  <a:pt x="8508" y="9029"/>
                </a:cubicBezTo>
                <a:cubicBezTo>
                  <a:pt x="8081" y="9201"/>
                  <a:pt x="7296" y="8999"/>
                  <a:pt x="6871" y="8954"/>
                </a:cubicBezTo>
                <a:cubicBezTo>
                  <a:pt x="6629" y="8928"/>
                  <a:pt x="6371" y="8945"/>
                  <a:pt x="6127" y="8930"/>
                </a:cubicBezTo>
                <a:cubicBezTo>
                  <a:pt x="5901" y="8916"/>
                  <a:pt x="5593" y="8928"/>
                  <a:pt x="5407" y="8954"/>
                </a:cubicBezTo>
                <a:cubicBezTo>
                  <a:pt x="5399" y="8954"/>
                  <a:pt x="5391" y="8954"/>
                  <a:pt x="5383" y="8954"/>
                </a:cubicBezTo>
              </a:path>
              <a:path w="6971" h="1911">
                <a:moveTo>
                  <a:pt x="10666" y="8062"/>
                </a:moveTo>
                <a:cubicBezTo>
                  <a:pt x="10666" y="8258"/>
                  <a:pt x="10670" y="8442"/>
                  <a:pt x="10691" y="8632"/>
                </a:cubicBezTo>
                <a:cubicBezTo>
                  <a:pt x="10700" y="8717"/>
                  <a:pt x="10705" y="8797"/>
                  <a:pt x="10716" y="8880"/>
                </a:cubicBezTo>
                <a:cubicBezTo>
                  <a:pt x="10716" y="8921"/>
                  <a:pt x="10707" y="8938"/>
                  <a:pt x="10740" y="8930"/>
                </a:cubicBezTo>
                <a:cubicBezTo>
                  <a:pt x="10734" y="8875"/>
                  <a:pt x="10735" y="8833"/>
                  <a:pt x="10716" y="8781"/>
                </a:cubicBezTo>
                <a:cubicBezTo>
                  <a:pt x="10690" y="8710"/>
                  <a:pt x="10688" y="8623"/>
                  <a:pt x="10641" y="8558"/>
                </a:cubicBezTo>
                <a:cubicBezTo>
                  <a:pt x="10599" y="8501"/>
                  <a:pt x="10543" y="8404"/>
                  <a:pt x="10492" y="8359"/>
                </a:cubicBezTo>
                <a:cubicBezTo>
                  <a:pt x="10450" y="8322"/>
                  <a:pt x="10353" y="8255"/>
                  <a:pt x="10294" y="8260"/>
                </a:cubicBezTo>
                <a:cubicBezTo>
                  <a:pt x="10241" y="8265"/>
                  <a:pt x="10165" y="8303"/>
                  <a:pt x="10120" y="8334"/>
                </a:cubicBezTo>
                <a:cubicBezTo>
                  <a:pt x="10053" y="8380"/>
                  <a:pt x="10001" y="8481"/>
                  <a:pt x="9971" y="8558"/>
                </a:cubicBezTo>
                <a:cubicBezTo>
                  <a:pt x="9941" y="8636"/>
                  <a:pt x="9901" y="8720"/>
                  <a:pt x="9922" y="8806"/>
                </a:cubicBezTo>
                <a:cubicBezTo>
                  <a:pt x="9934" y="8858"/>
                  <a:pt x="9997" y="8940"/>
                  <a:pt x="10046" y="8954"/>
                </a:cubicBezTo>
                <a:cubicBezTo>
                  <a:pt x="10124" y="8976"/>
                  <a:pt x="10214" y="8998"/>
                  <a:pt x="10294" y="9004"/>
                </a:cubicBezTo>
                <a:cubicBezTo>
                  <a:pt x="10369" y="9010"/>
                  <a:pt x="10499" y="8967"/>
                  <a:pt x="10567" y="8930"/>
                </a:cubicBezTo>
                <a:cubicBezTo>
                  <a:pt x="10592" y="8913"/>
                  <a:pt x="10616" y="8897"/>
                  <a:pt x="10641" y="8880"/>
                </a:cubicBezTo>
              </a:path>
              <a:path w="6971" h="1911">
                <a:moveTo>
                  <a:pt x="11137" y="8260"/>
                </a:moveTo>
                <a:cubicBezTo>
                  <a:pt x="11185" y="8260"/>
                  <a:pt x="11162" y="8277"/>
                  <a:pt x="11137" y="8285"/>
                </a:cubicBezTo>
              </a:path>
              <a:path w="6971" h="1911">
                <a:moveTo>
                  <a:pt x="11137" y="8558"/>
                </a:moveTo>
                <a:cubicBezTo>
                  <a:pt x="11145" y="8550"/>
                  <a:pt x="11154" y="8541"/>
                  <a:pt x="11162" y="8533"/>
                </a:cubicBezTo>
              </a:path>
              <a:path w="6971" h="1911">
                <a:moveTo>
                  <a:pt x="11857" y="7838"/>
                </a:moveTo>
                <a:cubicBezTo>
                  <a:pt x="11840" y="7877"/>
                  <a:pt x="11825" y="7917"/>
                  <a:pt x="11807" y="7962"/>
                </a:cubicBezTo>
                <a:cubicBezTo>
                  <a:pt x="11774" y="8046"/>
                  <a:pt x="11721" y="8145"/>
                  <a:pt x="11708" y="8235"/>
                </a:cubicBezTo>
                <a:cubicBezTo>
                  <a:pt x="11687" y="8380"/>
                  <a:pt x="11682" y="8539"/>
                  <a:pt x="11708" y="8682"/>
                </a:cubicBezTo>
                <a:cubicBezTo>
                  <a:pt x="11727" y="8787"/>
                  <a:pt x="11805" y="8809"/>
                  <a:pt x="11881" y="8855"/>
                </a:cubicBezTo>
                <a:cubicBezTo>
                  <a:pt x="11938" y="8890"/>
                  <a:pt x="12063" y="8896"/>
                  <a:pt x="12129" y="8880"/>
                </a:cubicBezTo>
                <a:cubicBezTo>
                  <a:pt x="12201" y="8863"/>
                  <a:pt x="12275" y="8802"/>
                  <a:pt x="12328" y="8756"/>
                </a:cubicBezTo>
                <a:cubicBezTo>
                  <a:pt x="12375" y="8715"/>
                  <a:pt x="12355" y="8654"/>
                  <a:pt x="12328" y="8607"/>
                </a:cubicBezTo>
                <a:cubicBezTo>
                  <a:pt x="12294" y="8548"/>
                  <a:pt x="12214" y="8544"/>
                  <a:pt x="12154" y="8558"/>
                </a:cubicBezTo>
                <a:cubicBezTo>
                  <a:pt x="12077" y="8576"/>
                  <a:pt x="12009" y="8678"/>
                  <a:pt x="11956" y="8731"/>
                </a:cubicBezTo>
                <a:cubicBezTo>
                  <a:pt x="11883" y="8804"/>
                  <a:pt x="11856" y="8866"/>
                  <a:pt x="11807" y="8954"/>
                </a:cubicBezTo>
                <a:cubicBezTo>
                  <a:pt x="11790" y="8979"/>
                  <a:pt x="11774" y="9004"/>
                  <a:pt x="11757" y="90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66920" y="4259160"/>
            <a:ext cx="892080" cy="384120"/>
          </a:xfrm>
          <a:custGeom>
            <a:avLst/>
            <a:gdLst/>
            <a:ahLst/>
            <a:rect l="l" t="t" r="r" b="b"/>
            <a:pathLst>
              <a:path w="2482" h="1067">
                <a:moveTo>
                  <a:pt x="4490" y="11832"/>
                </a:moveTo>
                <a:cubicBezTo>
                  <a:pt x="4490" y="11960"/>
                  <a:pt x="4470" y="12078"/>
                  <a:pt x="4465" y="12204"/>
                </a:cubicBezTo>
                <a:cubicBezTo>
                  <a:pt x="4461" y="12301"/>
                  <a:pt x="4485" y="12383"/>
                  <a:pt x="4490" y="12477"/>
                </a:cubicBezTo>
                <a:cubicBezTo>
                  <a:pt x="4493" y="12527"/>
                  <a:pt x="4472" y="12553"/>
                  <a:pt x="4465" y="12601"/>
                </a:cubicBezTo>
                <a:cubicBezTo>
                  <a:pt x="4464" y="12608"/>
                  <a:pt x="4469" y="12586"/>
                  <a:pt x="4465" y="12526"/>
                </a:cubicBezTo>
                <a:cubicBezTo>
                  <a:pt x="4460" y="12450"/>
                  <a:pt x="4423" y="12396"/>
                  <a:pt x="4390" y="12328"/>
                </a:cubicBezTo>
                <a:cubicBezTo>
                  <a:pt x="4350" y="12246"/>
                  <a:pt x="4307" y="12194"/>
                  <a:pt x="4242" y="12129"/>
                </a:cubicBezTo>
                <a:cubicBezTo>
                  <a:pt x="4194" y="12081"/>
                  <a:pt x="4134" y="12058"/>
                  <a:pt x="4068" y="12055"/>
                </a:cubicBezTo>
                <a:cubicBezTo>
                  <a:pt x="4002" y="12052"/>
                  <a:pt x="3912" y="12070"/>
                  <a:pt x="3870" y="12129"/>
                </a:cubicBezTo>
                <a:cubicBezTo>
                  <a:pt x="3830" y="12185"/>
                  <a:pt x="3799" y="12234"/>
                  <a:pt x="3795" y="12303"/>
                </a:cubicBezTo>
                <a:cubicBezTo>
                  <a:pt x="3791" y="12377"/>
                  <a:pt x="3826" y="12466"/>
                  <a:pt x="3870" y="12526"/>
                </a:cubicBezTo>
                <a:cubicBezTo>
                  <a:pt x="3973" y="12667"/>
                  <a:pt x="4058" y="12721"/>
                  <a:pt x="4217" y="12774"/>
                </a:cubicBezTo>
                <a:cubicBezTo>
                  <a:pt x="4329" y="12811"/>
                  <a:pt x="4398" y="12841"/>
                  <a:pt x="4514" y="12799"/>
                </a:cubicBezTo>
                <a:cubicBezTo>
                  <a:pt x="4531" y="12791"/>
                  <a:pt x="4547" y="12782"/>
                  <a:pt x="4564" y="12774"/>
                </a:cubicBezTo>
              </a:path>
              <a:path w="2482" h="1067">
                <a:moveTo>
                  <a:pt x="4862" y="12105"/>
                </a:moveTo>
                <a:cubicBezTo>
                  <a:pt x="4887" y="12129"/>
                  <a:pt x="4895" y="12137"/>
                  <a:pt x="4862" y="12154"/>
                </a:cubicBezTo>
              </a:path>
              <a:path w="2482" h="1067">
                <a:moveTo>
                  <a:pt x="4862" y="12502"/>
                </a:moveTo>
                <a:cubicBezTo>
                  <a:pt x="4878" y="12510"/>
                  <a:pt x="4895" y="12518"/>
                  <a:pt x="4911" y="12526"/>
                </a:cubicBezTo>
              </a:path>
              <a:path w="2482" h="1067">
                <a:moveTo>
                  <a:pt x="5333" y="11931"/>
                </a:moveTo>
                <a:cubicBezTo>
                  <a:pt x="5453" y="11880"/>
                  <a:pt x="5558" y="11812"/>
                  <a:pt x="5680" y="11906"/>
                </a:cubicBezTo>
                <a:cubicBezTo>
                  <a:pt x="5852" y="12039"/>
                  <a:pt x="5834" y="12232"/>
                  <a:pt x="5829" y="12427"/>
                </a:cubicBezTo>
                <a:cubicBezTo>
                  <a:pt x="5826" y="12534"/>
                  <a:pt x="5797" y="12627"/>
                  <a:pt x="5755" y="12725"/>
                </a:cubicBezTo>
                <a:cubicBezTo>
                  <a:pt x="5732" y="12778"/>
                  <a:pt x="5695" y="12809"/>
                  <a:pt x="5655" y="12849"/>
                </a:cubicBezTo>
                <a:cubicBezTo>
                  <a:pt x="5616" y="12808"/>
                  <a:pt x="5594" y="12787"/>
                  <a:pt x="5606" y="12725"/>
                </a:cubicBezTo>
                <a:cubicBezTo>
                  <a:pt x="5615" y="12683"/>
                  <a:pt x="5630" y="12637"/>
                  <a:pt x="5680" y="12626"/>
                </a:cubicBezTo>
                <a:cubicBezTo>
                  <a:pt x="5752" y="12610"/>
                  <a:pt x="5840" y="12649"/>
                  <a:pt x="5904" y="12675"/>
                </a:cubicBezTo>
                <a:cubicBezTo>
                  <a:pt x="6004" y="12716"/>
                  <a:pt x="6080" y="12802"/>
                  <a:pt x="6176" y="12849"/>
                </a:cubicBezTo>
                <a:cubicBezTo>
                  <a:pt x="6237" y="12869"/>
                  <a:pt x="6251" y="12867"/>
                  <a:pt x="6276" y="128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31920" y="5670720"/>
            <a:ext cx="679320" cy="500040"/>
          </a:xfrm>
          <a:custGeom>
            <a:avLst/>
            <a:gdLst/>
            <a:ahLst/>
            <a:rect l="l" t="t" r="r" b="b"/>
            <a:pathLst>
              <a:path w="1886" h="1390">
                <a:moveTo>
                  <a:pt x="4093" y="15751"/>
                </a:moveTo>
                <a:cubicBezTo>
                  <a:pt x="4081" y="15910"/>
                  <a:pt x="4031" y="16064"/>
                  <a:pt x="4018" y="16222"/>
                </a:cubicBezTo>
                <a:cubicBezTo>
                  <a:pt x="4007" y="16348"/>
                  <a:pt x="4016" y="16480"/>
                  <a:pt x="3994" y="16594"/>
                </a:cubicBezTo>
                <a:cubicBezTo>
                  <a:pt x="3984" y="16645"/>
                  <a:pt x="3990" y="16617"/>
                  <a:pt x="3969" y="16644"/>
                </a:cubicBezTo>
                <a:cubicBezTo>
                  <a:pt x="3951" y="16614"/>
                  <a:pt x="3942" y="16589"/>
                  <a:pt x="3919" y="16545"/>
                </a:cubicBezTo>
                <a:cubicBezTo>
                  <a:pt x="3895" y="16500"/>
                  <a:pt x="3856" y="16404"/>
                  <a:pt x="3820" y="16371"/>
                </a:cubicBezTo>
                <a:cubicBezTo>
                  <a:pt x="3768" y="16323"/>
                  <a:pt x="3730" y="16240"/>
                  <a:pt x="3671" y="16197"/>
                </a:cubicBezTo>
                <a:cubicBezTo>
                  <a:pt x="3616" y="16157"/>
                  <a:pt x="3546" y="16105"/>
                  <a:pt x="3473" y="16123"/>
                </a:cubicBezTo>
                <a:cubicBezTo>
                  <a:pt x="3408" y="16139"/>
                  <a:pt x="3425" y="16230"/>
                  <a:pt x="3423" y="16272"/>
                </a:cubicBezTo>
                <a:cubicBezTo>
                  <a:pt x="3418" y="16370"/>
                  <a:pt x="3497" y="16464"/>
                  <a:pt x="3547" y="16545"/>
                </a:cubicBezTo>
                <a:cubicBezTo>
                  <a:pt x="3599" y="16629"/>
                  <a:pt x="3660" y="16695"/>
                  <a:pt x="3746" y="16743"/>
                </a:cubicBezTo>
                <a:cubicBezTo>
                  <a:pt x="3830" y="16790"/>
                  <a:pt x="3908" y="16767"/>
                  <a:pt x="3994" y="16743"/>
                </a:cubicBezTo>
              </a:path>
              <a:path w="1886" h="1390">
                <a:moveTo>
                  <a:pt x="4366" y="16297"/>
                </a:moveTo>
                <a:cubicBezTo>
                  <a:pt x="4440" y="16297"/>
                  <a:pt x="4515" y="16297"/>
                  <a:pt x="4589" y="16297"/>
                </a:cubicBezTo>
              </a:path>
              <a:path w="1886" h="1390">
                <a:moveTo>
                  <a:pt x="4366" y="16520"/>
                </a:moveTo>
                <a:cubicBezTo>
                  <a:pt x="4488" y="16557"/>
                  <a:pt x="4507" y="16570"/>
                  <a:pt x="4614" y="16570"/>
                </a:cubicBezTo>
              </a:path>
              <a:path w="1886" h="1390">
                <a:moveTo>
                  <a:pt x="4887" y="15999"/>
                </a:moveTo>
                <a:cubicBezTo>
                  <a:pt x="4964" y="15945"/>
                  <a:pt x="5049" y="15857"/>
                  <a:pt x="5159" y="15900"/>
                </a:cubicBezTo>
                <a:cubicBezTo>
                  <a:pt x="5209" y="15920"/>
                  <a:pt x="5237" y="15961"/>
                  <a:pt x="5259" y="15999"/>
                </a:cubicBezTo>
                <a:cubicBezTo>
                  <a:pt x="5296" y="16064"/>
                  <a:pt x="5277" y="16090"/>
                  <a:pt x="5234" y="16148"/>
                </a:cubicBezTo>
                <a:cubicBezTo>
                  <a:pt x="5197" y="16197"/>
                  <a:pt x="5148" y="16226"/>
                  <a:pt x="5110" y="16272"/>
                </a:cubicBezTo>
                <a:cubicBezTo>
                  <a:pt x="5089" y="16297"/>
                  <a:pt x="5048" y="16311"/>
                  <a:pt x="5035" y="16321"/>
                </a:cubicBezTo>
                <a:cubicBezTo>
                  <a:pt x="5095" y="16321"/>
                  <a:pt x="5134" y="16319"/>
                  <a:pt x="5184" y="16346"/>
                </a:cubicBezTo>
                <a:cubicBezTo>
                  <a:pt x="5239" y="16375"/>
                  <a:pt x="5251" y="16406"/>
                  <a:pt x="5283" y="16470"/>
                </a:cubicBezTo>
                <a:cubicBezTo>
                  <a:pt x="5323" y="16550"/>
                  <a:pt x="5324" y="16680"/>
                  <a:pt x="5308" y="16768"/>
                </a:cubicBezTo>
                <a:cubicBezTo>
                  <a:pt x="5292" y="16858"/>
                  <a:pt x="5234" y="16983"/>
                  <a:pt x="5159" y="17041"/>
                </a:cubicBezTo>
                <a:cubicBezTo>
                  <a:pt x="5082" y="17101"/>
                  <a:pt x="4995" y="17141"/>
                  <a:pt x="4911" y="17115"/>
                </a:cubicBezTo>
                <a:cubicBezTo>
                  <a:pt x="4811" y="17084"/>
                  <a:pt x="4812" y="17053"/>
                  <a:pt x="4762" y="16966"/>
                </a:cubicBezTo>
                <a:cubicBezTo>
                  <a:pt x="4746" y="16941"/>
                  <a:pt x="4729" y="16917"/>
                  <a:pt x="4713" y="168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Leading Coefficient (LC) Tes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leading coefficient determines what the graph does on the right (positive it rises, negative it fall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 degree is odd, the graph goes in opposite directions on the left and r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 degree is even, the graph does the same thing on the left and r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Describe the graph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-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4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-x + 5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5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4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3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"/>
          <p:cNvSpPr/>
          <p:nvPr/>
        </p:nvSpPr>
        <p:spPr>
          <a:xfrm>
            <a:off x="3724200" y="1660680"/>
            <a:ext cx="901800" cy="581040"/>
          </a:xfrm>
          <a:custGeom>
            <a:avLst/>
            <a:gdLst/>
            <a:ahLst/>
            <a:rect l="l" t="t" r="r" b="b"/>
            <a:pathLst>
              <a:path w="2506" h="1613">
                <a:moveTo>
                  <a:pt x="10368" y="5283"/>
                </a:moveTo>
                <a:cubicBezTo>
                  <a:pt x="10368" y="5382"/>
                  <a:pt x="10368" y="5482"/>
                  <a:pt x="10368" y="5581"/>
                </a:cubicBezTo>
                <a:cubicBezTo>
                  <a:pt x="10368" y="5532"/>
                  <a:pt x="10357" y="5522"/>
                  <a:pt x="10344" y="5482"/>
                </a:cubicBezTo>
                <a:cubicBezTo>
                  <a:pt x="10324" y="5421"/>
                  <a:pt x="10359" y="5356"/>
                  <a:pt x="10368" y="5308"/>
                </a:cubicBezTo>
                <a:cubicBezTo>
                  <a:pt x="10377" y="5263"/>
                  <a:pt x="10378" y="5189"/>
                  <a:pt x="10418" y="5159"/>
                </a:cubicBezTo>
                <a:cubicBezTo>
                  <a:pt x="10463" y="5125"/>
                  <a:pt x="10516" y="5087"/>
                  <a:pt x="10567" y="5060"/>
                </a:cubicBezTo>
                <a:cubicBezTo>
                  <a:pt x="10612" y="5036"/>
                  <a:pt x="10677" y="5010"/>
                  <a:pt x="10716" y="4986"/>
                </a:cubicBezTo>
                <a:cubicBezTo>
                  <a:pt x="10724" y="4978"/>
                  <a:pt x="10732" y="4969"/>
                  <a:pt x="10740" y="4961"/>
                </a:cubicBezTo>
              </a:path>
              <a:path w="2506" h="1613">
                <a:moveTo>
                  <a:pt x="10889" y="5110"/>
                </a:moveTo>
                <a:cubicBezTo>
                  <a:pt x="10889" y="5264"/>
                  <a:pt x="10910" y="5444"/>
                  <a:pt x="10864" y="5581"/>
                </a:cubicBezTo>
                <a:cubicBezTo>
                  <a:pt x="10846" y="5634"/>
                  <a:pt x="10864" y="5553"/>
                  <a:pt x="10864" y="5531"/>
                </a:cubicBezTo>
              </a:path>
              <a:path w="2506" h="1613">
                <a:moveTo>
                  <a:pt x="11410" y="5259"/>
                </a:moveTo>
                <a:cubicBezTo>
                  <a:pt x="11410" y="5193"/>
                  <a:pt x="11396" y="5140"/>
                  <a:pt x="11385" y="5085"/>
                </a:cubicBezTo>
                <a:cubicBezTo>
                  <a:pt x="11384" y="5081"/>
                  <a:pt x="11357" y="4940"/>
                  <a:pt x="11311" y="4986"/>
                </a:cubicBezTo>
                <a:cubicBezTo>
                  <a:pt x="11290" y="5007"/>
                  <a:pt x="11265" y="5047"/>
                  <a:pt x="11237" y="5085"/>
                </a:cubicBezTo>
                <a:cubicBezTo>
                  <a:pt x="11200" y="5135"/>
                  <a:pt x="11190" y="5197"/>
                  <a:pt x="11162" y="5259"/>
                </a:cubicBezTo>
                <a:cubicBezTo>
                  <a:pt x="11139" y="5310"/>
                  <a:pt x="11121" y="5374"/>
                  <a:pt x="11137" y="5432"/>
                </a:cubicBezTo>
                <a:cubicBezTo>
                  <a:pt x="11149" y="5474"/>
                  <a:pt x="11163" y="5500"/>
                  <a:pt x="11187" y="5531"/>
                </a:cubicBezTo>
                <a:cubicBezTo>
                  <a:pt x="11223" y="5531"/>
                  <a:pt x="11260" y="5525"/>
                  <a:pt x="11286" y="5507"/>
                </a:cubicBezTo>
                <a:cubicBezTo>
                  <a:pt x="11351" y="5464"/>
                  <a:pt x="11335" y="5366"/>
                  <a:pt x="11361" y="5308"/>
                </a:cubicBezTo>
                <a:cubicBezTo>
                  <a:pt x="11385" y="5253"/>
                  <a:pt x="11377" y="5279"/>
                  <a:pt x="11385" y="5209"/>
                </a:cubicBezTo>
                <a:cubicBezTo>
                  <a:pt x="11385" y="5128"/>
                  <a:pt x="11385" y="5305"/>
                  <a:pt x="11385" y="5308"/>
                </a:cubicBezTo>
                <a:cubicBezTo>
                  <a:pt x="11385" y="5390"/>
                  <a:pt x="11406" y="5451"/>
                  <a:pt x="11410" y="5531"/>
                </a:cubicBezTo>
                <a:cubicBezTo>
                  <a:pt x="11414" y="5612"/>
                  <a:pt x="11440" y="5731"/>
                  <a:pt x="11435" y="5804"/>
                </a:cubicBezTo>
                <a:cubicBezTo>
                  <a:pt x="11429" y="5886"/>
                  <a:pt x="11416" y="6002"/>
                  <a:pt x="11385" y="6077"/>
                </a:cubicBezTo>
                <a:cubicBezTo>
                  <a:pt x="11362" y="6134"/>
                  <a:pt x="11325" y="6209"/>
                  <a:pt x="11261" y="6226"/>
                </a:cubicBezTo>
                <a:cubicBezTo>
                  <a:pt x="11208" y="6240"/>
                  <a:pt x="11127" y="6232"/>
                  <a:pt x="11088" y="6201"/>
                </a:cubicBezTo>
                <a:cubicBezTo>
                  <a:pt x="11063" y="6176"/>
                  <a:pt x="11055" y="6168"/>
                  <a:pt x="11038" y="6152"/>
                </a:cubicBezTo>
              </a:path>
              <a:path w="2506" h="1613">
                <a:moveTo>
                  <a:pt x="11584" y="4614"/>
                </a:moveTo>
                <a:cubicBezTo>
                  <a:pt x="11607" y="4719"/>
                  <a:pt x="11609" y="4804"/>
                  <a:pt x="11609" y="4911"/>
                </a:cubicBezTo>
                <a:cubicBezTo>
                  <a:pt x="11609" y="5093"/>
                  <a:pt x="11585" y="5315"/>
                  <a:pt x="11633" y="5482"/>
                </a:cubicBezTo>
                <a:cubicBezTo>
                  <a:pt x="11635" y="5488"/>
                  <a:pt x="11633" y="5573"/>
                  <a:pt x="11633" y="5507"/>
                </a:cubicBezTo>
                <a:cubicBezTo>
                  <a:pt x="11659" y="5445"/>
                  <a:pt x="11640" y="5417"/>
                  <a:pt x="11658" y="5358"/>
                </a:cubicBezTo>
                <a:cubicBezTo>
                  <a:pt x="11675" y="5301"/>
                  <a:pt x="11698" y="5242"/>
                  <a:pt x="11708" y="5184"/>
                </a:cubicBezTo>
                <a:cubicBezTo>
                  <a:pt x="11719" y="5118"/>
                  <a:pt x="11746" y="5094"/>
                  <a:pt x="11782" y="5035"/>
                </a:cubicBezTo>
                <a:cubicBezTo>
                  <a:pt x="11817" y="4976"/>
                  <a:pt x="11809" y="4997"/>
                  <a:pt x="11857" y="4961"/>
                </a:cubicBezTo>
                <a:cubicBezTo>
                  <a:pt x="11900" y="5017"/>
                  <a:pt x="11906" y="5041"/>
                  <a:pt x="11906" y="5110"/>
                </a:cubicBezTo>
                <a:cubicBezTo>
                  <a:pt x="11906" y="5237"/>
                  <a:pt x="11897" y="5370"/>
                  <a:pt x="11931" y="5482"/>
                </a:cubicBezTo>
                <a:cubicBezTo>
                  <a:pt x="11940" y="5511"/>
                  <a:pt x="11960" y="5555"/>
                  <a:pt x="12005" y="5531"/>
                </a:cubicBezTo>
                <a:cubicBezTo>
                  <a:pt x="12013" y="5523"/>
                  <a:pt x="12022" y="5515"/>
                  <a:pt x="12030" y="5507"/>
                </a:cubicBezTo>
              </a:path>
              <a:path w="2506" h="1613">
                <a:moveTo>
                  <a:pt x="12328" y="4762"/>
                </a:moveTo>
                <a:cubicBezTo>
                  <a:pt x="12308" y="4870"/>
                  <a:pt x="12303" y="4951"/>
                  <a:pt x="12303" y="5060"/>
                </a:cubicBezTo>
                <a:cubicBezTo>
                  <a:pt x="12303" y="5190"/>
                  <a:pt x="12300" y="5310"/>
                  <a:pt x="12328" y="5432"/>
                </a:cubicBezTo>
                <a:cubicBezTo>
                  <a:pt x="12330" y="5442"/>
                  <a:pt x="12328" y="5550"/>
                  <a:pt x="12328" y="5482"/>
                </a:cubicBezTo>
              </a:path>
              <a:path w="2506" h="1613">
                <a:moveTo>
                  <a:pt x="12080" y="5035"/>
                </a:moveTo>
                <a:cubicBezTo>
                  <a:pt x="12139" y="5024"/>
                  <a:pt x="12221" y="5006"/>
                  <a:pt x="12278" y="4986"/>
                </a:cubicBezTo>
                <a:cubicBezTo>
                  <a:pt x="12339" y="4965"/>
                  <a:pt x="12391" y="4956"/>
                  <a:pt x="12452" y="4936"/>
                </a:cubicBezTo>
              </a:path>
              <a:path w="2506" h="1613">
                <a:moveTo>
                  <a:pt x="12849" y="4762"/>
                </a:moveTo>
                <a:lnTo>
                  <a:pt x="12849" y="4762"/>
                </a:lnTo>
              </a:path>
              <a:path w="2506" h="1613">
                <a:moveTo>
                  <a:pt x="12774" y="5184"/>
                </a:moveTo>
                <a:cubicBezTo>
                  <a:pt x="12782" y="5192"/>
                  <a:pt x="12791" y="5201"/>
                  <a:pt x="12799" y="52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86200" y="1517760"/>
            <a:ext cx="642960" cy="428400"/>
          </a:xfrm>
          <a:custGeom>
            <a:avLst/>
            <a:gdLst/>
            <a:ahLst/>
            <a:rect l="l" t="t" r="r" b="b"/>
            <a:pathLst>
              <a:path w="1787" h="1191">
                <a:moveTo>
                  <a:pt x="13816" y="4415"/>
                </a:moveTo>
                <a:cubicBezTo>
                  <a:pt x="13816" y="4454"/>
                  <a:pt x="13822" y="4551"/>
                  <a:pt x="13791" y="4490"/>
                </a:cubicBezTo>
                <a:cubicBezTo>
                  <a:pt x="13770" y="4448"/>
                  <a:pt x="13782" y="4410"/>
                  <a:pt x="13742" y="4366"/>
                </a:cubicBezTo>
                <a:cubicBezTo>
                  <a:pt x="13711" y="4332"/>
                  <a:pt x="13703" y="4302"/>
                  <a:pt x="13667" y="4266"/>
                </a:cubicBezTo>
                <a:cubicBezTo>
                  <a:pt x="13644" y="4243"/>
                  <a:pt x="13609" y="4194"/>
                  <a:pt x="13568" y="4217"/>
                </a:cubicBezTo>
                <a:cubicBezTo>
                  <a:pt x="13502" y="4253"/>
                  <a:pt x="13487" y="4330"/>
                  <a:pt x="13469" y="4390"/>
                </a:cubicBezTo>
                <a:cubicBezTo>
                  <a:pt x="13436" y="4504"/>
                  <a:pt x="13465" y="4574"/>
                  <a:pt x="13469" y="4688"/>
                </a:cubicBezTo>
                <a:cubicBezTo>
                  <a:pt x="13473" y="4803"/>
                  <a:pt x="13454" y="4902"/>
                  <a:pt x="13444" y="5011"/>
                </a:cubicBezTo>
                <a:cubicBezTo>
                  <a:pt x="13431" y="5150"/>
                  <a:pt x="13444" y="5523"/>
                  <a:pt x="13444" y="5383"/>
                </a:cubicBezTo>
              </a:path>
              <a:path w="1787" h="1191">
                <a:moveTo>
                  <a:pt x="13295" y="5035"/>
                </a:moveTo>
                <a:cubicBezTo>
                  <a:pt x="13337" y="5005"/>
                  <a:pt x="13364" y="5011"/>
                  <a:pt x="13419" y="5011"/>
                </a:cubicBezTo>
                <a:cubicBezTo>
                  <a:pt x="13436" y="5011"/>
                  <a:pt x="13452" y="5011"/>
                  <a:pt x="13469" y="5011"/>
                </a:cubicBezTo>
              </a:path>
              <a:path w="1787" h="1191">
                <a:moveTo>
                  <a:pt x="13965" y="5135"/>
                </a:moveTo>
                <a:cubicBezTo>
                  <a:pt x="13973" y="5135"/>
                  <a:pt x="13982" y="5135"/>
                  <a:pt x="13990" y="5135"/>
                </a:cubicBezTo>
                <a:cubicBezTo>
                  <a:pt x="13980" y="5093"/>
                  <a:pt x="13961" y="5072"/>
                  <a:pt x="13940" y="5035"/>
                </a:cubicBezTo>
                <a:cubicBezTo>
                  <a:pt x="13918" y="4992"/>
                  <a:pt x="13914" y="4981"/>
                  <a:pt x="13891" y="4961"/>
                </a:cubicBezTo>
              </a:path>
              <a:path w="1787" h="1191">
                <a:moveTo>
                  <a:pt x="13692" y="4986"/>
                </a:moveTo>
                <a:cubicBezTo>
                  <a:pt x="13623" y="5145"/>
                  <a:pt x="13593" y="5160"/>
                  <a:pt x="13618" y="5283"/>
                </a:cubicBezTo>
                <a:cubicBezTo>
                  <a:pt x="13628" y="5333"/>
                  <a:pt x="13630" y="5351"/>
                  <a:pt x="13692" y="5358"/>
                </a:cubicBezTo>
                <a:cubicBezTo>
                  <a:pt x="13731" y="5362"/>
                  <a:pt x="13797" y="5286"/>
                  <a:pt x="13816" y="5259"/>
                </a:cubicBezTo>
                <a:cubicBezTo>
                  <a:pt x="13858" y="5200"/>
                  <a:pt x="13865" y="5144"/>
                  <a:pt x="13891" y="5085"/>
                </a:cubicBezTo>
                <a:cubicBezTo>
                  <a:pt x="13922" y="5016"/>
                  <a:pt x="13915" y="4992"/>
                  <a:pt x="13915" y="5085"/>
                </a:cubicBezTo>
                <a:cubicBezTo>
                  <a:pt x="13915" y="5123"/>
                  <a:pt x="13923" y="5226"/>
                  <a:pt x="13940" y="5259"/>
                </a:cubicBezTo>
                <a:cubicBezTo>
                  <a:pt x="13962" y="5302"/>
                  <a:pt x="13998" y="5308"/>
                  <a:pt x="14039" y="5308"/>
                </a:cubicBezTo>
                <a:cubicBezTo>
                  <a:pt x="14067" y="5308"/>
                  <a:pt x="14078" y="5306"/>
                  <a:pt x="14089" y="5283"/>
                </a:cubicBezTo>
              </a:path>
              <a:path w="1787" h="1191">
                <a:moveTo>
                  <a:pt x="14263" y="4366"/>
                </a:moveTo>
                <a:cubicBezTo>
                  <a:pt x="14295" y="4449"/>
                  <a:pt x="14288" y="4523"/>
                  <a:pt x="14288" y="4614"/>
                </a:cubicBezTo>
                <a:cubicBezTo>
                  <a:pt x="14288" y="4845"/>
                  <a:pt x="14240" y="5503"/>
                  <a:pt x="14312" y="5283"/>
                </a:cubicBezTo>
                <a:cubicBezTo>
                  <a:pt x="14312" y="5267"/>
                  <a:pt x="14312" y="5250"/>
                  <a:pt x="14312" y="5234"/>
                </a:cubicBezTo>
              </a:path>
              <a:path w="1787" h="1191">
                <a:moveTo>
                  <a:pt x="14610" y="4291"/>
                </a:moveTo>
                <a:cubicBezTo>
                  <a:pt x="14610" y="4572"/>
                  <a:pt x="14592" y="4864"/>
                  <a:pt x="14635" y="5135"/>
                </a:cubicBezTo>
                <a:cubicBezTo>
                  <a:pt x="14643" y="5188"/>
                  <a:pt x="14655" y="5237"/>
                  <a:pt x="14660" y="5283"/>
                </a:cubicBezTo>
                <a:cubicBezTo>
                  <a:pt x="14660" y="5291"/>
                  <a:pt x="14660" y="5300"/>
                  <a:pt x="14660" y="5308"/>
                </a:cubicBezTo>
              </a:path>
              <a:path w="1787" h="1191">
                <a:moveTo>
                  <a:pt x="15081" y="4812"/>
                </a:moveTo>
                <a:cubicBezTo>
                  <a:pt x="15013" y="4855"/>
                  <a:pt x="14959" y="4905"/>
                  <a:pt x="14883" y="4911"/>
                </a:cubicBezTo>
                <a:cubicBezTo>
                  <a:pt x="14855" y="4911"/>
                  <a:pt x="14844" y="4913"/>
                  <a:pt x="14833" y="4936"/>
                </a:cubicBezTo>
                <a:cubicBezTo>
                  <a:pt x="14844" y="4980"/>
                  <a:pt x="14874" y="5023"/>
                  <a:pt x="14908" y="5060"/>
                </a:cubicBezTo>
                <a:cubicBezTo>
                  <a:pt x="14953" y="5108"/>
                  <a:pt x="14999" y="5153"/>
                  <a:pt x="15032" y="5209"/>
                </a:cubicBezTo>
                <a:cubicBezTo>
                  <a:pt x="15056" y="5250"/>
                  <a:pt x="15054" y="5304"/>
                  <a:pt x="15007" y="5308"/>
                </a:cubicBezTo>
                <a:cubicBezTo>
                  <a:pt x="14957" y="5308"/>
                  <a:pt x="14941" y="5308"/>
                  <a:pt x="14908" y="5308"/>
                </a:cubicBezTo>
              </a:path>
              <a:path w="1787" h="1191">
                <a:moveTo>
                  <a:pt x="13841" y="4961"/>
                </a:moveTo>
                <a:cubicBezTo>
                  <a:pt x="13779" y="4908"/>
                  <a:pt x="13789" y="4911"/>
                  <a:pt x="13717" y="4911"/>
                </a:cubicBezTo>
                <a:cubicBezTo>
                  <a:pt x="13692" y="4911"/>
                  <a:pt x="13668" y="4911"/>
                  <a:pt x="13643" y="4911"/>
                </a:cubicBezTo>
                <a:cubicBezTo>
                  <a:pt x="13643" y="4936"/>
                  <a:pt x="13643" y="4944"/>
                  <a:pt x="13643" y="49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857920" y="1598760"/>
            <a:ext cx="687240" cy="339480"/>
          </a:xfrm>
          <a:custGeom>
            <a:avLst/>
            <a:gdLst/>
            <a:ahLst/>
            <a:rect l="l" t="t" r="r" b="b"/>
            <a:pathLst>
              <a:path w="1911" h="944">
                <a:moveTo>
                  <a:pt x="16272" y="4514"/>
                </a:moveTo>
                <a:cubicBezTo>
                  <a:pt x="16286" y="4685"/>
                  <a:pt x="16301" y="4844"/>
                  <a:pt x="16321" y="5011"/>
                </a:cubicBezTo>
                <a:cubicBezTo>
                  <a:pt x="16333" y="5114"/>
                  <a:pt x="16327" y="5206"/>
                  <a:pt x="16346" y="5308"/>
                </a:cubicBezTo>
                <a:cubicBezTo>
                  <a:pt x="16346" y="5336"/>
                  <a:pt x="16348" y="5347"/>
                  <a:pt x="16371" y="5358"/>
                </a:cubicBezTo>
              </a:path>
              <a:path w="1911" h="944">
                <a:moveTo>
                  <a:pt x="16545" y="5060"/>
                </a:moveTo>
                <a:cubicBezTo>
                  <a:pt x="16606" y="5046"/>
                  <a:pt x="16686" y="5034"/>
                  <a:pt x="16743" y="5011"/>
                </a:cubicBezTo>
                <a:cubicBezTo>
                  <a:pt x="16794" y="4991"/>
                  <a:pt x="16867" y="4915"/>
                  <a:pt x="16892" y="4887"/>
                </a:cubicBezTo>
                <a:cubicBezTo>
                  <a:pt x="16934" y="4840"/>
                  <a:pt x="16905" y="4838"/>
                  <a:pt x="16892" y="4787"/>
                </a:cubicBezTo>
                <a:cubicBezTo>
                  <a:pt x="16843" y="4818"/>
                  <a:pt x="16733" y="4866"/>
                  <a:pt x="16694" y="4911"/>
                </a:cubicBezTo>
                <a:cubicBezTo>
                  <a:pt x="16652" y="4960"/>
                  <a:pt x="16633" y="5051"/>
                  <a:pt x="16619" y="5110"/>
                </a:cubicBezTo>
                <a:cubicBezTo>
                  <a:pt x="16606" y="5166"/>
                  <a:pt x="16608" y="5267"/>
                  <a:pt x="16644" y="5308"/>
                </a:cubicBezTo>
                <a:cubicBezTo>
                  <a:pt x="16672" y="5339"/>
                  <a:pt x="16680" y="5333"/>
                  <a:pt x="16718" y="5333"/>
                </a:cubicBezTo>
              </a:path>
              <a:path w="1911" h="944">
                <a:moveTo>
                  <a:pt x="17363" y="4440"/>
                </a:moveTo>
                <a:cubicBezTo>
                  <a:pt x="17303" y="4446"/>
                  <a:pt x="17212" y="4460"/>
                  <a:pt x="17190" y="4539"/>
                </a:cubicBezTo>
                <a:cubicBezTo>
                  <a:pt x="17161" y="4640"/>
                  <a:pt x="17145" y="4782"/>
                  <a:pt x="17140" y="4887"/>
                </a:cubicBezTo>
                <a:cubicBezTo>
                  <a:pt x="17136" y="4977"/>
                  <a:pt x="17165" y="5066"/>
                  <a:pt x="17165" y="5159"/>
                </a:cubicBezTo>
                <a:cubicBezTo>
                  <a:pt x="17165" y="5234"/>
                  <a:pt x="17165" y="5308"/>
                  <a:pt x="17165" y="5383"/>
                </a:cubicBezTo>
              </a:path>
              <a:path w="1911" h="944">
                <a:moveTo>
                  <a:pt x="16991" y="5011"/>
                </a:moveTo>
                <a:cubicBezTo>
                  <a:pt x="17073" y="5011"/>
                  <a:pt x="17139" y="5019"/>
                  <a:pt x="17214" y="4986"/>
                </a:cubicBezTo>
                <a:cubicBezTo>
                  <a:pt x="17273" y="4959"/>
                  <a:pt x="17327" y="4957"/>
                  <a:pt x="17388" y="4936"/>
                </a:cubicBezTo>
              </a:path>
              <a:path w="1911" h="944">
                <a:moveTo>
                  <a:pt x="17686" y="4539"/>
                </a:moveTo>
                <a:cubicBezTo>
                  <a:pt x="17651" y="4635"/>
                  <a:pt x="17615" y="4709"/>
                  <a:pt x="17611" y="4812"/>
                </a:cubicBezTo>
                <a:cubicBezTo>
                  <a:pt x="17605" y="4966"/>
                  <a:pt x="17594" y="5146"/>
                  <a:pt x="17636" y="5283"/>
                </a:cubicBezTo>
                <a:cubicBezTo>
                  <a:pt x="17649" y="5327"/>
                  <a:pt x="17619" y="5307"/>
                  <a:pt x="17611" y="5283"/>
                </a:cubicBezTo>
              </a:path>
              <a:path w="1911" h="944">
                <a:moveTo>
                  <a:pt x="17438" y="4961"/>
                </a:moveTo>
                <a:cubicBezTo>
                  <a:pt x="17513" y="4961"/>
                  <a:pt x="17567" y="4948"/>
                  <a:pt x="17636" y="4936"/>
                </a:cubicBezTo>
                <a:cubicBezTo>
                  <a:pt x="17700" y="4925"/>
                  <a:pt x="17747" y="4932"/>
                  <a:pt x="17810" y="4911"/>
                </a:cubicBezTo>
              </a:path>
              <a:path w="1911" h="944">
                <a:moveTo>
                  <a:pt x="18182" y="4738"/>
                </a:moveTo>
                <a:cubicBezTo>
                  <a:pt x="18182" y="4746"/>
                  <a:pt x="18182" y="4754"/>
                  <a:pt x="18182" y="4762"/>
                </a:cubicBezTo>
              </a:path>
              <a:path w="1911" h="944">
                <a:moveTo>
                  <a:pt x="18033" y="5110"/>
                </a:moveTo>
                <a:cubicBezTo>
                  <a:pt x="18041" y="5102"/>
                  <a:pt x="18050" y="5093"/>
                  <a:pt x="18058" y="50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777000" y="1562040"/>
            <a:ext cx="662040" cy="287280"/>
          </a:xfrm>
          <a:custGeom>
            <a:avLst/>
            <a:gdLst/>
            <a:ahLst/>
            <a:rect l="l" t="t" r="r" b="b"/>
            <a:pathLst>
              <a:path w="1836" h="795">
                <a:moveTo>
                  <a:pt x="18876" y="4762"/>
                </a:moveTo>
                <a:cubicBezTo>
                  <a:pt x="18876" y="4886"/>
                  <a:pt x="18876" y="5011"/>
                  <a:pt x="18876" y="5135"/>
                </a:cubicBezTo>
                <a:cubicBezTo>
                  <a:pt x="18855" y="5128"/>
                  <a:pt x="18837" y="5091"/>
                  <a:pt x="18827" y="5060"/>
                </a:cubicBezTo>
                <a:cubicBezTo>
                  <a:pt x="18796" y="4966"/>
                  <a:pt x="18836" y="4838"/>
                  <a:pt x="18876" y="4762"/>
                </a:cubicBezTo>
                <a:cubicBezTo>
                  <a:pt x="18918" y="4682"/>
                  <a:pt x="18992" y="4625"/>
                  <a:pt x="19075" y="4589"/>
                </a:cubicBezTo>
                <a:cubicBezTo>
                  <a:pt x="19113" y="4573"/>
                  <a:pt x="19156" y="4564"/>
                  <a:pt x="19199" y="4564"/>
                </a:cubicBezTo>
                <a:cubicBezTo>
                  <a:pt x="19207" y="4564"/>
                  <a:pt x="19216" y="4564"/>
                  <a:pt x="19224" y="4564"/>
                </a:cubicBezTo>
              </a:path>
              <a:path w="1836" h="795">
                <a:moveTo>
                  <a:pt x="19422" y="4713"/>
                </a:moveTo>
                <a:cubicBezTo>
                  <a:pt x="19438" y="4805"/>
                  <a:pt x="19447" y="4871"/>
                  <a:pt x="19447" y="4961"/>
                </a:cubicBezTo>
                <a:cubicBezTo>
                  <a:pt x="19447" y="4994"/>
                  <a:pt x="19447" y="5161"/>
                  <a:pt x="19447" y="5110"/>
                </a:cubicBezTo>
                <a:cubicBezTo>
                  <a:pt x="19447" y="5093"/>
                  <a:pt x="19447" y="5077"/>
                  <a:pt x="19447" y="5060"/>
                </a:cubicBezTo>
              </a:path>
              <a:path w="1836" h="795">
                <a:moveTo>
                  <a:pt x="19397" y="4366"/>
                </a:moveTo>
                <a:cubicBezTo>
                  <a:pt x="19397" y="4358"/>
                  <a:pt x="19397" y="4349"/>
                  <a:pt x="19397" y="4341"/>
                </a:cubicBezTo>
              </a:path>
              <a:path w="1836" h="795">
                <a:moveTo>
                  <a:pt x="19968" y="4539"/>
                </a:moveTo>
                <a:cubicBezTo>
                  <a:pt x="19857" y="4572"/>
                  <a:pt x="19792" y="4607"/>
                  <a:pt x="19695" y="4638"/>
                </a:cubicBezTo>
                <a:cubicBezTo>
                  <a:pt x="19663" y="4648"/>
                  <a:pt x="19655" y="4672"/>
                  <a:pt x="19645" y="4713"/>
                </a:cubicBezTo>
                <a:cubicBezTo>
                  <a:pt x="19684" y="4742"/>
                  <a:pt x="19722" y="4762"/>
                  <a:pt x="19769" y="4787"/>
                </a:cubicBezTo>
                <a:cubicBezTo>
                  <a:pt x="19846" y="4828"/>
                  <a:pt x="19890" y="4847"/>
                  <a:pt x="19943" y="4911"/>
                </a:cubicBezTo>
                <a:cubicBezTo>
                  <a:pt x="19978" y="4953"/>
                  <a:pt x="19993" y="4955"/>
                  <a:pt x="19993" y="5011"/>
                </a:cubicBezTo>
                <a:cubicBezTo>
                  <a:pt x="19993" y="5045"/>
                  <a:pt x="19948" y="5078"/>
                  <a:pt x="19918" y="5085"/>
                </a:cubicBezTo>
                <a:cubicBezTo>
                  <a:pt x="19875" y="5094"/>
                  <a:pt x="19803" y="5095"/>
                  <a:pt x="19794" y="5060"/>
                </a:cubicBezTo>
                <a:cubicBezTo>
                  <a:pt x="19794" y="5052"/>
                  <a:pt x="19794" y="5043"/>
                  <a:pt x="19794" y="5035"/>
                </a:cubicBezTo>
              </a:path>
              <a:path w="1836" h="795">
                <a:moveTo>
                  <a:pt x="20216" y="4862"/>
                </a:moveTo>
                <a:cubicBezTo>
                  <a:pt x="20288" y="4818"/>
                  <a:pt x="20344" y="4784"/>
                  <a:pt x="20414" y="4738"/>
                </a:cubicBezTo>
                <a:cubicBezTo>
                  <a:pt x="20463" y="4705"/>
                  <a:pt x="20564" y="4665"/>
                  <a:pt x="20588" y="4614"/>
                </a:cubicBezTo>
                <a:cubicBezTo>
                  <a:pt x="20594" y="4601"/>
                  <a:pt x="20625" y="4511"/>
                  <a:pt x="20613" y="4490"/>
                </a:cubicBezTo>
                <a:cubicBezTo>
                  <a:pt x="20590" y="4467"/>
                  <a:pt x="20582" y="4463"/>
                  <a:pt x="20588" y="4440"/>
                </a:cubicBezTo>
                <a:cubicBezTo>
                  <a:pt x="20508" y="4451"/>
                  <a:pt x="20484" y="4471"/>
                  <a:pt x="20414" y="4514"/>
                </a:cubicBezTo>
                <a:cubicBezTo>
                  <a:pt x="20337" y="4561"/>
                  <a:pt x="20218" y="4643"/>
                  <a:pt x="20191" y="4738"/>
                </a:cubicBezTo>
                <a:cubicBezTo>
                  <a:pt x="20178" y="4784"/>
                  <a:pt x="20180" y="4881"/>
                  <a:pt x="20216" y="4911"/>
                </a:cubicBezTo>
                <a:cubicBezTo>
                  <a:pt x="20303" y="4984"/>
                  <a:pt x="20330" y="4986"/>
                  <a:pt x="20439" y="4986"/>
                </a:cubicBezTo>
                <a:cubicBezTo>
                  <a:pt x="20465" y="4986"/>
                  <a:pt x="20690" y="4983"/>
                  <a:pt x="20662" y="4961"/>
                </a:cubicBezTo>
                <a:cubicBezTo>
                  <a:pt x="20654" y="4961"/>
                  <a:pt x="20646" y="4961"/>
                  <a:pt x="20638" y="49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803760" y="2286000"/>
            <a:ext cx="750600" cy="465120"/>
          </a:xfrm>
          <a:custGeom>
            <a:avLst/>
            <a:gdLst/>
            <a:ahLst/>
            <a:rect l="l" t="t" r="r" b="b"/>
            <a:pathLst>
              <a:path w="2084" h="1291">
                <a:moveTo>
                  <a:pt x="10567" y="6747"/>
                </a:moveTo>
                <a:cubicBezTo>
                  <a:pt x="10587" y="6817"/>
                  <a:pt x="10594" y="6905"/>
                  <a:pt x="10616" y="6970"/>
                </a:cubicBezTo>
                <a:cubicBezTo>
                  <a:pt x="10627" y="7002"/>
                  <a:pt x="10641" y="7151"/>
                  <a:pt x="10641" y="7094"/>
                </a:cubicBezTo>
                <a:cubicBezTo>
                  <a:pt x="10641" y="7027"/>
                  <a:pt x="10620" y="7007"/>
                  <a:pt x="10616" y="6945"/>
                </a:cubicBezTo>
                <a:cubicBezTo>
                  <a:pt x="10612" y="6880"/>
                  <a:pt x="10621" y="6806"/>
                  <a:pt x="10641" y="6747"/>
                </a:cubicBezTo>
                <a:cubicBezTo>
                  <a:pt x="10662" y="6684"/>
                  <a:pt x="10710" y="6612"/>
                  <a:pt x="10765" y="6573"/>
                </a:cubicBezTo>
                <a:cubicBezTo>
                  <a:pt x="10839" y="6520"/>
                  <a:pt x="10913" y="6527"/>
                  <a:pt x="10988" y="6499"/>
                </a:cubicBezTo>
                <a:cubicBezTo>
                  <a:pt x="11016" y="6471"/>
                  <a:pt x="11030" y="6462"/>
                  <a:pt x="11063" y="6474"/>
                </a:cubicBezTo>
              </a:path>
              <a:path w="2084" h="1291">
                <a:moveTo>
                  <a:pt x="11187" y="6697"/>
                </a:moveTo>
                <a:cubicBezTo>
                  <a:pt x="11187" y="6811"/>
                  <a:pt x="11178" y="6968"/>
                  <a:pt x="11212" y="7045"/>
                </a:cubicBezTo>
                <a:cubicBezTo>
                  <a:pt x="11212" y="7053"/>
                  <a:pt x="11212" y="7061"/>
                  <a:pt x="11212" y="7069"/>
                </a:cubicBezTo>
              </a:path>
              <a:path w="2084" h="1291">
                <a:moveTo>
                  <a:pt x="11311" y="6400"/>
                </a:moveTo>
                <a:cubicBezTo>
                  <a:pt x="11353" y="6358"/>
                  <a:pt x="11339" y="6351"/>
                  <a:pt x="11385" y="6375"/>
                </a:cubicBezTo>
              </a:path>
              <a:path w="2084" h="1291">
                <a:moveTo>
                  <a:pt x="11757" y="6672"/>
                </a:moveTo>
                <a:cubicBezTo>
                  <a:pt x="11700" y="6630"/>
                  <a:pt x="11689" y="6663"/>
                  <a:pt x="11633" y="6697"/>
                </a:cubicBezTo>
                <a:cubicBezTo>
                  <a:pt x="11554" y="6745"/>
                  <a:pt x="11548" y="6813"/>
                  <a:pt x="11509" y="6896"/>
                </a:cubicBezTo>
                <a:cubicBezTo>
                  <a:pt x="11483" y="6951"/>
                  <a:pt x="11464" y="7031"/>
                  <a:pt x="11534" y="7069"/>
                </a:cubicBezTo>
                <a:cubicBezTo>
                  <a:pt x="11576" y="7092"/>
                  <a:pt x="11594" y="7103"/>
                  <a:pt x="11633" y="7069"/>
                </a:cubicBezTo>
                <a:cubicBezTo>
                  <a:pt x="11670" y="7037"/>
                  <a:pt x="11721" y="6995"/>
                  <a:pt x="11733" y="6945"/>
                </a:cubicBezTo>
                <a:cubicBezTo>
                  <a:pt x="11747" y="6888"/>
                  <a:pt x="11757" y="6832"/>
                  <a:pt x="11757" y="6772"/>
                </a:cubicBezTo>
                <a:cubicBezTo>
                  <a:pt x="11703" y="6734"/>
                  <a:pt x="11755" y="6797"/>
                  <a:pt x="11757" y="6846"/>
                </a:cubicBezTo>
                <a:cubicBezTo>
                  <a:pt x="11763" y="6983"/>
                  <a:pt x="11788" y="7107"/>
                  <a:pt x="11807" y="7243"/>
                </a:cubicBezTo>
                <a:cubicBezTo>
                  <a:pt x="11821" y="7338"/>
                  <a:pt x="11792" y="7429"/>
                  <a:pt x="11757" y="7516"/>
                </a:cubicBezTo>
                <a:cubicBezTo>
                  <a:pt x="11728" y="7589"/>
                  <a:pt x="11683" y="7636"/>
                  <a:pt x="11609" y="7640"/>
                </a:cubicBezTo>
                <a:cubicBezTo>
                  <a:pt x="11524" y="7645"/>
                  <a:pt x="11466" y="7638"/>
                  <a:pt x="11410" y="7565"/>
                </a:cubicBezTo>
                <a:cubicBezTo>
                  <a:pt x="11366" y="7508"/>
                  <a:pt x="11367" y="7459"/>
                  <a:pt x="11361" y="7392"/>
                </a:cubicBezTo>
              </a:path>
              <a:path w="2084" h="1291">
                <a:moveTo>
                  <a:pt x="11906" y="6474"/>
                </a:moveTo>
                <a:cubicBezTo>
                  <a:pt x="11929" y="6589"/>
                  <a:pt x="11952" y="6704"/>
                  <a:pt x="11956" y="6821"/>
                </a:cubicBezTo>
                <a:cubicBezTo>
                  <a:pt x="11959" y="6913"/>
                  <a:pt x="11945" y="6985"/>
                  <a:pt x="11931" y="7069"/>
                </a:cubicBezTo>
                <a:cubicBezTo>
                  <a:pt x="11931" y="7086"/>
                  <a:pt x="11931" y="7102"/>
                  <a:pt x="11931" y="7119"/>
                </a:cubicBezTo>
                <a:cubicBezTo>
                  <a:pt x="11966" y="7188"/>
                  <a:pt x="11956" y="7016"/>
                  <a:pt x="11956" y="6995"/>
                </a:cubicBezTo>
                <a:cubicBezTo>
                  <a:pt x="11956" y="6906"/>
                  <a:pt x="11992" y="6831"/>
                  <a:pt x="12005" y="6747"/>
                </a:cubicBezTo>
                <a:cubicBezTo>
                  <a:pt x="12013" y="6698"/>
                  <a:pt x="12004" y="6662"/>
                  <a:pt x="12030" y="6623"/>
                </a:cubicBezTo>
                <a:cubicBezTo>
                  <a:pt x="12053" y="6600"/>
                  <a:pt x="12057" y="6592"/>
                  <a:pt x="12080" y="6598"/>
                </a:cubicBezTo>
                <a:cubicBezTo>
                  <a:pt x="12080" y="6658"/>
                  <a:pt x="12091" y="6715"/>
                  <a:pt x="12105" y="6772"/>
                </a:cubicBezTo>
                <a:cubicBezTo>
                  <a:pt x="12128" y="6862"/>
                  <a:pt x="12149" y="6967"/>
                  <a:pt x="12204" y="7045"/>
                </a:cubicBezTo>
                <a:cubicBezTo>
                  <a:pt x="12223" y="7073"/>
                  <a:pt x="12332" y="7123"/>
                  <a:pt x="12353" y="7119"/>
                </a:cubicBezTo>
                <a:cubicBezTo>
                  <a:pt x="12375" y="7097"/>
                  <a:pt x="12380" y="7088"/>
                  <a:pt x="12402" y="7094"/>
                </a:cubicBezTo>
              </a:path>
              <a:path w="2084" h="1291">
                <a:moveTo>
                  <a:pt x="12526" y="6400"/>
                </a:moveTo>
                <a:cubicBezTo>
                  <a:pt x="12532" y="6518"/>
                  <a:pt x="12529" y="6655"/>
                  <a:pt x="12551" y="6772"/>
                </a:cubicBezTo>
                <a:cubicBezTo>
                  <a:pt x="12563" y="6838"/>
                  <a:pt x="12578" y="6960"/>
                  <a:pt x="12601" y="7020"/>
                </a:cubicBezTo>
                <a:cubicBezTo>
                  <a:pt x="12609" y="7041"/>
                  <a:pt x="12626" y="7118"/>
                  <a:pt x="12626" y="7069"/>
                </a:cubicBezTo>
              </a:path>
              <a:path w="2084" h="1291">
                <a:moveTo>
                  <a:pt x="12402" y="6573"/>
                </a:moveTo>
                <a:cubicBezTo>
                  <a:pt x="12492" y="6546"/>
                  <a:pt x="12568" y="6530"/>
                  <a:pt x="12650" y="64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70280" y="2251080"/>
            <a:ext cx="723960" cy="276120"/>
          </a:xfrm>
          <a:custGeom>
            <a:avLst/>
            <a:gdLst/>
            <a:ahLst/>
            <a:rect l="l" t="t" r="r" b="b"/>
            <a:pathLst>
              <a:path w="2010" h="770">
                <a:moveTo>
                  <a:pt x="12973" y="6499"/>
                </a:moveTo>
                <a:cubicBezTo>
                  <a:pt x="13000" y="6534"/>
                  <a:pt x="12998" y="6529"/>
                  <a:pt x="12998" y="6573"/>
                </a:cubicBezTo>
              </a:path>
              <a:path w="2010" h="770">
                <a:moveTo>
                  <a:pt x="13022" y="6921"/>
                </a:moveTo>
                <a:cubicBezTo>
                  <a:pt x="13039" y="6921"/>
                  <a:pt x="13055" y="6921"/>
                  <a:pt x="13072" y="6921"/>
                </a:cubicBezTo>
              </a:path>
              <a:path w="2010" h="770">
                <a:moveTo>
                  <a:pt x="13295" y="6548"/>
                </a:moveTo>
                <a:cubicBezTo>
                  <a:pt x="13303" y="6635"/>
                  <a:pt x="13320" y="6706"/>
                  <a:pt x="13320" y="6796"/>
                </a:cubicBezTo>
                <a:cubicBezTo>
                  <a:pt x="13320" y="6866"/>
                  <a:pt x="13328" y="6913"/>
                  <a:pt x="13345" y="6970"/>
                </a:cubicBezTo>
                <a:cubicBezTo>
                  <a:pt x="13359" y="7015"/>
                  <a:pt x="13345" y="7032"/>
                  <a:pt x="13345" y="6970"/>
                </a:cubicBezTo>
                <a:cubicBezTo>
                  <a:pt x="13345" y="6897"/>
                  <a:pt x="13306" y="6840"/>
                  <a:pt x="13295" y="6772"/>
                </a:cubicBezTo>
                <a:cubicBezTo>
                  <a:pt x="13284" y="6709"/>
                  <a:pt x="13294" y="6653"/>
                  <a:pt x="13320" y="6598"/>
                </a:cubicBezTo>
                <a:cubicBezTo>
                  <a:pt x="13348" y="6539"/>
                  <a:pt x="13412" y="6479"/>
                  <a:pt x="13469" y="6449"/>
                </a:cubicBezTo>
                <a:cubicBezTo>
                  <a:pt x="13536" y="6426"/>
                  <a:pt x="13554" y="6421"/>
                  <a:pt x="13593" y="6400"/>
                </a:cubicBezTo>
              </a:path>
              <a:path w="2010" h="770">
                <a:moveTo>
                  <a:pt x="13791" y="6672"/>
                </a:moveTo>
                <a:cubicBezTo>
                  <a:pt x="13793" y="6720"/>
                  <a:pt x="13784" y="6907"/>
                  <a:pt x="13816" y="6970"/>
                </a:cubicBezTo>
                <a:cubicBezTo>
                  <a:pt x="13828" y="6994"/>
                  <a:pt x="13841" y="7041"/>
                  <a:pt x="13841" y="6995"/>
                </a:cubicBezTo>
              </a:path>
              <a:path w="2010" h="770">
                <a:moveTo>
                  <a:pt x="13866" y="6300"/>
                </a:moveTo>
                <a:cubicBezTo>
                  <a:pt x="13874" y="6284"/>
                  <a:pt x="13883" y="6267"/>
                  <a:pt x="13891" y="6251"/>
                </a:cubicBezTo>
              </a:path>
              <a:path w="2010" h="770">
                <a:moveTo>
                  <a:pt x="14213" y="6424"/>
                </a:moveTo>
                <a:cubicBezTo>
                  <a:pt x="14187" y="6461"/>
                  <a:pt x="14105" y="6517"/>
                  <a:pt x="14089" y="6548"/>
                </a:cubicBezTo>
                <a:cubicBezTo>
                  <a:pt x="14061" y="6603"/>
                  <a:pt x="14134" y="6666"/>
                  <a:pt x="14163" y="6697"/>
                </a:cubicBezTo>
                <a:cubicBezTo>
                  <a:pt x="14215" y="6752"/>
                  <a:pt x="14265" y="6821"/>
                  <a:pt x="14288" y="6896"/>
                </a:cubicBezTo>
                <a:cubicBezTo>
                  <a:pt x="14288" y="6921"/>
                  <a:pt x="14288" y="6929"/>
                  <a:pt x="14288" y="6945"/>
                </a:cubicBezTo>
                <a:cubicBezTo>
                  <a:pt x="14238" y="6945"/>
                  <a:pt x="14203" y="6953"/>
                  <a:pt x="14163" y="6921"/>
                </a:cubicBezTo>
                <a:cubicBezTo>
                  <a:pt x="14132" y="6896"/>
                  <a:pt x="14121" y="6895"/>
                  <a:pt x="14089" y="6871"/>
                </a:cubicBezTo>
              </a:path>
              <a:path w="2010" h="770">
                <a:moveTo>
                  <a:pt x="14461" y="6722"/>
                </a:moveTo>
                <a:cubicBezTo>
                  <a:pt x="14502" y="6694"/>
                  <a:pt x="14668" y="6606"/>
                  <a:pt x="14684" y="6524"/>
                </a:cubicBezTo>
                <a:cubicBezTo>
                  <a:pt x="14684" y="6462"/>
                  <a:pt x="14693" y="6447"/>
                  <a:pt x="14660" y="6424"/>
                </a:cubicBezTo>
                <a:cubicBezTo>
                  <a:pt x="14565" y="6466"/>
                  <a:pt x="14510" y="6499"/>
                  <a:pt x="14436" y="6573"/>
                </a:cubicBezTo>
                <a:cubicBezTo>
                  <a:pt x="14376" y="6634"/>
                  <a:pt x="14362" y="6639"/>
                  <a:pt x="14362" y="6722"/>
                </a:cubicBezTo>
                <a:cubicBezTo>
                  <a:pt x="14362" y="6834"/>
                  <a:pt x="14441" y="6821"/>
                  <a:pt x="14511" y="6871"/>
                </a:cubicBezTo>
                <a:cubicBezTo>
                  <a:pt x="14604" y="6937"/>
                  <a:pt x="14656" y="6940"/>
                  <a:pt x="14759" y="6970"/>
                </a:cubicBezTo>
                <a:cubicBezTo>
                  <a:pt x="14823" y="6989"/>
                  <a:pt x="14891" y="7013"/>
                  <a:pt x="14957" y="7020"/>
                </a:cubicBezTo>
                <a:cubicBezTo>
                  <a:pt x="14965" y="7020"/>
                  <a:pt x="14974" y="7020"/>
                  <a:pt x="14982" y="70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875200" y="2089080"/>
            <a:ext cx="519120" cy="384120"/>
          </a:xfrm>
          <a:custGeom>
            <a:avLst/>
            <a:gdLst/>
            <a:ahLst/>
            <a:rect l="l" t="t" r="r" b="b"/>
            <a:pathLst>
              <a:path w="1440" h="1068">
                <a:moveTo>
                  <a:pt x="16321" y="5879"/>
                </a:moveTo>
                <a:cubicBezTo>
                  <a:pt x="16341" y="5838"/>
                  <a:pt x="16350" y="5832"/>
                  <a:pt x="16346" y="5804"/>
                </a:cubicBezTo>
                <a:cubicBezTo>
                  <a:pt x="16382" y="5864"/>
                  <a:pt x="16371" y="5928"/>
                  <a:pt x="16371" y="6003"/>
                </a:cubicBezTo>
                <a:cubicBezTo>
                  <a:pt x="16371" y="6164"/>
                  <a:pt x="16381" y="6316"/>
                  <a:pt x="16396" y="6474"/>
                </a:cubicBezTo>
                <a:cubicBezTo>
                  <a:pt x="16405" y="6565"/>
                  <a:pt x="16416" y="6657"/>
                  <a:pt x="16421" y="6747"/>
                </a:cubicBezTo>
                <a:cubicBezTo>
                  <a:pt x="16424" y="6805"/>
                  <a:pt x="16418" y="6824"/>
                  <a:pt x="16446" y="6871"/>
                </a:cubicBezTo>
              </a:path>
              <a:path w="1440" h="1068">
                <a:moveTo>
                  <a:pt x="16520" y="6623"/>
                </a:moveTo>
                <a:cubicBezTo>
                  <a:pt x="16592" y="6585"/>
                  <a:pt x="16722" y="6530"/>
                  <a:pt x="16793" y="6474"/>
                </a:cubicBezTo>
                <a:cubicBezTo>
                  <a:pt x="16850" y="6429"/>
                  <a:pt x="16886" y="6392"/>
                  <a:pt x="16892" y="6325"/>
                </a:cubicBezTo>
                <a:cubicBezTo>
                  <a:pt x="16897" y="6261"/>
                  <a:pt x="16852" y="6231"/>
                  <a:pt x="16793" y="6251"/>
                </a:cubicBezTo>
                <a:cubicBezTo>
                  <a:pt x="16726" y="6273"/>
                  <a:pt x="16637" y="6318"/>
                  <a:pt x="16594" y="6375"/>
                </a:cubicBezTo>
                <a:cubicBezTo>
                  <a:pt x="16544" y="6440"/>
                  <a:pt x="16524" y="6520"/>
                  <a:pt x="16520" y="6598"/>
                </a:cubicBezTo>
                <a:cubicBezTo>
                  <a:pt x="16516" y="6685"/>
                  <a:pt x="16583" y="6720"/>
                  <a:pt x="16644" y="6772"/>
                </a:cubicBezTo>
                <a:cubicBezTo>
                  <a:pt x="16702" y="6822"/>
                  <a:pt x="16774" y="6790"/>
                  <a:pt x="16842" y="6772"/>
                </a:cubicBezTo>
              </a:path>
              <a:path w="1440" h="1068">
                <a:moveTo>
                  <a:pt x="17388" y="5928"/>
                </a:moveTo>
                <a:cubicBezTo>
                  <a:pt x="17329" y="5885"/>
                  <a:pt x="17275" y="5940"/>
                  <a:pt x="17239" y="6003"/>
                </a:cubicBezTo>
                <a:cubicBezTo>
                  <a:pt x="17196" y="6078"/>
                  <a:pt x="17156" y="6215"/>
                  <a:pt x="17140" y="6300"/>
                </a:cubicBezTo>
                <a:cubicBezTo>
                  <a:pt x="17127" y="6374"/>
                  <a:pt x="17168" y="6480"/>
                  <a:pt x="17190" y="6548"/>
                </a:cubicBezTo>
                <a:cubicBezTo>
                  <a:pt x="17214" y="6621"/>
                  <a:pt x="17263" y="6681"/>
                  <a:pt x="17289" y="6747"/>
                </a:cubicBezTo>
                <a:cubicBezTo>
                  <a:pt x="17291" y="6752"/>
                  <a:pt x="17289" y="6838"/>
                  <a:pt x="17289" y="6772"/>
                </a:cubicBezTo>
              </a:path>
              <a:path w="1440" h="1068">
                <a:moveTo>
                  <a:pt x="16966" y="6499"/>
                </a:moveTo>
                <a:cubicBezTo>
                  <a:pt x="17033" y="6516"/>
                  <a:pt x="17135" y="6514"/>
                  <a:pt x="17214" y="6499"/>
                </a:cubicBezTo>
                <a:cubicBezTo>
                  <a:pt x="17282" y="6486"/>
                  <a:pt x="17350" y="6452"/>
                  <a:pt x="17413" y="6424"/>
                </a:cubicBezTo>
              </a:path>
              <a:path w="1440" h="1068">
                <a:moveTo>
                  <a:pt x="17686" y="5953"/>
                </a:moveTo>
                <a:cubicBezTo>
                  <a:pt x="17686" y="6138"/>
                  <a:pt x="17686" y="6319"/>
                  <a:pt x="17711" y="6499"/>
                </a:cubicBezTo>
                <a:cubicBezTo>
                  <a:pt x="17721" y="6572"/>
                  <a:pt x="17754" y="6629"/>
                  <a:pt x="17760" y="6697"/>
                </a:cubicBezTo>
                <a:cubicBezTo>
                  <a:pt x="17760" y="6705"/>
                  <a:pt x="17760" y="6714"/>
                  <a:pt x="17760" y="6722"/>
                </a:cubicBezTo>
              </a:path>
              <a:path w="1440" h="1068">
                <a:moveTo>
                  <a:pt x="17462" y="6400"/>
                </a:moveTo>
                <a:cubicBezTo>
                  <a:pt x="17511" y="6364"/>
                  <a:pt x="17574" y="6346"/>
                  <a:pt x="17636" y="6325"/>
                </a:cubicBezTo>
                <a:cubicBezTo>
                  <a:pt x="17661" y="6317"/>
                  <a:pt x="17686" y="6308"/>
                  <a:pt x="17711" y="63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18160" y="2178000"/>
            <a:ext cx="27000" cy="152280"/>
          </a:xfrm>
          <a:custGeom>
            <a:avLst/>
            <a:gdLst/>
            <a:ahLst/>
            <a:rect l="l" t="t" r="r" b="b"/>
            <a:pathLst>
              <a:path w="76" h="423">
                <a:moveTo>
                  <a:pt x="18107" y="6052"/>
                </a:moveTo>
                <a:cubicBezTo>
                  <a:pt x="18107" y="6080"/>
                  <a:pt x="18109" y="6091"/>
                  <a:pt x="18132" y="6102"/>
                </a:cubicBezTo>
              </a:path>
              <a:path w="76" h="423">
                <a:moveTo>
                  <a:pt x="18107" y="6449"/>
                </a:moveTo>
                <a:cubicBezTo>
                  <a:pt x="18143" y="6485"/>
                  <a:pt x="18140" y="6460"/>
                  <a:pt x="18182" y="64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42080" y="1990800"/>
            <a:ext cx="642960" cy="420480"/>
          </a:xfrm>
          <a:custGeom>
            <a:avLst/>
            <a:gdLst/>
            <a:ahLst/>
            <a:rect l="l" t="t" r="r" b="b"/>
            <a:pathLst>
              <a:path w="1786" h="1167">
                <a:moveTo>
                  <a:pt x="19149" y="5730"/>
                </a:moveTo>
                <a:cubicBezTo>
                  <a:pt x="19195" y="5776"/>
                  <a:pt x="19199" y="5787"/>
                  <a:pt x="19199" y="5854"/>
                </a:cubicBezTo>
                <a:cubicBezTo>
                  <a:pt x="19199" y="5862"/>
                  <a:pt x="19199" y="5946"/>
                  <a:pt x="19199" y="5879"/>
                </a:cubicBezTo>
                <a:cubicBezTo>
                  <a:pt x="19199" y="5805"/>
                  <a:pt x="19205" y="5748"/>
                  <a:pt x="19174" y="5680"/>
                </a:cubicBezTo>
                <a:cubicBezTo>
                  <a:pt x="19155" y="5638"/>
                  <a:pt x="19145" y="5556"/>
                  <a:pt x="19100" y="5531"/>
                </a:cubicBezTo>
                <a:cubicBezTo>
                  <a:pt x="19041" y="5498"/>
                  <a:pt x="18995" y="5568"/>
                  <a:pt x="18976" y="5606"/>
                </a:cubicBezTo>
                <a:cubicBezTo>
                  <a:pt x="18925" y="5708"/>
                  <a:pt x="18926" y="5791"/>
                  <a:pt x="18926" y="5904"/>
                </a:cubicBezTo>
                <a:cubicBezTo>
                  <a:pt x="18926" y="6032"/>
                  <a:pt x="18947" y="6150"/>
                  <a:pt x="18951" y="6276"/>
                </a:cubicBezTo>
                <a:cubicBezTo>
                  <a:pt x="18952" y="6310"/>
                  <a:pt x="18928" y="6698"/>
                  <a:pt x="18976" y="6697"/>
                </a:cubicBezTo>
                <a:cubicBezTo>
                  <a:pt x="18976" y="6689"/>
                  <a:pt x="18976" y="6680"/>
                  <a:pt x="18976" y="6672"/>
                </a:cubicBezTo>
              </a:path>
              <a:path w="1786" h="1167">
                <a:moveTo>
                  <a:pt x="18728" y="6300"/>
                </a:moveTo>
                <a:cubicBezTo>
                  <a:pt x="18816" y="6300"/>
                  <a:pt x="18892" y="6285"/>
                  <a:pt x="18976" y="6276"/>
                </a:cubicBezTo>
                <a:cubicBezTo>
                  <a:pt x="19001" y="6276"/>
                  <a:pt x="19025" y="6276"/>
                  <a:pt x="19050" y="6276"/>
                </a:cubicBezTo>
              </a:path>
              <a:path w="1786" h="1167">
                <a:moveTo>
                  <a:pt x="19447" y="6176"/>
                </a:moveTo>
                <a:cubicBezTo>
                  <a:pt x="19374" y="6249"/>
                  <a:pt x="19227" y="6347"/>
                  <a:pt x="19199" y="6449"/>
                </a:cubicBezTo>
                <a:cubicBezTo>
                  <a:pt x="19180" y="6518"/>
                  <a:pt x="19243" y="6543"/>
                  <a:pt x="19298" y="6548"/>
                </a:cubicBezTo>
                <a:cubicBezTo>
                  <a:pt x="19355" y="6553"/>
                  <a:pt x="19371" y="6484"/>
                  <a:pt x="19397" y="6449"/>
                </a:cubicBezTo>
                <a:cubicBezTo>
                  <a:pt x="19427" y="6408"/>
                  <a:pt x="19437" y="6352"/>
                  <a:pt x="19447" y="6300"/>
                </a:cubicBezTo>
                <a:cubicBezTo>
                  <a:pt x="19479" y="6353"/>
                  <a:pt x="19471" y="6419"/>
                  <a:pt x="19496" y="6474"/>
                </a:cubicBezTo>
                <a:cubicBezTo>
                  <a:pt x="19514" y="6512"/>
                  <a:pt x="19599" y="6573"/>
                  <a:pt x="19645" y="6548"/>
                </a:cubicBezTo>
                <a:cubicBezTo>
                  <a:pt x="19653" y="6540"/>
                  <a:pt x="19662" y="6532"/>
                  <a:pt x="19670" y="6524"/>
                </a:cubicBezTo>
              </a:path>
              <a:path w="1786" h="1167">
                <a:moveTo>
                  <a:pt x="19720" y="5631"/>
                </a:moveTo>
                <a:cubicBezTo>
                  <a:pt x="19691" y="5745"/>
                  <a:pt x="19673" y="5859"/>
                  <a:pt x="19670" y="5978"/>
                </a:cubicBezTo>
                <a:cubicBezTo>
                  <a:pt x="19666" y="6106"/>
                  <a:pt x="19688" y="6251"/>
                  <a:pt x="19720" y="6375"/>
                </a:cubicBezTo>
                <a:cubicBezTo>
                  <a:pt x="19720" y="6376"/>
                  <a:pt x="19782" y="6557"/>
                  <a:pt x="19794" y="6548"/>
                </a:cubicBezTo>
                <a:cubicBezTo>
                  <a:pt x="19802" y="6532"/>
                  <a:pt x="19811" y="6515"/>
                  <a:pt x="19819" y="6499"/>
                </a:cubicBezTo>
              </a:path>
              <a:path w="1786" h="1167">
                <a:moveTo>
                  <a:pt x="19893" y="5606"/>
                </a:moveTo>
                <a:cubicBezTo>
                  <a:pt x="19893" y="5765"/>
                  <a:pt x="19883" y="5921"/>
                  <a:pt x="19918" y="6077"/>
                </a:cubicBezTo>
                <a:cubicBezTo>
                  <a:pt x="19942" y="6186"/>
                  <a:pt x="19978" y="6291"/>
                  <a:pt x="19993" y="6400"/>
                </a:cubicBezTo>
                <a:cubicBezTo>
                  <a:pt x="19996" y="6424"/>
                  <a:pt x="20001" y="6545"/>
                  <a:pt x="20042" y="6524"/>
                </a:cubicBezTo>
                <a:cubicBezTo>
                  <a:pt x="20050" y="6516"/>
                  <a:pt x="20059" y="6507"/>
                  <a:pt x="20067" y="6499"/>
                </a:cubicBezTo>
              </a:path>
              <a:path w="1786" h="1167">
                <a:moveTo>
                  <a:pt x="20389" y="6003"/>
                </a:moveTo>
                <a:cubicBezTo>
                  <a:pt x="20347" y="6029"/>
                  <a:pt x="20270" y="6024"/>
                  <a:pt x="20241" y="6077"/>
                </a:cubicBezTo>
                <a:cubicBezTo>
                  <a:pt x="20212" y="6130"/>
                  <a:pt x="20319" y="6210"/>
                  <a:pt x="20340" y="6226"/>
                </a:cubicBezTo>
                <a:cubicBezTo>
                  <a:pt x="20407" y="6277"/>
                  <a:pt x="20481" y="6315"/>
                  <a:pt x="20513" y="6400"/>
                </a:cubicBezTo>
                <a:cubicBezTo>
                  <a:pt x="20527" y="6436"/>
                  <a:pt x="20497" y="6484"/>
                  <a:pt x="20464" y="6499"/>
                </a:cubicBezTo>
                <a:cubicBezTo>
                  <a:pt x="20398" y="6528"/>
                  <a:pt x="20412" y="6512"/>
                  <a:pt x="20340" y="6499"/>
                </a:cubicBezTo>
                <a:cubicBezTo>
                  <a:pt x="20293" y="6491"/>
                  <a:pt x="20228" y="6489"/>
                  <a:pt x="20216" y="65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303800" y="2840040"/>
            <a:ext cx="768240" cy="588960"/>
          </a:xfrm>
          <a:custGeom>
            <a:avLst/>
            <a:gdLst/>
            <a:ahLst/>
            <a:rect l="l" t="t" r="r" b="b"/>
            <a:pathLst>
              <a:path w="2134" h="1638">
                <a:moveTo>
                  <a:pt x="11981" y="8508"/>
                </a:moveTo>
                <a:cubicBezTo>
                  <a:pt x="11981" y="8541"/>
                  <a:pt x="11987" y="8870"/>
                  <a:pt x="11981" y="8855"/>
                </a:cubicBezTo>
                <a:cubicBezTo>
                  <a:pt x="11953" y="8789"/>
                  <a:pt x="11981" y="8755"/>
                  <a:pt x="11981" y="8682"/>
                </a:cubicBezTo>
                <a:cubicBezTo>
                  <a:pt x="11981" y="8619"/>
                  <a:pt x="12004" y="8564"/>
                  <a:pt x="12030" y="8508"/>
                </a:cubicBezTo>
                <a:cubicBezTo>
                  <a:pt x="12055" y="8455"/>
                  <a:pt x="12106" y="8393"/>
                  <a:pt x="12154" y="8359"/>
                </a:cubicBezTo>
                <a:cubicBezTo>
                  <a:pt x="12208" y="8320"/>
                  <a:pt x="12273" y="8298"/>
                  <a:pt x="12328" y="8260"/>
                </a:cubicBezTo>
                <a:cubicBezTo>
                  <a:pt x="12363" y="8236"/>
                  <a:pt x="12387" y="8220"/>
                  <a:pt x="12427" y="8210"/>
                </a:cubicBezTo>
              </a:path>
              <a:path w="2134" h="1638">
                <a:moveTo>
                  <a:pt x="12576" y="8359"/>
                </a:moveTo>
                <a:cubicBezTo>
                  <a:pt x="12576" y="8524"/>
                  <a:pt x="12576" y="8690"/>
                  <a:pt x="12576" y="8855"/>
                </a:cubicBezTo>
                <a:cubicBezTo>
                  <a:pt x="12576" y="8806"/>
                  <a:pt x="12576" y="8789"/>
                  <a:pt x="12576" y="8756"/>
                </a:cubicBezTo>
              </a:path>
              <a:path w="2134" h="1638">
                <a:moveTo>
                  <a:pt x="12675" y="8012"/>
                </a:moveTo>
                <a:lnTo>
                  <a:pt x="12675" y="8012"/>
                </a:lnTo>
              </a:path>
              <a:path w="2134" h="1638">
                <a:moveTo>
                  <a:pt x="13221" y="8508"/>
                </a:moveTo>
                <a:cubicBezTo>
                  <a:pt x="13197" y="8476"/>
                  <a:pt x="13178" y="8419"/>
                  <a:pt x="13171" y="8384"/>
                </a:cubicBezTo>
                <a:cubicBezTo>
                  <a:pt x="13162" y="8337"/>
                  <a:pt x="13155" y="8268"/>
                  <a:pt x="13097" y="8260"/>
                </a:cubicBezTo>
                <a:cubicBezTo>
                  <a:pt x="13018" y="8249"/>
                  <a:pt x="13012" y="8308"/>
                  <a:pt x="12973" y="8359"/>
                </a:cubicBezTo>
                <a:cubicBezTo>
                  <a:pt x="12937" y="8406"/>
                  <a:pt x="12887" y="8496"/>
                  <a:pt x="12874" y="8558"/>
                </a:cubicBezTo>
                <a:cubicBezTo>
                  <a:pt x="12861" y="8618"/>
                  <a:pt x="12873" y="8683"/>
                  <a:pt x="12898" y="8731"/>
                </a:cubicBezTo>
                <a:cubicBezTo>
                  <a:pt x="12910" y="8754"/>
                  <a:pt x="12958" y="8824"/>
                  <a:pt x="12998" y="8806"/>
                </a:cubicBezTo>
                <a:cubicBezTo>
                  <a:pt x="13029" y="8792"/>
                  <a:pt x="13076" y="8764"/>
                  <a:pt x="13097" y="8731"/>
                </a:cubicBezTo>
                <a:cubicBezTo>
                  <a:pt x="13140" y="8665"/>
                  <a:pt x="13127" y="8623"/>
                  <a:pt x="13146" y="8558"/>
                </a:cubicBezTo>
                <a:cubicBezTo>
                  <a:pt x="13165" y="8492"/>
                  <a:pt x="13171" y="8503"/>
                  <a:pt x="13171" y="8434"/>
                </a:cubicBezTo>
                <a:cubicBezTo>
                  <a:pt x="13135" y="8480"/>
                  <a:pt x="13146" y="8521"/>
                  <a:pt x="13146" y="8582"/>
                </a:cubicBezTo>
                <a:cubicBezTo>
                  <a:pt x="13146" y="8845"/>
                  <a:pt x="13166" y="9119"/>
                  <a:pt x="13122" y="9376"/>
                </a:cubicBezTo>
                <a:cubicBezTo>
                  <a:pt x="13115" y="9414"/>
                  <a:pt x="13080" y="9499"/>
                  <a:pt x="13047" y="9525"/>
                </a:cubicBezTo>
                <a:cubicBezTo>
                  <a:pt x="13039" y="9525"/>
                  <a:pt x="13030" y="9525"/>
                  <a:pt x="13022" y="9525"/>
                </a:cubicBezTo>
                <a:cubicBezTo>
                  <a:pt x="12991" y="9497"/>
                  <a:pt x="12938" y="9463"/>
                  <a:pt x="12898" y="9426"/>
                </a:cubicBezTo>
                <a:cubicBezTo>
                  <a:pt x="12853" y="9385"/>
                  <a:pt x="12874" y="9308"/>
                  <a:pt x="12874" y="9252"/>
                </a:cubicBezTo>
              </a:path>
              <a:path w="2134" h="1638">
                <a:moveTo>
                  <a:pt x="13345" y="7888"/>
                </a:moveTo>
                <a:cubicBezTo>
                  <a:pt x="13365" y="8002"/>
                  <a:pt x="13370" y="8095"/>
                  <a:pt x="13370" y="8210"/>
                </a:cubicBezTo>
                <a:cubicBezTo>
                  <a:pt x="13370" y="8378"/>
                  <a:pt x="13379" y="8547"/>
                  <a:pt x="13345" y="8706"/>
                </a:cubicBezTo>
                <a:cubicBezTo>
                  <a:pt x="13340" y="8728"/>
                  <a:pt x="13345" y="8758"/>
                  <a:pt x="13345" y="8781"/>
                </a:cubicBezTo>
                <a:cubicBezTo>
                  <a:pt x="13345" y="8737"/>
                  <a:pt x="13355" y="8696"/>
                  <a:pt x="13370" y="8657"/>
                </a:cubicBezTo>
                <a:cubicBezTo>
                  <a:pt x="13400" y="8582"/>
                  <a:pt x="13412" y="8505"/>
                  <a:pt x="13444" y="8434"/>
                </a:cubicBezTo>
                <a:cubicBezTo>
                  <a:pt x="13467" y="8383"/>
                  <a:pt x="13488" y="8324"/>
                  <a:pt x="13519" y="8285"/>
                </a:cubicBezTo>
                <a:cubicBezTo>
                  <a:pt x="13527" y="8277"/>
                  <a:pt x="13535" y="8268"/>
                  <a:pt x="13543" y="8260"/>
                </a:cubicBezTo>
                <a:cubicBezTo>
                  <a:pt x="13581" y="8326"/>
                  <a:pt x="13593" y="8381"/>
                  <a:pt x="13593" y="8458"/>
                </a:cubicBezTo>
                <a:cubicBezTo>
                  <a:pt x="13593" y="8526"/>
                  <a:pt x="13590" y="8621"/>
                  <a:pt x="13618" y="8682"/>
                </a:cubicBezTo>
                <a:cubicBezTo>
                  <a:pt x="13631" y="8710"/>
                  <a:pt x="13674" y="8754"/>
                  <a:pt x="13692" y="8756"/>
                </a:cubicBezTo>
                <a:cubicBezTo>
                  <a:pt x="13787" y="8768"/>
                  <a:pt x="13798" y="8708"/>
                  <a:pt x="13841" y="8632"/>
                </a:cubicBezTo>
                <a:cubicBezTo>
                  <a:pt x="13869" y="8575"/>
                  <a:pt x="13880" y="8552"/>
                  <a:pt x="13891" y="8508"/>
                </a:cubicBezTo>
              </a:path>
              <a:path w="2134" h="1638">
                <a:moveTo>
                  <a:pt x="14039" y="7913"/>
                </a:moveTo>
                <a:cubicBezTo>
                  <a:pt x="14039" y="8180"/>
                  <a:pt x="14072" y="8474"/>
                  <a:pt x="14015" y="8731"/>
                </a:cubicBezTo>
                <a:cubicBezTo>
                  <a:pt x="14015" y="8739"/>
                  <a:pt x="14015" y="8748"/>
                  <a:pt x="14015" y="8756"/>
                </a:cubicBezTo>
              </a:path>
              <a:path w="2134" h="1638">
                <a:moveTo>
                  <a:pt x="13791" y="8260"/>
                </a:moveTo>
                <a:cubicBezTo>
                  <a:pt x="13861" y="8200"/>
                  <a:pt x="13893" y="8191"/>
                  <a:pt x="13990" y="8186"/>
                </a:cubicBezTo>
                <a:cubicBezTo>
                  <a:pt x="14041" y="8186"/>
                  <a:pt x="14060" y="8185"/>
                  <a:pt x="14089" y="81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97320" y="2874960"/>
            <a:ext cx="571680" cy="295200"/>
          </a:xfrm>
          <a:custGeom>
            <a:avLst/>
            <a:gdLst/>
            <a:ahLst/>
            <a:rect l="l" t="t" r="r" b="b"/>
            <a:pathLst>
              <a:path w="1589" h="820">
                <a:moveTo>
                  <a:pt x="14486" y="8161"/>
                </a:moveTo>
                <a:cubicBezTo>
                  <a:pt x="14509" y="8184"/>
                  <a:pt x="14520" y="8192"/>
                  <a:pt x="14486" y="8186"/>
                </a:cubicBezTo>
              </a:path>
              <a:path w="1589" h="820">
                <a:moveTo>
                  <a:pt x="14436" y="8483"/>
                </a:moveTo>
                <a:cubicBezTo>
                  <a:pt x="14436" y="8539"/>
                  <a:pt x="14421" y="8545"/>
                  <a:pt x="14461" y="8558"/>
                </a:cubicBezTo>
              </a:path>
              <a:path w="1589" h="820">
                <a:moveTo>
                  <a:pt x="14759" y="8409"/>
                </a:moveTo>
                <a:cubicBezTo>
                  <a:pt x="14753" y="8490"/>
                  <a:pt x="14734" y="8553"/>
                  <a:pt x="14734" y="8632"/>
                </a:cubicBezTo>
                <a:cubicBezTo>
                  <a:pt x="14734" y="8699"/>
                  <a:pt x="14742" y="8729"/>
                  <a:pt x="14759" y="8781"/>
                </a:cubicBezTo>
                <a:cubicBezTo>
                  <a:pt x="14777" y="8836"/>
                  <a:pt x="14759" y="8725"/>
                  <a:pt x="14759" y="8706"/>
                </a:cubicBezTo>
                <a:cubicBezTo>
                  <a:pt x="14759" y="8634"/>
                  <a:pt x="14720" y="8550"/>
                  <a:pt x="14734" y="8483"/>
                </a:cubicBezTo>
                <a:cubicBezTo>
                  <a:pt x="14742" y="8444"/>
                  <a:pt x="14761" y="8341"/>
                  <a:pt x="14784" y="8310"/>
                </a:cubicBezTo>
                <a:cubicBezTo>
                  <a:pt x="14830" y="8246"/>
                  <a:pt x="14898" y="8207"/>
                  <a:pt x="14957" y="8161"/>
                </a:cubicBezTo>
                <a:cubicBezTo>
                  <a:pt x="14985" y="8133"/>
                  <a:pt x="14999" y="8124"/>
                  <a:pt x="15032" y="8136"/>
                </a:cubicBezTo>
              </a:path>
              <a:path w="1589" h="820">
                <a:moveTo>
                  <a:pt x="15230" y="8409"/>
                </a:moveTo>
                <a:cubicBezTo>
                  <a:pt x="15203" y="8532"/>
                  <a:pt x="15213" y="8565"/>
                  <a:pt x="15230" y="8682"/>
                </a:cubicBezTo>
                <a:cubicBezTo>
                  <a:pt x="15239" y="8746"/>
                  <a:pt x="15219" y="8733"/>
                  <a:pt x="15255" y="8781"/>
                </a:cubicBezTo>
                <a:cubicBezTo>
                  <a:pt x="15255" y="8740"/>
                  <a:pt x="15255" y="8698"/>
                  <a:pt x="15255" y="8657"/>
                </a:cubicBezTo>
              </a:path>
              <a:path w="1589" h="820">
                <a:moveTo>
                  <a:pt x="15280" y="8012"/>
                </a:moveTo>
                <a:cubicBezTo>
                  <a:pt x="15288" y="8004"/>
                  <a:pt x="15296" y="7995"/>
                  <a:pt x="15304" y="7987"/>
                </a:cubicBezTo>
              </a:path>
              <a:path w="1589" h="820">
                <a:moveTo>
                  <a:pt x="15652" y="8210"/>
                </a:moveTo>
                <a:cubicBezTo>
                  <a:pt x="15605" y="8257"/>
                  <a:pt x="15560" y="8300"/>
                  <a:pt x="15503" y="8334"/>
                </a:cubicBezTo>
                <a:cubicBezTo>
                  <a:pt x="15445" y="8369"/>
                  <a:pt x="15430" y="8406"/>
                  <a:pt x="15478" y="8458"/>
                </a:cubicBezTo>
                <a:cubicBezTo>
                  <a:pt x="15532" y="8516"/>
                  <a:pt x="15607" y="8576"/>
                  <a:pt x="15652" y="8632"/>
                </a:cubicBezTo>
                <a:cubicBezTo>
                  <a:pt x="15695" y="8686"/>
                  <a:pt x="15681" y="8709"/>
                  <a:pt x="15652" y="8731"/>
                </a:cubicBezTo>
                <a:cubicBezTo>
                  <a:pt x="15597" y="8772"/>
                  <a:pt x="15559" y="8751"/>
                  <a:pt x="15503" y="8706"/>
                </a:cubicBezTo>
                <a:cubicBezTo>
                  <a:pt x="15474" y="8678"/>
                  <a:pt x="15466" y="8665"/>
                  <a:pt x="15478" y="8632"/>
                </a:cubicBezTo>
              </a:path>
              <a:path w="1589" h="820">
                <a:moveTo>
                  <a:pt x="15726" y="8508"/>
                </a:moveTo>
                <a:cubicBezTo>
                  <a:pt x="15810" y="8484"/>
                  <a:pt x="15884" y="8468"/>
                  <a:pt x="15949" y="8409"/>
                </a:cubicBezTo>
                <a:cubicBezTo>
                  <a:pt x="15982" y="8379"/>
                  <a:pt x="16040" y="8307"/>
                  <a:pt x="16024" y="8260"/>
                </a:cubicBezTo>
                <a:cubicBezTo>
                  <a:pt x="16009" y="8214"/>
                  <a:pt x="15941" y="8198"/>
                  <a:pt x="15900" y="8210"/>
                </a:cubicBezTo>
                <a:cubicBezTo>
                  <a:pt x="15830" y="8231"/>
                  <a:pt x="15775" y="8310"/>
                  <a:pt x="15726" y="8359"/>
                </a:cubicBezTo>
                <a:cubicBezTo>
                  <a:pt x="15657" y="8429"/>
                  <a:pt x="15652" y="8464"/>
                  <a:pt x="15652" y="8558"/>
                </a:cubicBezTo>
                <a:cubicBezTo>
                  <a:pt x="15652" y="8618"/>
                  <a:pt x="15685" y="8661"/>
                  <a:pt x="15726" y="8706"/>
                </a:cubicBezTo>
                <a:cubicBezTo>
                  <a:pt x="15777" y="8762"/>
                  <a:pt x="15823" y="8730"/>
                  <a:pt x="15875" y="8756"/>
                </a:cubicBezTo>
                <a:cubicBezTo>
                  <a:pt x="15932" y="8785"/>
                  <a:pt x="15913" y="8771"/>
                  <a:pt x="15974" y="87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30960" y="2776680"/>
            <a:ext cx="662040" cy="376200"/>
          </a:xfrm>
          <a:custGeom>
            <a:avLst/>
            <a:gdLst/>
            <a:ahLst/>
            <a:rect l="l" t="t" r="r" b="b"/>
            <a:pathLst>
              <a:path w="1836" h="1043">
                <a:moveTo>
                  <a:pt x="17711" y="7714"/>
                </a:moveTo>
                <a:cubicBezTo>
                  <a:pt x="17684" y="7830"/>
                  <a:pt x="17646" y="7944"/>
                  <a:pt x="17636" y="8062"/>
                </a:cubicBezTo>
                <a:cubicBezTo>
                  <a:pt x="17627" y="8170"/>
                  <a:pt x="17615" y="8278"/>
                  <a:pt x="17611" y="8384"/>
                </a:cubicBezTo>
                <a:cubicBezTo>
                  <a:pt x="17607" y="8478"/>
                  <a:pt x="17587" y="8561"/>
                  <a:pt x="17587" y="8657"/>
                </a:cubicBezTo>
                <a:cubicBezTo>
                  <a:pt x="17587" y="8677"/>
                  <a:pt x="17587" y="8794"/>
                  <a:pt x="17587" y="8731"/>
                </a:cubicBezTo>
              </a:path>
              <a:path w="1836" h="1043">
                <a:moveTo>
                  <a:pt x="17686" y="8508"/>
                </a:moveTo>
                <a:cubicBezTo>
                  <a:pt x="17757" y="8470"/>
                  <a:pt x="17842" y="8431"/>
                  <a:pt x="17909" y="8384"/>
                </a:cubicBezTo>
                <a:cubicBezTo>
                  <a:pt x="17970" y="8342"/>
                  <a:pt x="18012" y="8315"/>
                  <a:pt x="18058" y="8260"/>
                </a:cubicBezTo>
                <a:cubicBezTo>
                  <a:pt x="18088" y="8224"/>
                  <a:pt x="18083" y="8208"/>
                  <a:pt x="18083" y="8161"/>
                </a:cubicBezTo>
                <a:cubicBezTo>
                  <a:pt x="18032" y="8161"/>
                  <a:pt x="18007" y="8158"/>
                  <a:pt x="17959" y="8186"/>
                </a:cubicBezTo>
                <a:cubicBezTo>
                  <a:pt x="17870" y="8238"/>
                  <a:pt x="17854" y="8296"/>
                  <a:pt x="17810" y="8384"/>
                </a:cubicBezTo>
                <a:cubicBezTo>
                  <a:pt x="17772" y="8460"/>
                  <a:pt x="17789" y="8491"/>
                  <a:pt x="17810" y="8558"/>
                </a:cubicBezTo>
                <a:cubicBezTo>
                  <a:pt x="17822" y="8596"/>
                  <a:pt x="17837" y="8664"/>
                  <a:pt x="17884" y="8682"/>
                </a:cubicBezTo>
                <a:cubicBezTo>
                  <a:pt x="17985" y="8719"/>
                  <a:pt x="17999" y="8698"/>
                  <a:pt x="18083" y="8657"/>
                </a:cubicBezTo>
              </a:path>
              <a:path w="1836" h="1043">
                <a:moveTo>
                  <a:pt x="18678" y="7789"/>
                </a:moveTo>
                <a:cubicBezTo>
                  <a:pt x="18554" y="7807"/>
                  <a:pt x="18503" y="7817"/>
                  <a:pt x="18455" y="7938"/>
                </a:cubicBezTo>
                <a:cubicBezTo>
                  <a:pt x="18418" y="8031"/>
                  <a:pt x="18391" y="8138"/>
                  <a:pt x="18380" y="8235"/>
                </a:cubicBezTo>
                <a:cubicBezTo>
                  <a:pt x="18365" y="8367"/>
                  <a:pt x="18366" y="8541"/>
                  <a:pt x="18405" y="8657"/>
                </a:cubicBezTo>
                <a:cubicBezTo>
                  <a:pt x="18405" y="8692"/>
                  <a:pt x="18400" y="8691"/>
                  <a:pt x="18380" y="8632"/>
                </a:cubicBezTo>
              </a:path>
              <a:path w="1836" h="1043">
                <a:moveTo>
                  <a:pt x="18231" y="8359"/>
                </a:moveTo>
                <a:cubicBezTo>
                  <a:pt x="18298" y="8359"/>
                  <a:pt x="18344" y="8344"/>
                  <a:pt x="18405" y="8334"/>
                </a:cubicBezTo>
                <a:cubicBezTo>
                  <a:pt x="18463" y="8324"/>
                  <a:pt x="18520" y="8316"/>
                  <a:pt x="18579" y="8310"/>
                </a:cubicBezTo>
              </a:path>
              <a:path w="1836" h="1043">
                <a:moveTo>
                  <a:pt x="18976" y="7962"/>
                </a:moveTo>
                <a:cubicBezTo>
                  <a:pt x="18947" y="8092"/>
                  <a:pt x="18956" y="8234"/>
                  <a:pt x="18926" y="8359"/>
                </a:cubicBezTo>
                <a:cubicBezTo>
                  <a:pt x="18905" y="8445"/>
                  <a:pt x="18919" y="8470"/>
                  <a:pt x="18926" y="8558"/>
                </a:cubicBezTo>
                <a:cubicBezTo>
                  <a:pt x="18927" y="8574"/>
                  <a:pt x="18926" y="8696"/>
                  <a:pt x="18926" y="8632"/>
                </a:cubicBezTo>
              </a:path>
              <a:path w="1836" h="1043">
                <a:moveTo>
                  <a:pt x="18728" y="8310"/>
                </a:moveTo>
                <a:cubicBezTo>
                  <a:pt x="18832" y="8310"/>
                  <a:pt x="18877" y="8279"/>
                  <a:pt x="18976" y="8260"/>
                </a:cubicBezTo>
                <a:cubicBezTo>
                  <a:pt x="19034" y="8260"/>
                  <a:pt x="19059" y="8260"/>
                  <a:pt x="19100" y="8260"/>
                </a:cubicBezTo>
              </a:path>
              <a:path w="1836" h="1043">
                <a:moveTo>
                  <a:pt x="19422" y="8062"/>
                </a:moveTo>
                <a:cubicBezTo>
                  <a:pt x="19399" y="8084"/>
                  <a:pt x="19391" y="8089"/>
                  <a:pt x="19397" y="8111"/>
                </a:cubicBezTo>
              </a:path>
              <a:path w="1836" h="1043">
                <a:moveTo>
                  <a:pt x="19348" y="8434"/>
                </a:moveTo>
                <a:cubicBezTo>
                  <a:pt x="19348" y="8475"/>
                  <a:pt x="19340" y="8491"/>
                  <a:pt x="19372" y="84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88120" y="2813040"/>
            <a:ext cx="465120" cy="295200"/>
          </a:xfrm>
          <a:custGeom>
            <a:avLst/>
            <a:gdLst/>
            <a:ahLst/>
            <a:rect l="l" t="t" r="r" b="b"/>
            <a:pathLst>
              <a:path w="1291" h="820">
                <a:moveTo>
                  <a:pt x="20092" y="8359"/>
                </a:moveTo>
                <a:cubicBezTo>
                  <a:pt x="20078" y="8426"/>
                  <a:pt x="20049" y="8499"/>
                  <a:pt x="20042" y="8558"/>
                </a:cubicBezTo>
                <a:cubicBezTo>
                  <a:pt x="20042" y="8582"/>
                  <a:pt x="20042" y="8591"/>
                  <a:pt x="20042" y="8607"/>
                </a:cubicBezTo>
                <a:cubicBezTo>
                  <a:pt x="20002" y="8594"/>
                  <a:pt x="19997" y="8560"/>
                  <a:pt x="19993" y="8508"/>
                </a:cubicBezTo>
                <a:cubicBezTo>
                  <a:pt x="19987" y="8429"/>
                  <a:pt x="19957" y="8416"/>
                  <a:pt x="19993" y="8334"/>
                </a:cubicBezTo>
                <a:cubicBezTo>
                  <a:pt x="20016" y="8281"/>
                  <a:pt x="20076" y="8196"/>
                  <a:pt x="20117" y="8161"/>
                </a:cubicBezTo>
                <a:cubicBezTo>
                  <a:pt x="20157" y="8127"/>
                  <a:pt x="20266" y="8080"/>
                  <a:pt x="20315" y="8062"/>
                </a:cubicBezTo>
                <a:cubicBezTo>
                  <a:pt x="20348" y="8054"/>
                  <a:pt x="20381" y="8045"/>
                  <a:pt x="20414" y="8037"/>
                </a:cubicBezTo>
              </a:path>
              <a:path w="1291" h="820">
                <a:moveTo>
                  <a:pt x="20464" y="8210"/>
                </a:moveTo>
                <a:cubicBezTo>
                  <a:pt x="20464" y="8326"/>
                  <a:pt x="20464" y="8442"/>
                  <a:pt x="20464" y="8558"/>
                </a:cubicBezTo>
                <a:cubicBezTo>
                  <a:pt x="20464" y="8508"/>
                  <a:pt x="20464" y="8459"/>
                  <a:pt x="20464" y="8409"/>
                </a:cubicBezTo>
              </a:path>
              <a:path w="1291" h="820">
                <a:moveTo>
                  <a:pt x="20439" y="7863"/>
                </a:moveTo>
                <a:cubicBezTo>
                  <a:pt x="20483" y="7841"/>
                  <a:pt x="20494" y="7838"/>
                  <a:pt x="20513" y="7813"/>
                </a:cubicBezTo>
              </a:path>
              <a:path w="1291" h="820">
                <a:moveTo>
                  <a:pt x="20836" y="8037"/>
                </a:moveTo>
                <a:cubicBezTo>
                  <a:pt x="20815" y="8093"/>
                  <a:pt x="20767" y="8171"/>
                  <a:pt x="20786" y="8235"/>
                </a:cubicBezTo>
                <a:cubicBezTo>
                  <a:pt x="20808" y="8309"/>
                  <a:pt x="20848" y="8383"/>
                  <a:pt x="20861" y="8458"/>
                </a:cubicBezTo>
                <a:cubicBezTo>
                  <a:pt x="20870" y="8513"/>
                  <a:pt x="20858" y="8595"/>
                  <a:pt x="20811" y="8632"/>
                </a:cubicBezTo>
                <a:cubicBezTo>
                  <a:pt x="20782" y="8655"/>
                  <a:pt x="20704" y="8595"/>
                  <a:pt x="20687" y="8582"/>
                </a:cubicBezTo>
                <a:cubicBezTo>
                  <a:pt x="20645" y="8551"/>
                  <a:pt x="20644" y="8482"/>
                  <a:pt x="20638" y="8434"/>
                </a:cubicBezTo>
              </a:path>
              <a:path w="1291" h="820">
                <a:moveTo>
                  <a:pt x="20886" y="8285"/>
                </a:moveTo>
                <a:cubicBezTo>
                  <a:pt x="21076" y="8233"/>
                  <a:pt x="21091" y="8259"/>
                  <a:pt x="21183" y="8136"/>
                </a:cubicBezTo>
                <a:cubicBezTo>
                  <a:pt x="21212" y="8098"/>
                  <a:pt x="21260" y="8042"/>
                  <a:pt x="21233" y="7987"/>
                </a:cubicBezTo>
                <a:cubicBezTo>
                  <a:pt x="21225" y="7979"/>
                  <a:pt x="21216" y="7970"/>
                  <a:pt x="21208" y="7962"/>
                </a:cubicBezTo>
                <a:cubicBezTo>
                  <a:pt x="21154" y="7962"/>
                  <a:pt x="21095" y="7997"/>
                  <a:pt x="21059" y="8037"/>
                </a:cubicBezTo>
                <a:cubicBezTo>
                  <a:pt x="20994" y="8110"/>
                  <a:pt x="20995" y="8184"/>
                  <a:pt x="20960" y="8260"/>
                </a:cubicBezTo>
                <a:cubicBezTo>
                  <a:pt x="20945" y="8292"/>
                  <a:pt x="20945" y="8371"/>
                  <a:pt x="20985" y="8409"/>
                </a:cubicBezTo>
                <a:cubicBezTo>
                  <a:pt x="21032" y="8453"/>
                  <a:pt x="21105" y="8492"/>
                  <a:pt x="21158" y="8508"/>
                </a:cubicBezTo>
                <a:cubicBezTo>
                  <a:pt x="21187" y="8517"/>
                  <a:pt x="21227" y="8508"/>
                  <a:pt x="21258" y="85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73680" y="3483000"/>
            <a:ext cx="928440" cy="571320"/>
          </a:xfrm>
          <a:custGeom>
            <a:avLst/>
            <a:gdLst/>
            <a:ahLst/>
            <a:rect l="l" t="t" r="r" b="b"/>
            <a:pathLst>
              <a:path w="2581" h="1588">
                <a:moveTo>
                  <a:pt x="11063" y="10393"/>
                </a:moveTo>
                <a:cubicBezTo>
                  <a:pt x="11063" y="10432"/>
                  <a:pt x="11063" y="10609"/>
                  <a:pt x="11063" y="10567"/>
                </a:cubicBezTo>
                <a:cubicBezTo>
                  <a:pt x="11063" y="10514"/>
                  <a:pt x="11047" y="10493"/>
                  <a:pt x="11038" y="10443"/>
                </a:cubicBezTo>
                <a:cubicBezTo>
                  <a:pt x="11025" y="10372"/>
                  <a:pt x="11052" y="10332"/>
                  <a:pt x="11063" y="10269"/>
                </a:cubicBezTo>
                <a:cubicBezTo>
                  <a:pt x="11079" y="10177"/>
                  <a:pt x="11112" y="10197"/>
                  <a:pt x="11187" y="10145"/>
                </a:cubicBezTo>
                <a:cubicBezTo>
                  <a:pt x="11266" y="10090"/>
                  <a:pt x="11290" y="10071"/>
                  <a:pt x="11385" y="10071"/>
                </a:cubicBezTo>
                <a:cubicBezTo>
                  <a:pt x="11451" y="10071"/>
                  <a:pt x="11518" y="10071"/>
                  <a:pt x="11584" y="10071"/>
                </a:cubicBezTo>
              </a:path>
              <a:path w="2581" h="1588">
                <a:moveTo>
                  <a:pt x="11757" y="10046"/>
                </a:moveTo>
                <a:cubicBezTo>
                  <a:pt x="11757" y="10157"/>
                  <a:pt x="11771" y="10607"/>
                  <a:pt x="11733" y="10542"/>
                </a:cubicBezTo>
              </a:path>
              <a:path w="2581" h="1588">
                <a:moveTo>
                  <a:pt x="11807" y="9699"/>
                </a:moveTo>
                <a:cubicBezTo>
                  <a:pt x="11857" y="9677"/>
                  <a:pt x="11858" y="9674"/>
                  <a:pt x="11906" y="9674"/>
                </a:cubicBezTo>
              </a:path>
              <a:path w="2581" h="1588">
                <a:moveTo>
                  <a:pt x="12179" y="10220"/>
                </a:moveTo>
                <a:cubicBezTo>
                  <a:pt x="12216" y="10293"/>
                  <a:pt x="12233" y="10298"/>
                  <a:pt x="12229" y="10344"/>
                </a:cubicBezTo>
                <a:cubicBezTo>
                  <a:pt x="12229" y="10226"/>
                  <a:pt x="12241" y="10106"/>
                  <a:pt x="12204" y="9996"/>
                </a:cubicBezTo>
                <a:cubicBezTo>
                  <a:pt x="12204" y="9961"/>
                  <a:pt x="12199" y="9944"/>
                  <a:pt x="12179" y="9922"/>
                </a:cubicBezTo>
                <a:cubicBezTo>
                  <a:pt x="12125" y="9935"/>
                  <a:pt x="12092" y="9940"/>
                  <a:pt x="12055" y="9996"/>
                </a:cubicBezTo>
                <a:cubicBezTo>
                  <a:pt x="12016" y="10055"/>
                  <a:pt x="11985" y="10099"/>
                  <a:pt x="11981" y="10170"/>
                </a:cubicBezTo>
                <a:cubicBezTo>
                  <a:pt x="11977" y="10252"/>
                  <a:pt x="12004" y="10299"/>
                  <a:pt x="12055" y="10344"/>
                </a:cubicBezTo>
                <a:cubicBezTo>
                  <a:pt x="12099" y="10383"/>
                  <a:pt x="12134" y="10417"/>
                  <a:pt x="12179" y="10443"/>
                </a:cubicBezTo>
                <a:cubicBezTo>
                  <a:pt x="12216" y="10416"/>
                  <a:pt x="12220" y="10406"/>
                  <a:pt x="12254" y="10368"/>
                </a:cubicBezTo>
                <a:cubicBezTo>
                  <a:pt x="12288" y="10330"/>
                  <a:pt x="12278" y="10293"/>
                  <a:pt x="12278" y="10244"/>
                </a:cubicBezTo>
                <a:cubicBezTo>
                  <a:pt x="12278" y="10211"/>
                  <a:pt x="12278" y="10178"/>
                  <a:pt x="12278" y="10145"/>
                </a:cubicBezTo>
                <a:cubicBezTo>
                  <a:pt x="12260" y="10176"/>
                  <a:pt x="12234" y="10230"/>
                  <a:pt x="12229" y="10269"/>
                </a:cubicBezTo>
                <a:cubicBezTo>
                  <a:pt x="12208" y="10431"/>
                  <a:pt x="12243" y="10605"/>
                  <a:pt x="12254" y="10765"/>
                </a:cubicBezTo>
                <a:cubicBezTo>
                  <a:pt x="12263" y="10886"/>
                  <a:pt x="12244" y="10996"/>
                  <a:pt x="12229" y="11112"/>
                </a:cubicBezTo>
                <a:cubicBezTo>
                  <a:pt x="12219" y="11189"/>
                  <a:pt x="12163" y="11243"/>
                  <a:pt x="12080" y="11261"/>
                </a:cubicBezTo>
                <a:cubicBezTo>
                  <a:pt x="12001" y="11278"/>
                  <a:pt x="11918" y="11197"/>
                  <a:pt x="11857" y="11162"/>
                </a:cubicBezTo>
                <a:cubicBezTo>
                  <a:pt x="11716" y="11081"/>
                  <a:pt x="11761" y="10875"/>
                  <a:pt x="11757" y="10740"/>
                </a:cubicBezTo>
              </a:path>
              <a:path w="2581" h="1588">
                <a:moveTo>
                  <a:pt x="12477" y="9699"/>
                </a:moveTo>
                <a:cubicBezTo>
                  <a:pt x="12493" y="9868"/>
                  <a:pt x="12502" y="10026"/>
                  <a:pt x="12502" y="10195"/>
                </a:cubicBezTo>
                <a:cubicBezTo>
                  <a:pt x="12502" y="10286"/>
                  <a:pt x="12504" y="10365"/>
                  <a:pt x="12526" y="10443"/>
                </a:cubicBezTo>
                <a:cubicBezTo>
                  <a:pt x="12526" y="10451"/>
                  <a:pt x="12526" y="10460"/>
                  <a:pt x="12526" y="10468"/>
                </a:cubicBezTo>
                <a:cubicBezTo>
                  <a:pt x="12552" y="10407"/>
                  <a:pt x="12549" y="10355"/>
                  <a:pt x="12576" y="10294"/>
                </a:cubicBezTo>
                <a:cubicBezTo>
                  <a:pt x="12602" y="10236"/>
                  <a:pt x="12604" y="10177"/>
                  <a:pt x="12626" y="10120"/>
                </a:cubicBezTo>
                <a:cubicBezTo>
                  <a:pt x="12650" y="10059"/>
                  <a:pt x="12650" y="10061"/>
                  <a:pt x="12650" y="9996"/>
                </a:cubicBezTo>
                <a:cubicBezTo>
                  <a:pt x="12696" y="10031"/>
                  <a:pt x="12714" y="10126"/>
                  <a:pt x="12725" y="10195"/>
                </a:cubicBezTo>
                <a:cubicBezTo>
                  <a:pt x="12742" y="10303"/>
                  <a:pt x="12775" y="10352"/>
                  <a:pt x="12849" y="10418"/>
                </a:cubicBezTo>
                <a:cubicBezTo>
                  <a:pt x="12872" y="10439"/>
                  <a:pt x="12983" y="10520"/>
                  <a:pt x="13022" y="10517"/>
                </a:cubicBezTo>
                <a:cubicBezTo>
                  <a:pt x="13048" y="10515"/>
                  <a:pt x="13067" y="10482"/>
                  <a:pt x="13072" y="10468"/>
                </a:cubicBezTo>
              </a:path>
              <a:path w="2581" h="1588">
                <a:moveTo>
                  <a:pt x="13122" y="9748"/>
                </a:moveTo>
                <a:cubicBezTo>
                  <a:pt x="13110" y="9809"/>
                  <a:pt x="13097" y="9855"/>
                  <a:pt x="13097" y="9922"/>
                </a:cubicBezTo>
                <a:cubicBezTo>
                  <a:pt x="13097" y="10019"/>
                  <a:pt x="13097" y="10127"/>
                  <a:pt x="13122" y="10220"/>
                </a:cubicBezTo>
                <a:cubicBezTo>
                  <a:pt x="13139" y="10284"/>
                  <a:pt x="13170" y="10387"/>
                  <a:pt x="13196" y="10443"/>
                </a:cubicBezTo>
                <a:cubicBezTo>
                  <a:pt x="13214" y="10483"/>
                  <a:pt x="13221" y="10470"/>
                  <a:pt x="13221" y="10517"/>
                </a:cubicBezTo>
              </a:path>
              <a:path w="2581" h="1588">
                <a:moveTo>
                  <a:pt x="12898" y="9897"/>
                </a:moveTo>
                <a:cubicBezTo>
                  <a:pt x="12997" y="9843"/>
                  <a:pt x="13033" y="9847"/>
                  <a:pt x="13146" y="9847"/>
                </a:cubicBezTo>
                <a:cubicBezTo>
                  <a:pt x="13204" y="9847"/>
                  <a:pt x="13229" y="9847"/>
                  <a:pt x="13271" y="9847"/>
                </a:cubicBezTo>
              </a:path>
              <a:path w="2581" h="1588">
                <a:moveTo>
                  <a:pt x="13593" y="9748"/>
                </a:moveTo>
                <a:cubicBezTo>
                  <a:pt x="13621" y="9776"/>
                  <a:pt x="13630" y="9790"/>
                  <a:pt x="13618" y="9823"/>
                </a:cubicBezTo>
              </a:path>
              <a:path w="2581" h="1588">
                <a:moveTo>
                  <a:pt x="13543" y="10195"/>
                </a:moveTo>
                <a:cubicBezTo>
                  <a:pt x="13587" y="10217"/>
                  <a:pt x="13599" y="10230"/>
                  <a:pt x="13618" y="101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81760" y="3330720"/>
            <a:ext cx="652320" cy="438120"/>
          </a:xfrm>
          <a:custGeom>
            <a:avLst/>
            <a:gdLst/>
            <a:ahLst/>
            <a:rect l="l" t="t" r="r" b="b"/>
            <a:pathLst>
              <a:path w="1812" h="1217">
                <a:moveTo>
                  <a:pt x="14610" y="9550"/>
                </a:moveTo>
                <a:cubicBezTo>
                  <a:pt x="14599" y="9487"/>
                  <a:pt x="14587" y="9427"/>
                  <a:pt x="14560" y="9376"/>
                </a:cubicBezTo>
                <a:cubicBezTo>
                  <a:pt x="14539" y="9336"/>
                  <a:pt x="14494" y="9263"/>
                  <a:pt x="14461" y="9252"/>
                </a:cubicBezTo>
                <a:cubicBezTo>
                  <a:pt x="14393" y="9229"/>
                  <a:pt x="14348" y="9261"/>
                  <a:pt x="14312" y="9302"/>
                </a:cubicBezTo>
                <a:cubicBezTo>
                  <a:pt x="14267" y="9352"/>
                  <a:pt x="14245" y="9459"/>
                  <a:pt x="14238" y="9525"/>
                </a:cubicBezTo>
                <a:cubicBezTo>
                  <a:pt x="14226" y="9637"/>
                  <a:pt x="14255" y="9741"/>
                  <a:pt x="14263" y="9847"/>
                </a:cubicBezTo>
                <a:cubicBezTo>
                  <a:pt x="14279" y="10043"/>
                  <a:pt x="14234" y="10264"/>
                  <a:pt x="14288" y="10443"/>
                </a:cubicBezTo>
                <a:cubicBezTo>
                  <a:pt x="14288" y="10451"/>
                  <a:pt x="14288" y="10460"/>
                  <a:pt x="14288" y="10468"/>
                </a:cubicBezTo>
              </a:path>
              <a:path w="1812" h="1217">
                <a:moveTo>
                  <a:pt x="14114" y="9971"/>
                </a:moveTo>
                <a:cubicBezTo>
                  <a:pt x="14234" y="9920"/>
                  <a:pt x="14303" y="9922"/>
                  <a:pt x="14436" y="9922"/>
                </a:cubicBezTo>
                <a:cubicBezTo>
                  <a:pt x="14469" y="9922"/>
                  <a:pt x="14503" y="9922"/>
                  <a:pt x="14536" y="9922"/>
                </a:cubicBezTo>
              </a:path>
              <a:path w="1812" h="1217">
                <a:moveTo>
                  <a:pt x="14684" y="9922"/>
                </a:moveTo>
                <a:cubicBezTo>
                  <a:pt x="14635" y="9971"/>
                  <a:pt x="14529" y="10045"/>
                  <a:pt x="14511" y="10120"/>
                </a:cubicBezTo>
                <a:cubicBezTo>
                  <a:pt x="14489" y="10213"/>
                  <a:pt x="14523" y="10222"/>
                  <a:pt x="14585" y="10269"/>
                </a:cubicBezTo>
                <a:cubicBezTo>
                  <a:pt x="14614" y="10290"/>
                  <a:pt x="14666" y="10343"/>
                  <a:pt x="14709" y="10319"/>
                </a:cubicBezTo>
                <a:cubicBezTo>
                  <a:pt x="14756" y="10293"/>
                  <a:pt x="14819" y="10253"/>
                  <a:pt x="14833" y="10195"/>
                </a:cubicBezTo>
                <a:cubicBezTo>
                  <a:pt x="14845" y="10142"/>
                  <a:pt x="14838" y="10081"/>
                  <a:pt x="14833" y="10046"/>
                </a:cubicBezTo>
                <a:cubicBezTo>
                  <a:pt x="14833" y="10029"/>
                  <a:pt x="14833" y="10013"/>
                  <a:pt x="14833" y="9996"/>
                </a:cubicBezTo>
                <a:cubicBezTo>
                  <a:pt x="14803" y="10064"/>
                  <a:pt x="14763" y="10142"/>
                  <a:pt x="14784" y="10220"/>
                </a:cubicBezTo>
                <a:cubicBezTo>
                  <a:pt x="14805" y="10298"/>
                  <a:pt x="14856" y="10345"/>
                  <a:pt x="14932" y="10368"/>
                </a:cubicBezTo>
                <a:cubicBezTo>
                  <a:pt x="14940" y="10368"/>
                  <a:pt x="14949" y="10368"/>
                  <a:pt x="14957" y="10368"/>
                </a:cubicBezTo>
              </a:path>
              <a:path w="1812" h="1217">
                <a:moveTo>
                  <a:pt x="15106" y="9327"/>
                </a:moveTo>
                <a:cubicBezTo>
                  <a:pt x="15065" y="9354"/>
                  <a:pt x="15059" y="9562"/>
                  <a:pt x="15056" y="9599"/>
                </a:cubicBezTo>
                <a:cubicBezTo>
                  <a:pt x="15045" y="9756"/>
                  <a:pt x="15051" y="9917"/>
                  <a:pt x="15081" y="10071"/>
                </a:cubicBezTo>
                <a:cubicBezTo>
                  <a:pt x="15100" y="10168"/>
                  <a:pt x="15125" y="10304"/>
                  <a:pt x="15156" y="10393"/>
                </a:cubicBezTo>
                <a:cubicBezTo>
                  <a:pt x="15177" y="10453"/>
                  <a:pt x="15173" y="10429"/>
                  <a:pt x="15205" y="10418"/>
                </a:cubicBezTo>
              </a:path>
              <a:path w="1812" h="1217">
                <a:moveTo>
                  <a:pt x="15379" y="9401"/>
                </a:moveTo>
                <a:cubicBezTo>
                  <a:pt x="15362" y="9582"/>
                  <a:pt x="15330" y="9787"/>
                  <a:pt x="15354" y="9971"/>
                </a:cubicBezTo>
                <a:cubicBezTo>
                  <a:pt x="15370" y="10089"/>
                  <a:pt x="15399" y="10201"/>
                  <a:pt x="15404" y="10319"/>
                </a:cubicBezTo>
                <a:cubicBezTo>
                  <a:pt x="15407" y="10378"/>
                  <a:pt x="15406" y="10394"/>
                  <a:pt x="15453" y="10418"/>
                </a:cubicBezTo>
              </a:path>
              <a:path w="1812" h="1217">
                <a:moveTo>
                  <a:pt x="15801" y="9847"/>
                </a:moveTo>
                <a:cubicBezTo>
                  <a:pt x="15733" y="9853"/>
                  <a:pt x="15540" y="9825"/>
                  <a:pt x="15602" y="9971"/>
                </a:cubicBezTo>
                <a:cubicBezTo>
                  <a:pt x="15638" y="10057"/>
                  <a:pt x="15736" y="10108"/>
                  <a:pt x="15801" y="10170"/>
                </a:cubicBezTo>
                <a:cubicBezTo>
                  <a:pt x="15846" y="10213"/>
                  <a:pt x="15918" y="10280"/>
                  <a:pt x="15925" y="10344"/>
                </a:cubicBezTo>
                <a:cubicBezTo>
                  <a:pt x="15925" y="10352"/>
                  <a:pt x="15925" y="10360"/>
                  <a:pt x="15925" y="10368"/>
                </a:cubicBezTo>
                <a:cubicBezTo>
                  <a:pt x="15874" y="10406"/>
                  <a:pt x="15861" y="10396"/>
                  <a:pt x="15801" y="10368"/>
                </a:cubicBezTo>
                <a:cubicBezTo>
                  <a:pt x="15751" y="10345"/>
                  <a:pt x="15722" y="10336"/>
                  <a:pt x="15701" y="102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67320" y="3384720"/>
            <a:ext cx="633600" cy="438120"/>
          </a:xfrm>
          <a:custGeom>
            <a:avLst/>
            <a:gdLst/>
            <a:ahLst/>
            <a:rect l="l" t="t" r="r" b="b"/>
            <a:pathLst>
              <a:path w="1762" h="1216">
                <a:moveTo>
                  <a:pt x="17686" y="9773"/>
                </a:moveTo>
                <a:cubicBezTo>
                  <a:pt x="17692" y="9963"/>
                  <a:pt x="17708" y="10111"/>
                  <a:pt x="17760" y="10294"/>
                </a:cubicBezTo>
                <a:cubicBezTo>
                  <a:pt x="17784" y="10378"/>
                  <a:pt x="17805" y="10442"/>
                  <a:pt x="17835" y="10517"/>
                </a:cubicBezTo>
                <a:cubicBezTo>
                  <a:pt x="17835" y="10545"/>
                  <a:pt x="17837" y="10556"/>
                  <a:pt x="17859" y="10567"/>
                </a:cubicBezTo>
              </a:path>
              <a:path w="1762" h="1216">
                <a:moveTo>
                  <a:pt x="17959" y="10244"/>
                </a:moveTo>
                <a:cubicBezTo>
                  <a:pt x="18066" y="10228"/>
                  <a:pt x="18203" y="10223"/>
                  <a:pt x="18306" y="10195"/>
                </a:cubicBezTo>
                <a:cubicBezTo>
                  <a:pt x="18370" y="10177"/>
                  <a:pt x="18400" y="10123"/>
                  <a:pt x="18430" y="10071"/>
                </a:cubicBezTo>
                <a:cubicBezTo>
                  <a:pt x="18391" y="10042"/>
                  <a:pt x="18334" y="10031"/>
                  <a:pt x="18281" y="10046"/>
                </a:cubicBezTo>
                <a:cubicBezTo>
                  <a:pt x="18187" y="10072"/>
                  <a:pt x="18141" y="10110"/>
                  <a:pt x="18083" y="10195"/>
                </a:cubicBezTo>
                <a:cubicBezTo>
                  <a:pt x="18044" y="10253"/>
                  <a:pt x="17983" y="10344"/>
                  <a:pt x="18008" y="10418"/>
                </a:cubicBezTo>
                <a:cubicBezTo>
                  <a:pt x="18044" y="10525"/>
                  <a:pt x="18167" y="10514"/>
                  <a:pt x="18256" y="10517"/>
                </a:cubicBezTo>
                <a:cubicBezTo>
                  <a:pt x="18332" y="10517"/>
                  <a:pt x="18358" y="10517"/>
                  <a:pt x="18405" y="10492"/>
                </a:cubicBezTo>
              </a:path>
              <a:path w="1762" h="1216">
                <a:moveTo>
                  <a:pt x="19075" y="9475"/>
                </a:moveTo>
                <a:cubicBezTo>
                  <a:pt x="19048" y="9414"/>
                  <a:pt x="19028" y="9359"/>
                  <a:pt x="18951" y="9426"/>
                </a:cubicBezTo>
                <a:cubicBezTo>
                  <a:pt x="18863" y="9503"/>
                  <a:pt x="18720" y="9645"/>
                  <a:pt x="18703" y="9773"/>
                </a:cubicBezTo>
                <a:cubicBezTo>
                  <a:pt x="18688" y="9884"/>
                  <a:pt x="18697" y="10014"/>
                  <a:pt x="18728" y="10120"/>
                </a:cubicBezTo>
                <a:cubicBezTo>
                  <a:pt x="18751" y="10200"/>
                  <a:pt x="18789" y="10297"/>
                  <a:pt x="18802" y="10368"/>
                </a:cubicBezTo>
                <a:cubicBezTo>
                  <a:pt x="18802" y="10410"/>
                  <a:pt x="18802" y="10418"/>
                  <a:pt x="18802" y="10443"/>
                </a:cubicBezTo>
              </a:path>
              <a:path w="1762" h="1216">
                <a:moveTo>
                  <a:pt x="18529" y="10120"/>
                </a:moveTo>
                <a:cubicBezTo>
                  <a:pt x="18650" y="10153"/>
                  <a:pt x="18779" y="10168"/>
                  <a:pt x="18901" y="10120"/>
                </a:cubicBezTo>
                <a:cubicBezTo>
                  <a:pt x="18972" y="10074"/>
                  <a:pt x="18991" y="10058"/>
                  <a:pt x="19050" y="10071"/>
                </a:cubicBezTo>
              </a:path>
              <a:path w="1762" h="1216">
                <a:moveTo>
                  <a:pt x="19323" y="9674"/>
                </a:moveTo>
                <a:cubicBezTo>
                  <a:pt x="19309" y="9813"/>
                  <a:pt x="19298" y="9908"/>
                  <a:pt x="19298" y="10071"/>
                </a:cubicBezTo>
                <a:cubicBezTo>
                  <a:pt x="19298" y="10207"/>
                  <a:pt x="19307" y="10313"/>
                  <a:pt x="19348" y="10443"/>
                </a:cubicBezTo>
                <a:cubicBezTo>
                  <a:pt x="19372" y="10518"/>
                  <a:pt x="19397" y="10540"/>
                  <a:pt x="19397" y="10616"/>
                </a:cubicBezTo>
              </a:path>
              <a:path w="1762" h="1216">
                <a:moveTo>
                  <a:pt x="19000" y="10145"/>
                </a:moveTo>
                <a:cubicBezTo>
                  <a:pt x="19005" y="10130"/>
                  <a:pt x="19099" y="10077"/>
                  <a:pt x="19124" y="10071"/>
                </a:cubicBezTo>
                <a:cubicBezTo>
                  <a:pt x="19218" y="10047"/>
                  <a:pt x="19350" y="10071"/>
                  <a:pt x="19447" y="100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134120" y="3562200"/>
            <a:ext cx="27000" cy="152640"/>
          </a:xfrm>
          <a:custGeom>
            <a:avLst/>
            <a:gdLst/>
            <a:ahLst/>
            <a:rect l="l" t="t" r="r" b="b"/>
            <a:pathLst>
              <a:path w="75" h="423">
                <a:moveTo>
                  <a:pt x="19819" y="9897"/>
                </a:moveTo>
                <a:cubicBezTo>
                  <a:pt x="19819" y="9943"/>
                  <a:pt x="19860" y="9929"/>
                  <a:pt x="19819" y="9996"/>
                </a:cubicBezTo>
              </a:path>
              <a:path w="75" h="423">
                <a:moveTo>
                  <a:pt x="19844" y="10294"/>
                </a:moveTo>
                <a:cubicBezTo>
                  <a:pt x="19844" y="10343"/>
                  <a:pt x="19884" y="10321"/>
                  <a:pt x="19893" y="102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296120" y="3463920"/>
            <a:ext cx="625680" cy="331920"/>
          </a:xfrm>
          <a:custGeom>
            <a:avLst/>
            <a:gdLst/>
            <a:ahLst/>
            <a:rect l="l" t="t" r="r" b="b"/>
            <a:pathLst>
              <a:path w="1738" h="919">
                <a:moveTo>
                  <a:pt x="20265" y="10046"/>
                </a:moveTo>
                <a:cubicBezTo>
                  <a:pt x="20287" y="10147"/>
                  <a:pt x="20310" y="10242"/>
                  <a:pt x="20315" y="10344"/>
                </a:cubicBezTo>
                <a:cubicBezTo>
                  <a:pt x="20318" y="10408"/>
                  <a:pt x="20334" y="10457"/>
                  <a:pt x="20340" y="10517"/>
                </a:cubicBezTo>
                <a:cubicBezTo>
                  <a:pt x="20340" y="10525"/>
                  <a:pt x="20340" y="10534"/>
                  <a:pt x="20340" y="10542"/>
                </a:cubicBezTo>
                <a:cubicBezTo>
                  <a:pt x="20340" y="10489"/>
                  <a:pt x="20324" y="10469"/>
                  <a:pt x="20315" y="10418"/>
                </a:cubicBezTo>
                <a:cubicBezTo>
                  <a:pt x="20303" y="10347"/>
                  <a:pt x="20294" y="10266"/>
                  <a:pt x="20290" y="10195"/>
                </a:cubicBezTo>
                <a:cubicBezTo>
                  <a:pt x="20288" y="10148"/>
                  <a:pt x="20301" y="10032"/>
                  <a:pt x="20340" y="9996"/>
                </a:cubicBezTo>
                <a:cubicBezTo>
                  <a:pt x="20424" y="9917"/>
                  <a:pt x="20556" y="9893"/>
                  <a:pt x="20662" y="9847"/>
                </a:cubicBezTo>
              </a:path>
              <a:path w="1738" h="919">
                <a:moveTo>
                  <a:pt x="20811" y="9996"/>
                </a:moveTo>
                <a:cubicBezTo>
                  <a:pt x="20816" y="10099"/>
                  <a:pt x="20811" y="10241"/>
                  <a:pt x="20836" y="10344"/>
                </a:cubicBezTo>
                <a:cubicBezTo>
                  <a:pt x="20847" y="10389"/>
                  <a:pt x="20853" y="10501"/>
                  <a:pt x="20886" y="10468"/>
                </a:cubicBezTo>
                <a:cubicBezTo>
                  <a:pt x="20886" y="10460"/>
                  <a:pt x="20886" y="10451"/>
                  <a:pt x="20886" y="10443"/>
                </a:cubicBezTo>
              </a:path>
              <a:path w="1738" h="919">
                <a:moveTo>
                  <a:pt x="20836" y="9748"/>
                </a:moveTo>
                <a:cubicBezTo>
                  <a:pt x="20843" y="9674"/>
                  <a:pt x="20826" y="9654"/>
                  <a:pt x="20886" y="9624"/>
                </a:cubicBezTo>
              </a:path>
              <a:path w="1738" h="919">
                <a:moveTo>
                  <a:pt x="21109" y="9773"/>
                </a:moveTo>
                <a:cubicBezTo>
                  <a:pt x="21109" y="9872"/>
                  <a:pt x="21105" y="9952"/>
                  <a:pt x="21134" y="10046"/>
                </a:cubicBezTo>
                <a:cubicBezTo>
                  <a:pt x="21165" y="10149"/>
                  <a:pt x="21202" y="10249"/>
                  <a:pt x="21233" y="10344"/>
                </a:cubicBezTo>
                <a:cubicBezTo>
                  <a:pt x="21246" y="10384"/>
                  <a:pt x="21263" y="10465"/>
                  <a:pt x="21208" y="10492"/>
                </a:cubicBezTo>
                <a:cubicBezTo>
                  <a:pt x="21171" y="10510"/>
                  <a:pt x="21109" y="10461"/>
                  <a:pt x="21084" y="10443"/>
                </a:cubicBezTo>
                <a:cubicBezTo>
                  <a:pt x="21041" y="10400"/>
                  <a:pt x="21022" y="10370"/>
                  <a:pt x="21010" y="10319"/>
                </a:cubicBezTo>
              </a:path>
              <a:path w="1738" h="919">
                <a:moveTo>
                  <a:pt x="21282" y="10071"/>
                </a:moveTo>
                <a:cubicBezTo>
                  <a:pt x="21394" y="10064"/>
                  <a:pt x="21465" y="10063"/>
                  <a:pt x="21555" y="9996"/>
                </a:cubicBezTo>
                <a:cubicBezTo>
                  <a:pt x="21609" y="9956"/>
                  <a:pt x="21656" y="9894"/>
                  <a:pt x="21704" y="9847"/>
                </a:cubicBezTo>
                <a:cubicBezTo>
                  <a:pt x="21733" y="9819"/>
                  <a:pt x="21741" y="9806"/>
                  <a:pt x="21729" y="9773"/>
                </a:cubicBezTo>
                <a:cubicBezTo>
                  <a:pt x="21619" y="9773"/>
                  <a:pt x="21646" y="9801"/>
                  <a:pt x="21555" y="9847"/>
                </a:cubicBezTo>
                <a:cubicBezTo>
                  <a:pt x="21467" y="9891"/>
                  <a:pt x="21455" y="9927"/>
                  <a:pt x="21431" y="10046"/>
                </a:cubicBezTo>
                <a:cubicBezTo>
                  <a:pt x="21424" y="10081"/>
                  <a:pt x="21480" y="10196"/>
                  <a:pt x="21506" y="10220"/>
                </a:cubicBezTo>
                <a:cubicBezTo>
                  <a:pt x="21571" y="10280"/>
                  <a:pt x="21673" y="10354"/>
                  <a:pt x="21754" y="10393"/>
                </a:cubicBezTo>
                <a:cubicBezTo>
                  <a:pt x="21817" y="10423"/>
                  <a:pt x="21909" y="10447"/>
                  <a:pt x="21977" y="10468"/>
                </a:cubicBezTo>
                <a:cubicBezTo>
                  <a:pt x="21985" y="10468"/>
                  <a:pt x="21994" y="10468"/>
                  <a:pt x="22002" y="104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000160" y="2125800"/>
            <a:ext cx="1509840" cy="554040"/>
          </a:xfrm>
          <a:custGeom>
            <a:avLst/>
            <a:gdLst/>
            <a:ahLst/>
            <a:rect l="l" t="t" r="r" b="b"/>
            <a:pathLst>
              <a:path w="4193" h="1538">
                <a:moveTo>
                  <a:pt x="6127" y="6846"/>
                </a:moveTo>
                <a:cubicBezTo>
                  <a:pt x="6242" y="6944"/>
                  <a:pt x="6364" y="7023"/>
                  <a:pt x="6499" y="7094"/>
                </a:cubicBezTo>
                <a:cubicBezTo>
                  <a:pt x="6612" y="7154"/>
                  <a:pt x="6714" y="7231"/>
                  <a:pt x="6821" y="7293"/>
                </a:cubicBezTo>
                <a:cubicBezTo>
                  <a:pt x="6862" y="7316"/>
                  <a:pt x="6866" y="7298"/>
                  <a:pt x="6846" y="7268"/>
                </a:cubicBezTo>
              </a:path>
              <a:path w="4193" h="1538">
                <a:moveTo>
                  <a:pt x="6747" y="6375"/>
                </a:moveTo>
                <a:cubicBezTo>
                  <a:pt x="6668" y="6483"/>
                  <a:pt x="6576" y="6584"/>
                  <a:pt x="6474" y="6672"/>
                </a:cubicBezTo>
                <a:cubicBezTo>
                  <a:pt x="6335" y="6791"/>
                  <a:pt x="6207" y="6915"/>
                  <a:pt x="6077" y="7045"/>
                </a:cubicBezTo>
                <a:cubicBezTo>
                  <a:pt x="5983" y="7139"/>
                  <a:pt x="5886" y="7239"/>
                  <a:pt x="5779" y="7317"/>
                </a:cubicBezTo>
                <a:cubicBezTo>
                  <a:pt x="5724" y="7357"/>
                  <a:pt x="5658" y="7385"/>
                  <a:pt x="5606" y="7417"/>
                </a:cubicBezTo>
                <a:cubicBezTo>
                  <a:pt x="5583" y="7439"/>
                  <a:pt x="5578" y="7447"/>
                  <a:pt x="5556" y="7441"/>
                </a:cubicBezTo>
                <a:cubicBezTo>
                  <a:pt x="5574" y="7411"/>
                  <a:pt x="5580" y="7385"/>
                  <a:pt x="5606" y="7342"/>
                </a:cubicBezTo>
              </a:path>
              <a:path w="4193" h="1538">
                <a:moveTo>
                  <a:pt x="7541" y="6176"/>
                </a:moveTo>
                <a:cubicBezTo>
                  <a:pt x="7541" y="6397"/>
                  <a:pt x="7517" y="6631"/>
                  <a:pt x="7565" y="6846"/>
                </a:cubicBezTo>
                <a:cubicBezTo>
                  <a:pt x="7592" y="6970"/>
                  <a:pt x="7627" y="7094"/>
                  <a:pt x="7640" y="7218"/>
                </a:cubicBezTo>
                <a:cubicBezTo>
                  <a:pt x="7647" y="7280"/>
                  <a:pt x="7653" y="7332"/>
                  <a:pt x="7665" y="7392"/>
                </a:cubicBezTo>
                <a:cubicBezTo>
                  <a:pt x="7665" y="7312"/>
                  <a:pt x="7649" y="7245"/>
                  <a:pt x="7640" y="7169"/>
                </a:cubicBezTo>
                <a:cubicBezTo>
                  <a:pt x="7627" y="7054"/>
                  <a:pt x="7618" y="6935"/>
                  <a:pt x="7615" y="6821"/>
                </a:cubicBezTo>
                <a:cubicBezTo>
                  <a:pt x="7611" y="6696"/>
                  <a:pt x="7599" y="6568"/>
                  <a:pt x="7565" y="6449"/>
                </a:cubicBezTo>
                <a:cubicBezTo>
                  <a:pt x="7539" y="6356"/>
                  <a:pt x="7518" y="6269"/>
                  <a:pt x="7491" y="6176"/>
                </a:cubicBezTo>
                <a:cubicBezTo>
                  <a:pt x="7477" y="6129"/>
                  <a:pt x="7478" y="6076"/>
                  <a:pt x="7466" y="6028"/>
                </a:cubicBezTo>
                <a:cubicBezTo>
                  <a:pt x="7528" y="6014"/>
                  <a:pt x="7574" y="6005"/>
                  <a:pt x="7640" y="6003"/>
                </a:cubicBezTo>
                <a:cubicBezTo>
                  <a:pt x="7767" y="5999"/>
                  <a:pt x="7886" y="5988"/>
                  <a:pt x="8012" y="5978"/>
                </a:cubicBezTo>
                <a:cubicBezTo>
                  <a:pt x="8168" y="5966"/>
                  <a:pt x="8327" y="5955"/>
                  <a:pt x="8483" y="5953"/>
                </a:cubicBezTo>
                <a:cubicBezTo>
                  <a:pt x="8693" y="5950"/>
                  <a:pt x="8918" y="5951"/>
                  <a:pt x="9128" y="5928"/>
                </a:cubicBezTo>
                <a:cubicBezTo>
                  <a:pt x="9248" y="5915"/>
                  <a:pt x="9354" y="5904"/>
                  <a:pt x="9475" y="5904"/>
                </a:cubicBezTo>
                <a:cubicBezTo>
                  <a:pt x="9541" y="5904"/>
                  <a:pt x="9617" y="5889"/>
                  <a:pt x="9674" y="5928"/>
                </a:cubicBezTo>
                <a:cubicBezTo>
                  <a:pt x="9714" y="5955"/>
                  <a:pt x="9694" y="5988"/>
                  <a:pt x="9699" y="6028"/>
                </a:cubicBezTo>
                <a:cubicBezTo>
                  <a:pt x="9706" y="6092"/>
                  <a:pt x="9679" y="6140"/>
                  <a:pt x="9674" y="6201"/>
                </a:cubicBezTo>
                <a:cubicBezTo>
                  <a:pt x="9663" y="6329"/>
                  <a:pt x="9685" y="6450"/>
                  <a:pt x="9699" y="6573"/>
                </a:cubicBezTo>
                <a:cubicBezTo>
                  <a:pt x="9709" y="6665"/>
                  <a:pt x="9737" y="6758"/>
                  <a:pt x="9748" y="6846"/>
                </a:cubicBezTo>
                <a:cubicBezTo>
                  <a:pt x="9758" y="6933"/>
                  <a:pt x="9776" y="7119"/>
                  <a:pt x="9723" y="7193"/>
                </a:cubicBezTo>
                <a:cubicBezTo>
                  <a:pt x="9697" y="7229"/>
                  <a:pt x="9590" y="7262"/>
                  <a:pt x="9550" y="7268"/>
                </a:cubicBezTo>
                <a:cubicBezTo>
                  <a:pt x="9415" y="7288"/>
                  <a:pt x="9293" y="7293"/>
                  <a:pt x="9153" y="7293"/>
                </a:cubicBezTo>
                <a:cubicBezTo>
                  <a:pt x="8994" y="7293"/>
                  <a:pt x="8842" y="7317"/>
                  <a:pt x="8682" y="7317"/>
                </a:cubicBezTo>
                <a:cubicBezTo>
                  <a:pt x="8513" y="7317"/>
                  <a:pt x="8353" y="7338"/>
                  <a:pt x="8186" y="7342"/>
                </a:cubicBezTo>
                <a:cubicBezTo>
                  <a:pt x="8050" y="7345"/>
                  <a:pt x="7923" y="7354"/>
                  <a:pt x="7789" y="7367"/>
                </a:cubicBezTo>
                <a:cubicBezTo>
                  <a:pt x="7700" y="7376"/>
                  <a:pt x="7595" y="7368"/>
                  <a:pt x="7541" y="7392"/>
                </a:cubicBezTo>
                <a:cubicBezTo>
                  <a:pt x="7533" y="7400"/>
                  <a:pt x="7524" y="7409"/>
                  <a:pt x="7516" y="74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20880" y="2751120"/>
            <a:ext cx="2144520" cy="490680"/>
          </a:xfrm>
          <a:custGeom>
            <a:avLst/>
            <a:gdLst/>
            <a:ahLst/>
            <a:rect l="l" t="t" r="r" b="b"/>
            <a:pathLst>
              <a:path w="5954" h="1365">
                <a:moveTo>
                  <a:pt x="5060" y="9004"/>
                </a:moveTo>
                <a:cubicBezTo>
                  <a:pt x="5084" y="8931"/>
                  <a:pt x="5060" y="8963"/>
                  <a:pt x="5135" y="8954"/>
                </a:cubicBezTo>
                <a:cubicBezTo>
                  <a:pt x="5195" y="8947"/>
                  <a:pt x="5207" y="8992"/>
                  <a:pt x="5259" y="9004"/>
                </a:cubicBezTo>
                <a:cubicBezTo>
                  <a:pt x="5554" y="9073"/>
                  <a:pt x="6048" y="9030"/>
                  <a:pt x="6325" y="8954"/>
                </a:cubicBezTo>
                <a:cubicBezTo>
                  <a:pt x="6398" y="8934"/>
                  <a:pt x="6477" y="8957"/>
                  <a:pt x="6524" y="8930"/>
                </a:cubicBezTo>
                <a:cubicBezTo>
                  <a:pt x="6481" y="8854"/>
                  <a:pt x="6479" y="8897"/>
                  <a:pt x="6474" y="8806"/>
                </a:cubicBezTo>
                <a:cubicBezTo>
                  <a:pt x="6466" y="8677"/>
                  <a:pt x="6481" y="8558"/>
                  <a:pt x="6499" y="8434"/>
                </a:cubicBezTo>
                <a:cubicBezTo>
                  <a:pt x="6511" y="8353"/>
                  <a:pt x="6503" y="8265"/>
                  <a:pt x="6524" y="8186"/>
                </a:cubicBezTo>
                <a:cubicBezTo>
                  <a:pt x="6545" y="8105"/>
                  <a:pt x="6527" y="8017"/>
                  <a:pt x="6548" y="7938"/>
                </a:cubicBezTo>
                <a:cubicBezTo>
                  <a:pt x="6570" y="7855"/>
                  <a:pt x="6558" y="7835"/>
                  <a:pt x="6548" y="7764"/>
                </a:cubicBezTo>
                <a:cubicBezTo>
                  <a:pt x="6544" y="7733"/>
                  <a:pt x="6551" y="7659"/>
                  <a:pt x="6524" y="7640"/>
                </a:cubicBezTo>
                <a:cubicBezTo>
                  <a:pt x="6488" y="7615"/>
                  <a:pt x="6446" y="7661"/>
                  <a:pt x="6424" y="7665"/>
                </a:cubicBezTo>
                <a:cubicBezTo>
                  <a:pt x="6191" y="7704"/>
                  <a:pt x="5544" y="7528"/>
                  <a:pt x="5383" y="7689"/>
                </a:cubicBezTo>
                <a:cubicBezTo>
                  <a:pt x="5336" y="7736"/>
                  <a:pt x="5372" y="7743"/>
                  <a:pt x="5383" y="7813"/>
                </a:cubicBezTo>
                <a:cubicBezTo>
                  <a:pt x="5397" y="7899"/>
                  <a:pt x="5368" y="7979"/>
                  <a:pt x="5358" y="8062"/>
                </a:cubicBezTo>
                <a:cubicBezTo>
                  <a:pt x="5349" y="8138"/>
                  <a:pt x="5344" y="8210"/>
                  <a:pt x="5333" y="8285"/>
                </a:cubicBezTo>
                <a:cubicBezTo>
                  <a:pt x="5322" y="8358"/>
                  <a:pt x="5312" y="8435"/>
                  <a:pt x="5308" y="8508"/>
                </a:cubicBezTo>
                <a:cubicBezTo>
                  <a:pt x="5304" y="8592"/>
                  <a:pt x="5277" y="8741"/>
                  <a:pt x="5283" y="8806"/>
                </a:cubicBezTo>
                <a:cubicBezTo>
                  <a:pt x="5288" y="8855"/>
                  <a:pt x="5305" y="8899"/>
                  <a:pt x="5308" y="8954"/>
                </a:cubicBezTo>
                <a:cubicBezTo>
                  <a:pt x="5308" y="8996"/>
                  <a:pt x="5300" y="9012"/>
                  <a:pt x="5333" y="9004"/>
                </a:cubicBezTo>
              </a:path>
              <a:path w="5954" h="1365">
                <a:moveTo>
                  <a:pt x="6672" y="8037"/>
                </a:moveTo>
                <a:cubicBezTo>
                  <a:pt x="6710" y="8050"/>
                  <a:pt x="6780" y="8082"/>
                  <a:pt x="6821" y="8086"/>
                </a:cubicBezTo>
                <a:cubicBezTo>
                  <a:pt x="6921" y="8097"/>
                  <a:pt x="7019" y="8108"/>
                  <a:pt x="7119" y="8111"/>
                </a:cubicBezTo>
                <a:cubicBezTo>
                  <a:pt x="7284" y="8116"/>
                  <a:pt x="7451" y="8136"/>
                  <a:pt x="7615" y="8161"/>
                </a:cubicBezTo>
                <a:cubicBezTo>
                  <a:pt x="7979" y="8216"/>
                  <a:pt x="8342" y="8284"/>
                  <a:pt x="8706" y="8334"/>
                </a:cubicBezTo>
                <a:cubicBezTo>
                  <a:pt x="8974" y="8371"/>
                  <a:pt x="9233" y="8442"/>
                  <a:pt x="9500" y="8483"/>
                </a:cubicBezTo>
                <a:cubicBezTo>
                  <a:pt x="9801" y="8529"/>
                  <a:pt x="10116" y="8621"/>
                  <a:pt x="10418" y="8632"/>
                </a:cubicBezTo>
                <a:cubicBezTo>
                  <a:pt x="10502" y="8635"/>
                  <a:pt x="10573" y="8619"/>
                  <a:pt x="10641" y="8607"/>
                </a:cubicBezTo>
                <a:cubicBezTo>
                  <a:pt x="10599" y="8583"/>
                  <a:pt x="10569" y="8558"/>
                  <a:pt x="10492" y="8533"/>
                </a:cubicBezTo>
              </a:path>
              <a:path w="5954" h="1365">
                <a:moveTo>
                  <a:pt x="6846" y="8806"/>
                </a:moveTo>
                <a:cubicBezTo>
                  <a:pt x="6927" y="8799"/>
                  <a:pt x="6967" y="8779"/>
                  <a:pt x="7045" y="8756"/>
                </a:cubicBezTo>
                <a:cubicBezTo>
                  <a:pt x="7156" y="8724"/>
                  <a:pt x="7254" y="8704"/>
                  <a:pt x="7367" y="8682"/>
                </a:cubicBezTo>
                <a:cubicBezTo>
                  <a:pt x="7545" y="8647"/>
                  <a:pt x="7710" y="8570"/>
                  <a:pt x="7888" y="8533"/>
                </a:cubicBezTo>
                <a:cubicBezTo>
                  <a:pt x="8196" y="8470"/>
                  <a:pt x="8518" y="8425"/>
                  <a:pt x="8830" y="8384"/>
                </a:cubicBezTo>
                <a:cubicBezTo>
                  <a:pt x="9177" y="8339"/>
                  <a:pt x="9525" y="8315"/>
                  <a:pt x="9872" y="8285"/>
                </a:cubicBezTo>
                <a:cubicBezTo>
                  <a:pt x="10094" y="8266"/>
                  <a:pt x="10322" y="8258"/>
                  <a:pt x="10542" y="8235"/>
                </a:cubicBezTo>
                <a:cubicBezTo>
                  <a:pt x="10655" y="8223"/>
                  <a:pt x="10843" y="8215"/>
                  <a:pt x="10939" y="8161"/>
                </a:cubicBezTo>
                <a:cubicBezTo>
                  <a:pt x="10979" y="8138"/>
                  <a:pt x="10992" y="8089"/>
                  <a:pt x="11013" y="8062"/>
                </a:cubicBezTo>
                <a:cubicBezTo>
                  <a:pt x="10988" y="8062"/>
                  <a:pt x="10980" y="8062"/>
                  <a:pt x="10988" y="8086"/>
                </a:cubicBezTo>
                <a:cubicBezTo>
                  <a:pt x="10994" y="8117"/>
                  <a:pt x="11031" y="8142"/>
                  <a:pt x="11013" y="8186"/>
                </a:cubicBezTo>
                <a:cubicBezTo>
                  <a:pt x="11005" y="8186"/>
                  <a:pt x="10996" y="8186"/>
                  <a:pt x="10988" y="81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Finding real zeros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 a graph, it is where it crosses the x-ax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gebraically, you solve the function equal to zer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Find all real zeros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4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10x + 2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3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10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dddddd"/>
                </a:solidFill>
                <a:latin typeface="Garamond"/>
              </a:rPr>
              <a:t>Homework:</a:t>
            </a:r>
            <a:br>
              <a:rPr sz="7500"/>
            </a:br>
            <a:r>
              <a:rPr b="1" lang="en-US" sz="7500" spc="-1" strike="noStrike">
                <a:solidFill>
                  <a:srgbClr val="dddddd"/>
                </a:solidFill>
                <a:latin typeface="Garamond"/>
              </a:rPr>
              <a:t>Page 156</a:t>
            </a:r>
            <a:br>
              <a:rPr sz="7500"/>
            </a:br>
            <a:r>
              <a:rPr b="1" lang="en-US" sz="7500" spc="-1" strike="noStrike">
                <a:solidFill>
                  <a:srgbClr val="dddddd"/>
                </a:solidFill>
                <a:latin typeface="Garamond"/>
              </a:rPr>
              <a:t>#17-33</a:t>
            </a:r>
            <a:endParaRPr b="1" lang="en-US" sz="7500" spc="-1" strike="noStrike">
              <a:solidFill>
                <a:srgbClr val="dddddd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dddddd"/>
                </a:solidFill>
                <a:latin typeface="Garamond"/>
              </a:rPr>
              <a:t>Lesson 2.2</a:t>
            </a:r>
            <a:endParaRPr b="1" lang="en-US" sz="7500" spc="-1" strike="noStrike">
              <a:solidFill>
                <a:srgbClr val="dddddd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Homework from 5/11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handygraph1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381560" cy="4496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12193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Y=25-x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4160" y="1768320"/>
            <a:ext cx="1009800" cy="2411640"/>
          </a:xfrm>
          <a:custGeom>
            <a:avLst/>
            <a:gdLst/>
            <a:ahLst/>
            <a:rect l="l" t="t" r="r" b="b"/>
            <a:pathLst>
              <a:path w="2804" h="6699">
                <a:moveTo>
                  <a:pt x="7441" y="8806"/>
                </a:moveTo>
                <a:cubicBezTo>
                  <a:pt x="7524" y="8806"/>
                  <a:pt x="7606" y="8806"/>
                  <a:pt x="7689" y="8806"/>
                </a:cubicBezTo>
              </a:path>
              <a:path w="2804" h="6699">
                <a:moveTo>
                  <a:pt x="7466" y="8806"/>
                </a:moveTo>
                <a:cubicBezTo>
                  <a:pt x="7432" y="8882"/>
                  <a:pt x="7417" y="8876"/>
                  <a:pt x="7417" y="8954"/>
                </a:cubicBezTo>
                <a:cubicBezTo>
                  <a:pt x="7527" y="8954"/>
                  <a:pt x="7564" y="8953"/>
                  <a:pt x="7640" y="9004"/>
                </a:cubicBezTo>
                <a:cubicBezTo>
                  <a:pt x="7665" y="9004"/>
                  <a:pt x="7673" y="9004"/>
                  <a:pt x="7665" y="9029"/>
                </a:cubicBezTo>
                <a:cubicBezTo>
                  <a:pt x="7605" y="9029"/>
                  <a:pt x="7594" y="9068"/>
                  <a:pt x="7541" y="9079"/>
                </a:cubicBezTo>
                <a:cubicBezTo>
                  <a:pt x="7494" y="9088"/>
                  <a:pt x="7473" y="9029"/>
                  <a:pt x="7417" y="9029"/>
                </a:cubicBezTo>
                <a:cubicBezTo>
                  <a:pt x="7409" y="9029"/>
                  <a:pt x="7400" y="9029"/>
                  <a:pt x="7392" y="9029"/>
                </a:cubicBezTo>
              </a:path>
              <a:path w="2804" h="6699">
                <a:moveTo>
                  <a:pt x="7541" y="7863"/>
                </a:moveTo>
                <a:cubicBezTo>
                  <a:pt x="7541" y="7949"/>
                  <a:pt x="7524" y="7993"/>
                  <a:pt x="7516" y="8062"/>
                </a:cubicBezTo>
                <a:cubicBezTo>
                  <a:pt x="7516" y="8090"/>
                  <a:pt x="7513" y="8100"/>
                  <a:pt x="7491" y="8111"/>
                </a:cubicBezTo>
              </a:path>
              <a:path w="2804" h="6699">
                <a:moveTo>
                  <a:pt x="7665" y="7888"/>
                </a:moveTo>
                <a:cubicBezTo>
                  <a:pt x="7665" y="7929"/>
                  <a:pt x="7665" y="7971"/>
                  <a:pt x="7665" y="8012"/>
                </a:cubicBezTo>
                <a:cubicBezTo>
                  <a:pt x="7682" y="7940"/>
                  <a:pt x="7679" y="7968"/>
                  <a:pt x="7665" y="7888"/>
                </a:cubicBezTo>
                <a:cubicBezTo>
                  <a:pt x="7654" y="7826"/>
                  <a:pt x="7636" y="7790"/>
                  <a:pt x="7590" y="7739"/>
                </a:cubicBezTo>
                <a:cubicBezTo>
                  <a:pt x="7565" y="7714"/>
                  <a:pt x="7557" y="7706"/>
                  <a:pt x="7541" y="7689"/>
                </a:cubicBezTo>
              </a:path>
              <a:path w="2804" h="6699">
                <a:moveTo>
                  <a:pt x="7243" y="5035"/>
                </a:moveTo>
                <a:cubicBezTo>
                  <a:pt x="7272" y="4998"/>
                  <a:pt x="7268" y="4984"/>
                  <a:pt x="7268" y="4936"/>
                </a:cubicBezTo>
                <a:cubicBezTo>
                  <a:pt x="7225" y="4936"/>
                  <a:pt x="7208" y="4941"/>
                  <a:pt x="7193" y="4986"/>
                </a:cubicBezTo>
                <a:cubicBezTo>
                  <a:pt x="7193" y="5011"/>
                  <a:pt x="7193" y="5019"/>
                  <a:pt x="7193" y="5035"/>
                </a:cubicBezTo>
                <a:cubicBezTo>
                  <a:pt x="7214" y="5042"/>
                  <a:pt x="7232" y="5080"/>
                  <a:pt x="7268" y="5060"/>
                </a:cubicBezTo>
                <a:cubicBezTo>
                  <a:pt x="7302" y="5041"/>
                  <a:pt x="7339" y="5029"/>
                  <a:pt x="7342" y="4986"/>
                </a:cubicBezTo>
                <a:cubicBezTo>
                  <a:pt x="7342" y="4944"/>
                  <a:pt x="7342" y="4936"/>
                  <a:pt x="7342" y="4911"/>
                </a:cubicBezTo>
                <a:cubicBezTo>
                  <a:pt x="7291" y="4911"/>
                  <a:pt x="7256" y="4902"/>
                  <a:pt x="7218" y="4936"/>
                </a:cubicBezTo>
                <a:cubicBezTo>
                  <a:pt x="7183" y="4967"/>
                  <a:pt x="7159" y="4997"/>
                  <a:pt x="7144" y="5035"/>
                </a:cubicBezTo>
              </a:path>
              <a:path w="2804" h="6699">
                <a:moveTo>
                  <a:pt x="8235" y="9922"/>
                </a:moveTo>
                <a:cubicBezTo>
                  <a:pt x="8332" y="10004"/>
                  <a:pt x="8286" y="9970"/>
                  <a:pt x="8359" y="9922"/>
                </a:cubicBezTo>
                <a:cubicBezTo>
                  <a:pt x="8367" y="9922"/>
                  <a:pt x="8376" y="9922"/>
                  <a:pt x="8384" y="9922"/>
                </a:cubicBezTo>
                <a:cubicBezTo>
                  <a:pt x="8363" y="9915"/>
                  <a:pt x="8346" y="9877"/>
                  <a:pt x="8310" y="9897"/>
                </a:cubicBezTo>
                <a:cubicBezTo>
                  <a:pt x="8259" y="9926"/>
                  <a:pt x="8270" y="9914"/>
                  <a:pt x="8260" y="9971"/>
                </a:cubicBezTo>
                <a:cubicBezTo>
                  <a:pt x="8322" y="9971"/>
                  <a:pt x="8328" y="9990"/>
                  <a:pt x="8334" y="9922"/>
                </a:cubicBezTo>
                <a:cubicBezTo>
                  <a:pt x="8336" y="9899"/>
                  <a:pt x="8303" y="9875"/>
                  <a:pt x="8285" y="9847"/>
                </a:cubicBezTo>
              </a:path>
              <a:path w="2804" h="6699">
                <a:moveTo>
                  <a:pt x="5705" y="11609"/>
                </a:moveTo>
                <a:cubicBezTo>
                  <a:pt x="5708" y="11543"/>
                  <a:pt x="5727" y="11462"/>
                  <a:pt x="5730" y="11410"/>
                </a:cubicBezTo>
                <a:cubicBezTo>
                  <a:pt x="5738" y="11279"/>
                  <a:pt x="5730" y="11159"/>
                  <a:pt x="5755" y="11038"/>
                </a:cubicBezTo>
                <a:cubicBezTo>
                  <a:pt x="5765" y="10989"/>
                  <a:pt x="5787" y="10908"/>
                  <a:pt x="5804" y="10864"/>
                </a:cubicBezTo>
                <a:cubicBezTo>
                  <a:pt x="5817" y="10829"/>
                  <a:pt x="5841" y="10799"/>
                  <a:pt x="5854" y="10765"/>
                </a:cubicBezTo>
                <a:cubicBezTo>
                  <a:pt x="5871" y="10722"/>
                  <a:pt x="5885" y="10677"/>
                  <a:pt x="5904" y="10641"/>
                </a:cubicBezTo>
                <a:cubicBezTo>
                  <a:pt x="5929" y="10593"/>
                  <a:pt x="5955" y="10560"/>
                  <a:pt x="5978" y="10517"/>
                </a:cubicBezTo>
                <a:cubicBezTo>
                  <a:pt x="5996" y="10483"/>
                  <a:pt x="6012" y="10428"/>
                  <a:pt x="6028" y="10393"/>
                </a:cubicBezTo>
                <a:cubicBezTo>
                  <a:pt x="6047" y="10350"/>
                  <a:pt x="6059" y="10312"/>
                  <a:pt x="6077" y="10269"/>
                </a:cubicBezTo>
                <a:cubicBezTo>
                  <a:pt x="6091" y="10236"/>
                  <a:pt x="6090" y="10205"/>
                  <a:pt x="6102" y="10170"/>
                </a:cubicBezTo>
                <a:cubicBezTo>
                  <a:pt x="6118" y="10123"/>
                  <a:pt x="6145" y="10080"/>
                  <a:pt x="6152" y="10046"/>
                </a:cubicBezTo>
                <a:cubicBezTo>
                  <a:pt x="6165" y="9979"/>
                  <a:pt x="6165" y="9914"/>
                  <a:pt x="6176" y="9847"/>
                </a:cubicBezTo>
                <a:cubicBezTo>
                  <a:pt x="6193" y="9748"/>
                  <a:pt x="6209" y="9649"/>
                  <a:pt x="6226" y="9550"/>
                </a:cubicBezTo>
                <a:cubicBezTo>
                  <a:pt x="6236" y="9493"/>
                  <a:pt x="6243" y="9459"/>
                  <a:pt x="6251" y="9401"/>
                </a:cubicBezTo>
                <a:cubicBezTo>
                  <a:pt x="6253" y="9388"/>
                  <a:pt x="6293" y="9231"/>
                  <a:pt x="6300" y="9178"/>
                </a:cubicBezTo>
                <a:cubicBezTo>
                  <a:pt x="6311" y="9100"/>
                  <a:pt x="6312" y="9031"/>
                  <a:pt x="6325" y="8954"/>
                </a:cubicBezTo>
                <a:cubicBezTo>
                  <a:pt x="6334" y="8898"/>
                  <a:pt x="6346" y="8836"/>
                  <a:pt x="6350" y="8781"/>
                </a:cubicBezTo>
                <a:cubicBezTo>
                  <a:pt x="6357" y="8678"/>
                  <a:pt x="6362" y="8584"/>
                  <a:pt x="6375" y="8483"/>
                </a:cubicBezTo>
                <a:cubicBezTo>
                  <a:pt x="6385" y="8408"/>
                  <a:pt x="6390" y="8337"/>
                  <a:pt x="6400" y="8260"/>
                </a:cubicBezTo>
                <a:cubicBezTo>
                  <a:pt x="6416" y="8138"/>
                  <a:pt x="6431" y="8013"/>
                  <a:pt x="6449" y="7888"/>
                </a:cubicBezTo>
                <a:cubicBezTo>
                  <a:pt x="6461" y="7803"/>
                  <a:pt x="6484" y="7724"/>
                  <a:pt x="6499" y="7640"/>
                </a:cubicBezTo>
                <a:cubicBezTo>
                  <a:pt x="6514" y="7557"/>
                  <a:pt x="6510" y="7475"/>
                  <a:pt x="6524" y="7392"/>
                </a:cubicBezTo>
                <a:cubicBezTo>
                  <a:pt x="6541" y="7290"/>
                  <a:pt x="6551" y="7172"/>
                  <a:pt x="6573" y="7069"/>
                </a:cubicBezTo>
                <a:cubicBezTo>
                  <a:pt x="6590" y="6987"/>
                  <a:pt x="6605" y="6903"/>
                  <a:pt x="6623" y="6821"/>
                </a:cubicBezTo>
                <a:cubicBezTo>
                  <a:pt x="6641" y="6738"/>
                  <a:pt x="6680" y="6659"/>
                  <a:pt x="6697" y="6573"/>
                </a:cubicBezTo>
                <a:cubicBezTo>
                  <a:pt x="6712" y="6497"/>
                  <a:pt x="6726" y="6425"/>
                  <a:pt x="6747" y="6350"/>
                </a:cubicBezTo>
                <a:cubicBezTo>
                  <a:pt x="6768" y="6276"/>
                  <a:pt x="6777" y="6201"/>
                  <a:pt x="6796" y="6127"/>
                </a:cubicBezTo>
                <a:cubicBezTo>
                  <a:pt x="6813" y="6061"/>
                  <a:pt x="6828" y="5993"/>
                  <a:pt x="6846" y="5928"/>
                </a:cubicBezTo>
                <a:cubicBezTo>
                  <a:pt x="6865" y="5861"/>
                  <a:pt x="6879" y="5797"/>
                  <a:pt x="6896" y="5730"/>
                </a:cubicBezTo>
                <a:cubicBezTo>
                  <a:pt x="6911" y="5669"/>
                  <a:pt x="6928" y="5613"/>
                  <a:pt x="6945" y="5556"/>
                </a:cubicBezTo>
                <a:cubicBezTo>
                  <a:pt x="6960" y="5505"/>
                  <a:pt x="6980" y="5455"/>
                  <a:pt x="6995" y="5407"/>
                </a:cubicBezTo>
                <a:cubicBezTo>
                  <a:pt x="7013" y="5349"/>
                  <a:pt x="7024" y="5295"/>
                  <a:pt x="7045" y="5234"/>
                </a:cubicBezTo>
                <a:cubicBezTo>
                  <a:pt x="7064" y="5180"/>
                  <a:pt x="7062" y="5158"/>
                  <a:pt x="7094" y="5110"/>
                </a:cubicBezTo>
                <a:cubicBezTo>
                  <a:pt x="7119" y="5072"/>
                  <a:pt x="7132" y="5061"/>
                  <a:pt x="7169" y="5035"/>
                </a:cubicBezTo>
                <a:cubicBezTo>
                  <a:pt x="7202" y="5011"/>
                  <a:pt x="7228" y="4995"/>
                  <a:pt x="7268" y="4986"/>
                </a:cubicBezTo>
                <a:cubicBezTo>
                  <a:pt x="7332" y="4971"/>
                  <a:pt x="7392" y="4987"/>
                  <a:pt x="7441" y="5011"/>
                </a:cubicBezTo>
                <a:cubicBezTo>
                  <a:pt x="7468" y="5024"/>
                  <a:pt x="7486" y="5051"/>
                  <a:pt x="7516" y="5085"/>
                </a:cubicBezTo>
                <a:cubicBezTo>
                  <a:pt x="7558" y="5132"/>
                  <a:pt x="7563" y="5166"/>
                  <a:pt x="7590" y="5209"/>
                </a:cubicBezTo>
                <a:cubicBezTo>
                  <a:pt x="7620" y="5257"/>
                  <a:pt x="7643" y="5284"/>
                  <a:pt x="7665" y="5333"/>
                </a:cubicBezTo>
                <a:cubicBezTo>
                  <a:pt x="7692" y="5395"/>
                  <a:pt x="7710" y="5468"/>
                  <a:pt x="7739" y="5531"/>
                </a:cubicBezTo>
                <a:cubicBezTo>
                  <a:pt x="7769" y="5595"/>
                  <a:pt x="7808" y="5662"/>
                  <a:pt x="7838" y="5730"/>
                </a:cubicBezTo>
                <a:cubicBezTo>
                  <a:pt x="7864" y="5789"/>
                  <a:pt x="7883" y="5845"/>
                  <a:pt x="7913" y="5904"/>
                </a:cubicBezTo>
                <a:cubicBezTo>
                  <a:pt x="7947" y="5971"/>
                  <a:pt x="8003" y="6033"/>
                  <a:pt x="8037" y="6102"/>
                </a:cubicBezTo>
                <a:cubicBezTo>
                  <a:pt x="8064" y="6158"/>
                  <a:pt x="8088" y="6217"/>
                  <a:pt x="8111" y="6276"/>
                </a:cubicBezTo>
                <a:cubicBezTo>
                  <a:pt x="8130" y="6324"/>
                  <a:pt x="8142" y="6375"/>
                  <a:pt x="8161" y="6424"/>
                </a:cubicBezTo>
                <a:cubicBezTo>
                  <a:pt x="8177" y="6465"/>
                  <a:pt x="8200" y="6504"/>
                  <a:pt x="8210" y="6548"/>
                </a:cubicBezTo>
                <a:cubicBezTo>
                  <a:pt x="8219" y="6586"/>
                  <a:pt x="8232" y="6639"/>
                  <a:pt x="8235" y="6672"/>
                </a:cubicBezTo>
                <a:cubicBezTo>
                  <a:pt x="8240" y="6735"/>
                  <a:pt x="8256" y="6821"/>
                  <a:pt x="8260" y="6871"/>
                </a:cubicBezTo>
                <a:cubicBezTo>
                  <a:pt x="8297" y="7373"/>
                  <a:pt x="8283" y="7893"/>
                  <a:pt x="8310" y="8384"/>
                </a:cubicBezTo>
                <a:cubicBezTo>
                  <a:pt x="8318" y="8523"/>
                  <a:pt x="8327" y="8674"/>
                  <a:pt x="8334" y="8806"/>
                </a:cubicBezTo>
                <a:cubicBezTo>
                  <a:pt x="8351" y="9143"/>
                  <a:pt x="8342" y="9494"/>
                  <a:pt x="8359" y="9823"/>
                </a:cubicBezTo>
                <a:cubicBezTo>
                  <a:pt x="8367" y="9990"/>
                  <a:pt x="8346" y="10160"/>
                  <a:pt x="8384" y="10319"/>
                </a:cubicBezTo>
                <a:cubicBezTo>
                  <a:pt x="8400" y="10387"/>
                  <a:pt x="8423" y="10447"/>
                  <a:pt x="8434" y="10517"/>
                </a:cubicBezTo>
                <a:cubicBezTo>
                  <a:pt x="8444" y="10585"/>
                  <a:pt x="8470" y="10657"/>
                  <a:pt x="8483" y="10716"/>
                </a:cubicBezTo>
                <a:cubicBezTo>
                  <a:pt x="8488" y="10738"/>
                  <a:pt x="8508" y="10852"/>
                  <a:pt x="8508" y="10864"/>
                </a:cubicBezTo>
                <a:cubicBezTo>
                  <a:pt x="8485" y="10842"/>
                  <a:pt x="8477" y="10837"/>
                  <a:pt x="8483" y="108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00160" y="3544920"/>
            <a:ext cx="304920" cy="615960"/>
          </a:xfrm>
          <a:custGeom>
            <a:avLst/>
            <a:gdLst/>
            <a:ahLst/>
            <a:rect l="l" t="t" r="r" b="b"/>
            <a:pathLst>
              <a:path w="845" h="1713">
                <a:moveTo>
                  <a:pt x="6226" y="9897"/>
                </a:moveTo>
                <a:cubicBezTo>
                  <a:pt x="6203" y="9935"/>
                  <a:pt x="6201" y="9948"/>
                  <a:pt x="6201" y="9996"/>
                </a:cubicBezTo>
                <a:cubicBezTo>
                  <a:pt x="6251" y="9983"/>
                  <a:pt x="6272" y="9954"/>
                  <a:pt x="6276" y="9897"/>
                </a:cubicBezTo>
                <a:cubicBezTo>
                  <a:pt x="6276" y="9880"/>
                  <a:pt x="6276" y="9864"/>
                  <a:pt x="6276" y="9847"/>
                </a:cubicBezTo>
                <a:cubicBezTo>
                  <a:pt x="6233" y="9864"/>
                  <a:pt x="6154" y="9906"/>
                  <a:pt x="6176" y="9971"/>
                </a:cubicBezTo>
                <a:cubicBezTo>
                  <a:pt x="6184" y="9996"/>
                  <a:pt x="6273" y="9979"/>
                  <a:pt x="6276" y="9971"/>
                </a:cubicBezTo>
                <a:cubicBezTo>
                  <a:pt x="6276" y="9955"/>
                  <a:pt x="6276" y="9938"/>
                  <a:pt x="6276" y="9922"/>
                </a:cubicBezTo>
                <a:cubicBezTo>
                  <a:pt x="6231" y="9888"/>
                  <a:pt x="6221" y="9888"/>
                  <a:pt x="6176" y="9922"/>
                </a:cubicBezTo>
              </a:path>
              <a:path w="845" h="1713">
                <a:moveTo>
                  <a:pt x="5556" y="11137"/>
                </a:moveTo>
                <a:cubicBezTo>
                  <a:pt x="5614" y="11228"/>
                  <a:pt x="5669" y="11310"/>
                  <a:pt x="5730" y="11385"/>
                </a:cubicBezTo>
                <a:cubicBezTo>
                  <a:pt x="5770" y="11434"/>
                  <a:pt x="5789" y="11530"/>
                  <a:pt x="5854" y="11559"/>
                </a:cubicBezTo>
                <a:cubicBezTo>
                  <a:pt x="5897" y="11578"/>
                  <a:pt x="5923" y="11540"/>
                  <a:pt x="5953" y="11534"/>
                </a:cubicBezTo>
                <a:cubicBezTo>
                  <a:pt x="6050" y="11513"/>
                  <a:pt x="6149" y="11405"/>
                  <a:pt x="6226" y="11336"/>
                </a:cubicBezTo>
                <a:cubicBezTo>
                  <a:pt x="6284" y="11285"/>
                  <a:pt x="6342" y="11238"/>
                  <a:pt x="6400" y="111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9240" y="3616200"/>
            <a:ext cx="233640" cy="401760"/>
          </a:xfrm>
          <a:custGeom>
            <a:avLst/>
            <a:gdLst/>
            <a:ahLst/>
            <a:rect l="l" t="t" r="r" b="b"/>
            <a:pathLst>
              <a:path w="646" h="1117">
                <a:moveTo>
                  <a:pt x="8186" y="10071"/>
                </a:moveTo>
                <a:cubicBezTo>
                  <a:pt x="8270" y="10071"/>
                  <a:pt x="8394" y="10096"/>
                  <a:pt x="8458" y="10046"/>
                </a:cubicBezTo>
              </a:path>
              <a:path w="646" h="1117">
                <a:moveTo>
                  <a:pt x="8161" y="10046"/>
                </a:moveTo>
                <a:cubicBezTo>
                  <a:pt x="8136" y="10088"/>
                  <a:pt x="8116" y="10142"/>
                  <a:pt x="8111" y="10195"/>
                </a:cubicBezTo>
                <a:cubicBezTo>
                  <a:pt x="8109" y="10219"/>
                  <a:pt x="8111" y="10245"/>
                  <a:pt x="8111" y="10269"/>
                </a:cubicBezTo>
                <a:cubicBezTo>
                  <a:pt x="8145" y="10258"/>
                  <a:pt x="8142" y="10235"/>
                  <a:pt x="8186" y="10220"/>
                </a:cubicBezTo>
                <a:cubicBezTo>
                  <a:pt x="8240" y="10202"/>
                  <a:pt x="8293" y="10231"/>
                  <a:pt x="8334" y="10244"/>
                </a:cubicBezTo>
                <a:cubicBezTo>
                  <a:pt x="8361" y="10253"/>
                  <a:pt x="8423" y="10283"/>
                  <a:pt x="8434" y="10319"/>
                </a:cubicBezTo>
                <a:cubicBezTo>
                  <a:pt x="8444" y="10354"/>
                  <a:pt x="8441" y="10421"/>
                  <a:pt x="8409" y="10443"/>
                </a:cubicBezTo>
                <a:cubicBezTo>
                  <a:pt x="8379" y="10464"/>
                  <a:pt x="8326" y="10506"/>
                  <a:pt x="8285" y="10492"/>
                </a:cubicBezTo>
                <a:cubicBezTo>
                  <a:pt x="8244" y="10478"/>
                  <a:pt x="8188" y="10502"/>
                  <a:pt x="8161" y="10468"/>
                </a:cubicBezTo>
                <a:cubicBezTo>
                  <a:pt x="8161" y="10460"/>
                  <a:pt x="8161" y="10451"/>
                  <a:pt x="8161" y="10443"/>
                </a:cubicBezTo>
              </a:path>
              <a:path w="646" h="1117">
                <a:moveTo>
                  <a:pt x="8334" y="10716"/>
                </a:moveTo>
                <a:cubicBezTo>
                  <a:pt x="8334" y="10803"/>
                  <a:pt x="8351" y="10855"/>
                  <a:pt x="8384" y="10939"/>
                </a:cubicBezTo>
                <a:cubicBezTo>
                  <a:pt x="8404" y="10990"/>
                  <a:pt x="8447" y="11048"/>
                  <a:pt x="8483" y="11088"/>
                </a:cubicBezTo>
                <a:cubicBezTo>
                  <a:pt x="8512" y="11120"/>
                  <a:pt x="8567" y="11158"/>
                  <a:pt x="8607" y="11162"/>
                </a:cubicBezTo>
                <a:cubicBezTo>
                  <a:pt x="8652" y="11167"/>
                  <a:pt x="8678" y="11160"/>
                  <a:pt x="8682" y="11112"/>
                </a:cubicBezTo>
                <a:cubicBezTo>
                  <a:pt x="8686" y="11062"/>
                  <a:pt x="8692" y="10990"/>
                  <a:pt x="8706" y="10939"/>
                </a:cubicBezTo>
                <a:cubicBezTo>
                  <a:pt x="8725" y="10871"/>
                  <a:pt x="8752" y="10812"/>
                  <a:pt x="8756" y="10740"/>
                </a:cubicBezTo>
                <a:cubicBezTo>
                  <a:pt x="8758" y="10700"/>
                  <a:pt x="8756" y="10657"/>
                  <a:pt x="8756" y="106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6080" y="3660840"/>
            <a:ext cx="135000" cy="13500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9178" y="10195"/>
                </a:moveTo>
                <a:cubicBezTo>
                  <a:pt x="9171" y="10266"/>
                  <a:pt x="9153" y="10322"/>
                  <a:pt x="9153" y="10393"/>
                </a:cubicBezTo>
                <a:cubicBezTo>
                  <a:pt x="9153" y="10416"/>
                  <a:pt x="9107" y="10525"/>
                  <a:pt x="9128" y="10542"/>
                </a:cubicBezTo>
                <a:cubicBezTo>
                  <a:pt x="9156" y="10542"/>
                  <a:pt x="9167" y="10540"/>
                  <a:pt x="9178" y="10517"/>
                </a:cubicBezTo>
              </a:path>
              <a:path w="373" h="373">
                <a:moveTo>
                  <a:pt x="9351" y="10269"/>
                </a:moveTo>
                <a:cubicBezTo>
                  <a:pt x="9345" y="10332"/>
                  <a:pt x="9309" y="10395"/>
                  <a:pt x="9351" y="10443"/>
                </a:cubicBezTo>
                <a:cubicBezTo>
                  <a:pt x="9395" y="10494"/>
                  <a:pt x="9408" y="10458"/>
                  <a:pt x="9451" y="10443"/>
                </a:cubicBezTo>
                <a:cubicBezTo>
                  <a:pt x="9508" y="10423"/>
                  <a:pt x="9500" y="10407"/>
                  <a:pt x="9500" y="10344"/>
                </a:cubicBezTo>
                <a:cubicBezTo>
                  <a:pt x="9500" y="10317"/>
                  <a:pt x="9493" y="10256"/>
                  <a:pt x="9475" y="10244"/>
                </a:cubicBezTo>
                <a:cubicBezTo>
                  <a:pt x="9467" y="10239"/>
                  <a:pt x="9407" y="10204"/>
                  <a:pt x="9401" y="10195"/>
                </a:cubicBezTo>
                <a:cubicBezTo>
                  <a:pt x="9401" y="10187"/>
                  <a:pt x="9401" y="10178"/>
                  <a:pt x="9401" y="101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9080" y="1133640"/>
            <a:ext cx="250920" cy="430200"/>
          </a:xfrm>
          <a:custGeom>
            <a:avLst/>
            <a:gdLst/>
            <a:ahLst/>
            <a:rect l="l" t="t" r="r" b="b"/>
            <a:pathLst>
              <a:path w="695" h="1192">
                <a:moveTo>
                  <a:pt x="2555" y="3175"/>
                </a:moveTo>
                <a:cubicBezTo>
                  <a:pt x="2555" y="3319"/>
                  <a:pt x="2567" y="3457"/>
                  <a:pt x="2580" y="3597"/>
                </a:cubicBezTo>
                <a:cubicBezTo>
                  <a:pt x="2591" y="3713"/>
                  <a:pt x="2593" y="3829"/>
                  <a:pt x="2604" y="3944"/>
                </a:cubicBezTo>
                <a:cubicBezTo>
                  <a:pt x="2617" y="4074"/>
                  <a:pt x="2604" y="4210"/>
                  <a:pt x="2604" y="4341"/>
                </a:cubicBezTo>
                <a:cubicBezTo>
                  <a:pt x="2573" y="4297"/>
                  <a:pt x="2580" y="4274"/>
                  <a:pt x="2580" y="4217"/>
                </a:cubicBezTo>
                <a:cubicBezTo>
                  <a:pt x="2580" y="4200"/>
                  <a:pt x="2580" y="4184"/>
                  <a:pt x="2580" y="4167"/>
                </a:cubicBezTo>
              </a:path>
              <a:path w="695" h="1192">
                <a:moveTo>
                  <a:pt x="2778" y="3299"/>
                </a:moveTo>
                <a:cubicBezTo>
                  <a:pt x="2842" y="3231"/>
                  <a:pt x="2921" y="3091"/>
                  <a:pt x="3026" y="3175"/>
                </a:cubicBezTo>
                <a:cubicBezTo>
                  <a:pt x="3067" y="3208"/>
                  <a:pt x="3097" y="3246"/>
                  <a:pt x="3101" y="3299"/>
                </a:cubicBezTo>
                <a:cubicBezTo>
                  <a:pt x="3107" y="3386"/>
                  <a:pt x="3097" y="3447"/>
                  <a:pt x="3051" y="3522"/>
                </a:cubicBezTo>
                <a:cubicBezTo>
                  <a:pt x="3011" y="3587"/>
                  <a:pt x="2934" y="3657"/>
                  <a:pt x="2902" y="3721"/>
                </a:cubicBezTo>
                <a:cubicBezTo>
                  <a:pt x="2887" y="3751"/>
                  <a:pt x="2881" y="3766"/>
                  <a:pt x="2853" y="3795"/>
                </a:cubicBezTo>
                <a:cubicBezTo>
                  <a:pt x="2890" y="3782"/>
                  <a:pt x="2890" y="3761"/>
                  <a:pt x="2952" y="3746"/>
                </a:cubicBezTo>
                <a:cubicBezTo>
                  <a:pt x="2992" y="3736"/>
                  <a:pt x="3043" y="3748"/>
                  <a:pt x="3076" y="3770"/>
                </a:cubicBezTo>
                <a:cubicBezTo>
                  <a:pt x="3111" y="3793"/>
                  <a:pt x="3165" y="3853"/>
                  <a:pt x="3175" y="3894"/>
                </a:cubicBezTo>
                <a:cubicBezTo>
                  <a:pt x="3187" y="3944"/>
                  <a:pt x="3182" y="4026"/>
                  <a:pt x="3150" y="4068"/>
                </a:cubicBezTo>
                <a:cubicBezTo>
                  <a:pt x="3099" y="4136"/>
                  <a:pt x="3073" y="4163"/>
                  <a:pt x="3001" y="4192"/>
                </a:cubicBezTo>
                <a:cubicBezTo>
                  <a:pt x="2975" y="4203"/>
                  <a:pt x="2911" y="4237"/>
                  <a:pt x="2877" y="4217"/>
                </a:cubicBezTo>
                <a:cubicBezTo>
                  <a:pt x="2869" y="4209"/>
                  <a:pt x="2861" y="4200"/>
                  <a:pt x="2853" y="4192"/>
                </a:cubicBezTo>
              </a:path>
              <a:path w="695" h="1192">
                <a:moveTo>
                  <a:pt x="3249" y="4093"/>
                </a:moveTo>
                <a:cubicBezTo>
                  <a:pt x="3249" y="4134"/>
                  <a:pt x="3237" y="4106"/>
                  <a:pt x="3225" y="41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05200" y="2152800"/>
            <a:ext cx="3233880" cy="1419120"/>
          </a:xfrm>
          <a:custGeom>
            <a:avLst/>
            <a:gdLst/>
            <a:ahLst/>
            <a:rect l="l" t="t" r="r" b="b"/>
            <a:pathLst>
              <a:path w="8980" h="3945">
                <a:moveTo>
                  <a:pt x="15925" y="7144"/>
                </a:moveTo>
                <a:cubicBezTo>
                  <a:pt x="16013" y="7171"/>
                  <a:pt x="16080" y="7169"/>
                  <a:pt x="16173" y="7169"/>
                </a:cubicBezTo>
                <a:cubicBezTo>
                  <a:pt x="16277" y="7169"/>
                  <a:pt x="16675" y="7190"/>
                  <a:pt x="16669" y="7193"/>
                </a:cubicBezTo>
                <a:cubicBezTo>
                  <a:pt x="16661" y="7193"/>
                  <a:pt x="16652" y="7193"/>
                  <a:pt x="16644" y="7193"/>
                </a:cubicBezTo>
              </a:path>
              <a:path w="8980" h="3945">
                <a:moveTo>
                  <a:pt x="15949" y="7466"/>
                </a:moveTo>
                <a:cubicBezTo>
                  <a:pt x="16036" y="7466"/>
                  <a:pt x="16204" y="7442"/>
                  <a:pt x="16247" y="7491"/>
                </a:cubicBezTo>
                <a:cubicBezTo>
                  <a:pt x="16290" y="7540"/>
                  <a:pt x="16259" y="7587"/>
                  <a:pt x="16222" y="7640"/>
                </a:cubicBezTo>
                <a:cubicBezTo>
                  <a:pt x="16181" y="7699"/>
                  <a:pt x="16126" y="7750"/>
                  <a:pt x="16073" y="7789"/>
                </a:cubicBezTo>
                <a:cubicBezTo>
                  <a:pt x="16009" y="7836"/>
                  <a:pt x="15908" y="7841"/>
                  <a:pt x="15875" y="7913"/>
                </a:cubicBezTo>
                <a:cubicBezTo>
                  <a:pt x="15875" y="7929"/>
                  <a:pt x="15875" y="7946"/>
                  <a:pt x="15875" y="7962"/>
                </a:cubicBezTo>
                <a:cubicBezTo>
                  <a:pt x="15881" y="7944"/>
                  <a:pt x="15921" y="7919"/>
                  <a:pt x="15949" y="7913"/>
                </a:cubicBezTo>
                <a:cubicBezTo>
                  <a:pt x="16001" y="7902"/>
                  <a:pt x="16048" y="7892"/>
                  <a:pt x="16098" y="7888"/>
                </a:cubicBezTo>
                <a:cubicBezTo>
                  <a:pt x="16156" y="7883"/>
                  <a:pt x="16180" y="7904"/>
                  <a:pt x="16222" y="7913"/>
                </a:cubicBezTo>
                <a:cubicBezTo>
                  <a:pt x="16277" y="7925"/>
                  <a:pt x="16317" y="7930"/>
                  <a:pt x="16371" y="7938"/>
                </a:cubicBezTo>
              </a:path>
              <a:path w="8980" h="3945">
                <a:moveTo>
                  <a:pt x="16793" y="7565"/>
                </a:moveTo>
                <a:cubicBezTo>
                  <a:pt x="16724" y="7507"/>
                  <a:pt x="16726" y="7503"/>
                  <a:pt x="16644" y="7541"/>
                </a:cubicBezTo>
                <a:cubicBezTo>
                  <a:pt x="16581" y="7570"/>
                  <a:pt x="16544" y="7617"/>
                  <a:pt x="16495" y="7665"/>
                </a:cubicBezTo>
                <a:cubicBezTo>
                  <a:pt x="16469" y="7690"/>
                  <a:pt x="16446" y="7787"/>
                  <a:pt x="16495" y="7813"/>
                </a:cubicBezTo>
                <a:cubicBezTo>
                  <a:pt x="16527" y="7830"/>
                  <a:pt x="16597" y="7803"/>
                  <a:pt x="16619" y="7789"/>
                </a:cubicBezTo>
                <a:cubicBezTo>
                  <a:pt x="16666" y="7758"/>
                  <a:pt x="16658" y="7756"/>
                  <a:pt x="16694" y="7714"/>
                </a:cubicBezTo>
                <a:cubicBezTo>
                  <a:pt x="16716" y="7691"/>
                  <a:pt x="16721" y="7683"/>
                  <a:pt x="16743" y="7689"/>
                </a:cubicBezTo>
                <a:cubicBezTo>
                  <a:pt x="16758" y="7766"/>
                  <a:pt x="16775" y="7758"/>
                  <a:pt x="16842" y="7789"/>
                </a:cubicBezTo>
                <a:cubicBezTo>
                  <a:pt x="16896" y="7814"/>
                  <a:pt x="16966" y="7853"/>
                  <a:pt x="17016" y="7863"/>
                </a:cubicBezTo>
                <a:cubicBezTo>
                  <a:pt x="17033" y="7863"/>
                  <a:pt x="17049" y="7863"/>
                  <a:pt x="17066" y="7863"/>
                </a:cubicBezTo>
              </a:path>
              <a:path w="8980" h="3945">
                <a:moveTo>
                  <a:pt x="17289" y="6796"/>
                </a:moveTo>
                <a:cubicBezTo>
                  <a:pt x="17342" y="6796"/>
                  <a:pt x="17371" y="6781"/>
                  <a:pt x="17413" y="6772"/>
                </a:cubicBezTo>
                <a:cubicBezTo>
                  <a:pt x="17457" y="6763"/>
                  <a:pt x="17516" y="6772"/>
                  <a:pt x="17562" y="6772"/>
                </a:cubicBezTo>
              </a:path>
              <a:path w="8980" h="3945">
                <a:moveTo>
                  <a:pt x="17338" y="6995"/>
                </a:moveTo>
                <a:cubicBezTo>
                  <a:pt x="17382" y="7014"/>
                  <a:pt x="17436" y="7035"/>
                  <a:pt x="17487" y="7020"/>
                </a:cubicBezTo>
                <a:cubicBezTo>
                  <a:pt x="17535" y="6996"/>
                  <a:pt x="17550" y="6988"/>
                  <a:pt x="17587" y="6995"/>
                </a:cubicBezTo>
              </a:path>
              <a:path w="8980" h="3945">
                <a:moveTo>
                  <a:pt x="18504" y="6052"/>
                </a:moveTo>
                <a:cubicBezTo>
                  <a:pt x="18473" y="6137"/>
                  <a:pt x="18462" y="6217"/>
                  <a:pt x="18430" y="6300"/>
                </a:cubicBezTo>
                <a:cubicBezTo>
                  <a:pt x="18397" y="6386"/>
                  <a:pt x="18396" y="6445"/>
                  <a:pt x="18405" y="6524"/>
                </a:cubicBezTo>
                <a:cubicBezTo>
                  <a:pt x="18414" y="6603"/>
                  <a:pt x="18395" y="6648"/>
                  <a:pt x="18479" y="6697"/>
                </a:cubicBezTo>
                <a:cubicBezTo>
                  <a:pt x="18515" y="6718"/>
                  <a:pt x="18580" y="6736"/>
                  <a:pt x="18628" y="6722"/>
                </a:cubicBezTo>
                <a:cubicBezTo>
                  <a:pt x="18681" y="6707"/>
                  <a:pt x="18760" y="6658"/>
                  <a:pt x="18802" y="6623"/>
                </a:cubicBezTo>
                <a:cubicBezTo>
                  <a:pt x="18877" y="6561"/>
                  <a:pt x="18897" y="6491"/>
                  <a:pt x="18901" y="6400"/>
                </a:cubicBezTo>
                <a:cubicBezTo>
                  <a:pt x="18905" y="6319"/>
                  <a:pt x="18908" y="6249"/>
                  <a:pt x="18876" y="6176"/>
                </a:cubicBezTo>
                <a:cubicBezTo>
                  <a:pt x="18842" y="6098"/>
                  <a:pt x="18813" y="6055"/>
                  <a:pt x="18728" y="6028"/>
                </a:cubicBezTo>
                <a:cubicBezTo>
                  <a:pt x="18648" y="6003"/>
                  <a:pt x="18586" y="5978"/>
                  <a:pt x="18504" y="5978"/>
                </a:cubicBezTo>
                <a:cubicBezTo>
                  <a:pt x="18467" y="5978"/>
                  <a:pt x="18455" y="6002"/>
                  <a:pt x="18430" y="6028"/>
                </a:cubicBezTo>
              </a:path>
              <a:path w="8980" h="3945">
                <a:moveTo>
                  <a:pt x="17983" y="6945"/>
                </a:moveTo>
                <a:cubicBezTo>
                  <a:pt x="18056" y="6945"/>
                  <a:pt x="18108" y="6924"/>
                  <a:pt x="18182" y="6921"/>
                </a:cubicBezTo>
                <a:cubicBezTo>
                  <a:pt x="18269" y="6917"/>
                  <a:pt x="18350" y="6906"/>
                  <a:pt x="18430" y="6896"/>
                </a:cubicBezTo>
                <a:cubicBezTo>
                  <a:pt x="18515" y="6885"/>
                  <a:pt x="18577" y="6908"/>
                  <a:pt x="18653" y="6921"/>
                </a:cubicBezTo>
                <a:cubicBezTo>
                  <a:pt x="18695" y="6921"/>
                  <a:pt x="18703" y="6921"/>
                  <a:pt x="18728" y="6921"/>
                </a:cubicBezTo>
                <a:cubicBezTo>
                  <a:pt x="18717" y="6889"/>
                  <a:pt x="18670" y="6896"/>
                  <a:pt x="18703" y="6896"/>
                </a:cubicBezTo>
                <a:cubicBezTo>
                  <a:pt x="18727" y="6896"/>
                  <a:pt x="18727" y="6896"/>
                  <a:pt x="18703" y="6896"/>
                </a:cubicBezTo>
              </a:path>
              <a:path w="8980" h="3945">
                <a:moveTo>
                  <a:pt x="18083" y="7392"/>
                </a:moveTo>
                <a:cubicBezTo>
                  <a:pt x="18153" y="7392"/>
                  <a:pt x="18226" y="7408"/>
                  <a:pt x="18281" y="7367"/>
                </a:cubicBezTo>
              </a:path>
              <a:path w="8980" h="3945">
                <a:moveTo>
                  <a:pt x="18430" y="7243"/>
                </a:moveTo>
                <a:cubicBezTo>
                  <a:pt x="18515" y="7197"/>
                  <a:pt x="18540" y="7169"/>
                  <a:pt x="18628" y="7169"/>
                </a:cubicBezTo>
                <a:cubicBezTo>
                  <a:pt x="18675" y="7169"/>
                  <a:pt x="18731" y="7193"/>
                  <a:pt x="18752" y="7243"/>
                </a:cubicBezTo>
                <a:cubicBezTo>
                  <a:pt x="18770" y="7284"/>
                  <a:pt x="18744" y="7336"/>
                  <a:pt x="18728" y="7367"/>
                </a:cubicBezTo>
                <a:cubicBezTo>
                  <a:pt x="18685" y="7449"/>
                  <a:pt x="18629" y="7515"/>
                  <a:pt x="18579" y="7590"/>
                </a:cubicBezTo>
                <a:cubicBezTo>
                  <a:pt x="18557" y="7624"/>
                  <a:pt x="18516" y="7679"/>
                  <a:pt x="18504" y="7714"/>
                </a:cubicBezTo>
                <a:cubicBezTo>
                  <a:pt x="18489" y="7758"/>
                  <a:pt x="18514" y="7785"/>
                  <a:pt x="18554" y="7789"/>
                </a:cubicBezTo>
                <a:cubicBezTo>
                  <a:pt x="18650" y="7800"/>
                  <a:pt x="18739" y="7784"/>
                  <a:pt x="18827" y="7764"/>
                </a:cubicBezTo>
                <a:cubicBezTo>
                  <a:pt x="18862" y="7764"/>
                  <a:pt x="18879" y="7759"/>
                  <a:pt x="18901" y="7739"/>
                </a:cubicBezTo>
              </a:path>
              <a:path w="8980" h="3945">
                <a:moveTo>
                  <a:pt x="19149" y="6970"/>
                </a:moveTo>
                <a:cubicBezTo>
                  <a:pt x="19234" y="6938"/>
                  <a:pt x="19309" y="6903"/>
                  <a:pt x="19397" y="6896"/>
                </a:cubicBezTo>
                <a:cubicBezTo>
                  <a:pt x="19422" y="6894"/>
                  <a:pt x="19447" y="6896"/>
                  <a:pt x="19472" y="6896"/>
                </a:cubicBezTo>
              </a:path>
              <a:path w="8980" h="3945">
                <a:moveTo>
                  <a:pt x="19224" y="7119"/>
                </a:moveTo>
                <a:cubicBezTo>
                  <a:pt x="19352" y="7113"/>
                  <a:pt x="19388" y="7117"/>
                  <a:pt x="19496" y="7069"/>
                </a:cubicBezTo>
              </a:path>
              <a:path w="8980" h="3945">
                <a:moveTo>
                  <a:pt x="20017" y="6375"/>
                </a:moveTo>
                <a:cubicBezTo>
                  <a:pt x="19994" y="6470"/>
                  <a:pt x="19967" y="6553"/>
                  <a:pt x="19943" y="6648"/>
                </a:cubicBezTo>
                <a:cubicBezTo>
                  <a:pt x="19922" y="6733"/>
                  <a:pt x="19894" y="6879"/>
                  <a:pt x="19918" y="6970"/>
                </a:cubicBezTo>
                <a:cubicBezTo>
                  <a:pt x="19933" y="7026"/>
                  <a:pt x="20008" y="7105"/>
                  <a:pt x="20067" y="7119"/>
                </a:cubicBezTo>
                <a:cubicBezTo>
                  <a:pt x="20140" y="7136"/>
                  <a:pt x="20192" y="7138"/>
                  <a:pt x="20265" y="7119"/>
                </a:cubicBezTo>
                <a:cubicBezTo>
                  <a:pt x="20346" y="7098"/>
                  <a:pt x="20457" y="7008"/>
                  <a:pt x="20513" y="6945"/>
                </a:cubicBezTo>
                <a:cubicBezTo>
                  <a:pt x="20577" y="6873"/>
                  <a:pt x="20603" y="6764"/>
                  <a:pt x="20613" y="6672"/>
                </a:cubicBezTo>
                <a:cubicBezTo>
                  <a:pt x="20621" y="6604"/>
                  <a:pt x="20585" y="6454"/>
                  <a:pt x="20538" y="6400"/>
                </a:cubicBezTo>
                <a:cubicBezTo>
                  <a:pt x="20495" y="6351"/>
                  <a:pt x="20403" y="6300"/>
                  <a:pt x="20340" y="6276"/>
                </a:cubicBezTo>
                <a:cubicBezTo>
                  <a:pt x="20247" y="6240"/>
                  <a:pt x="20218" y="6260"/>
                  <a:pt x="20141" y="6276"/>
                </a:cubicBezTo>
                <a:cubicBezTo>
                  <a:pt x="20067" y="6276"/>
                  <a:pt x="20031" y="6291"/>
                  <a:pt x="19993" y="6350"/>
                </a:cubicBezTo>
              </a:path>
              <a:path w="8980" h="3945">
                <a:moveTo>
                  <a:pt x="13097" y="9599"/>
                </a:moveTo>
                <a:cubicBezTo>
                  <a:pt x="13112" y="9535"/>
                  <a:pt x="13037" y="9507"/>
                  <a:pt x="13097" y="9426"/>
                </a:cubicBezTo>
                <a:cubicBezTo>
                  <a:pt x="13112" y="9406"/>
                  <a:pt x="13230" y="9332"/>
                  <a:pt x="13246" y="9327"/>
                </a:cubicBezTo>
                <a:cubicBezTo>
                  <a:pt x="13322" y="9303"/>
                  <a:pt x="13465" y="9302"/>
                  <a:pt x="13543" y="9302"/>
                </a:cubicBezTo>
                <a:cubicBezTo>
                  <a:pt x="13720" y="9302"/>
                  <a:pt x="13873" y="9357"/>
                  <a:pt x="14039" y="9401"/>
                </a:cubicBezTo>
                <a:cubicBezTo>
                  <a:pt x="14186" y="9440"/>
                  <a:pt x="14296" y="9494"/>
                  <a:pt x="14436" y="9550"/>
                </a:cubicBezTo>
                <a:cubicBezTo>
                  <a:pt x="14563" y="9601"/>
                  <a:pt x="14715" y="9653"/>
                  <a:pt x="14858" y="9699"/>
                </a:cubicBezTo>
                <a:cubicBezTo>
                  <a:pt x="15046" y="9759"/>
                  <a:pt x="15181" y="9770"/>
                  <a:pt x="15379" y="9773"/>
                </a:cubicBezTo>
                <a:cubicBezTo>
                  <a:pt x="15729" y="9778"/>
                  <a:pt x="16055" y="9741"/>
                  <a:pt x="16396" y="9699"/>
                </a:cubicBezTo>
                <a:cubicBezTo>
                  <a:pt x="16599" y="9674"/>
                  <a:pt x="16816" y="9642"/>
                  <a:pt x="17016" y="9599"/>
                </a:cubicBezTo>
                <a:cubicBezTo>
                  <a:pt x="17238" y="9551"/>
                  <a:pt x="17466" y="9568"/>
                  <a:pt x="17686" y="9525"/>
                </a:cubicBezTo>
                <a:cubicBezTo>
                  <a:pt x="17885" y="9486"/>
                  <a:pt x="18097" y="9440"/>
                  <a:pt x="18306" y="9475"/>
                </a:cubicBezTo>
                <a:cubicBezTo>
                  <a:pt x="18590" y="9523"/>
                  <a:pt x="18928" y="9550"/>
                  <a:pt x="19199" y="9624"/>
                </a:cubicBezTo>
                <a:cubicBezTo>
                  <a:pt x="19422" y="9685"/>
                  <a:pt x="19639" y="9720"/>
                  <a:pt x="19869" y="9773"/>
                </a:cubicBezTo>
                <a:cubicBezTo>
                  <a:pt x="20109" y="9829"/>
                  <a:pt x="20348" y="9858"/>
                  <a:pt x="20588" y="9897"/>
                </a:cubicBezTo>
                <a:cubicBezTo>
                  <a:pt x="20865" y="9942"/>
                  <a:pt x="21151" y="9922"/>
                  <a:pt x="21431" y="9922"/>
                </a:cubicBezTo>
                <a:cubicBezTo>
                  <a:pt x="21588" y="9922"/>
                  <a:pt x="21857" y="9953"/>
                  <a:pt x="21977" y="9847"/>
                </a:cubicBezTo>
                <a:cubicBezTo>
                  <a:pt x="22070" y="9765"/>
                  <a:pt x="21981" y="9779"/>
                  <a:pt x="22027" y="96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53040" y="4446720"/>
            <a:ext cx="1830240" cy="2071440"/>
          </a:xfrm>
          <a:custGeom>
            <a:avLst/>
            <a:gdLst/>
            <a:ahLst/>
            <a:rect l="l" t="t" r="r" b="b"/>
            <a:pathLst>
              <a:path w="5086" h="5755">
                <a:moveTo>
                  <a:pt x="14734" y="12526"/>
                </a:moveTo>
                <a:cubicBezTo>
                  <a:pt x="14746" y="12575"/>
                  <a:pt x="14771" y="12622"/>
                  <a:pt x="14784" y="12675"/>
                </a:cubicBezTo>
                <a:cubicBezTo>
                  <a:pt x="14807" y="12767"/>
                  <a:pt x="14871" y="12899"/>
                  <a:pt x="14932" y="12973"/>
                </a:cubicBezTo>
                <a:cubicBezTo>
                  <a:pt x="15010" y="13069"/>
                  <a:pt x="15088" y="13142"/>
                  <a:pt x="15180" y="13221"/>
                </a:cubicBezTo>
                <a:cubicBezTo>
                  <a:pt x="15235" y="13268"/>
                  <a:pt x="15297" y="13326"/>
                  <a:pt x="15379" y="13295"/>
                </a:cubicBezTo>
                <a:cubicBezTo>
                  <a:pt x="15404" y="13271"/>
                  <a:pt x="15413" y="13263"/>
                  <a:pt x="15429" y="13246"/>
                </a:cubicBezTo>
              </a:path>
              <a:path w="5086" h="5755">
                <a:moveTo>
                  <a:pt x="15081" y="12502"/>
                </a:moveTo>
                <a:cubicBezTo>
                  <a:pt x="14985" y="12654"/>
                  <a:pt x="14907" y="12800"/>
                  <a:pt x="14808" y="12948"/>
                </a:cubicBezTo>
                <a:cubicBezTo>
                  <a:pt x="14764" y="13013"/>
                  <a:pt x="14702" y="13117"/>
                  <a:pt x="14684" y="13196"/>
                </a:cubicBezTo>
                <a:cubicBezTo>
                  <a:pt x="14674" y="13243"/>
                  <a:pt x="14676" y="13284"/>
                  <a:pt x="14709" y="13295"/>
                </a:cubicBezTo>
              </a:path>
              <a:path w="5086" h="5755">
                <a:moveTo>
                  <a:pt x="15329" y="12750"/>
                </a:moveTo>
                <a:cubicBezTo>
                  <a:pt x="15344" y="12855"/>
                  <a:pt x="15354" y="12943"/>
                  <a:pt x="15354" y="13047"/>
                </a:cubicBezTo>
                <a:cubicBezTo>
                  <a:pt x="15354" y="13064"/>
                  <a:pt x="15329" y="13117"/>
                  <a:pt x="15329" y="13072"/>
                </a:cubicBezTo>
              </a:path>
              <a:path w="5086" h="5755">
                <a:moveTo>
                  <a:pt x="15453" y="12378"/>
                </a:moveTo>
                <a:cubicBezTo>
                  <a:pt x="15488" y="12352"/>
                  <a:pt x="15484" y="12353"/>
                  <a:pt x="15528" y="12353"/>
                </a:cubicBezTo>
              </a:path>
              <a:path w="5086" h="5755">
                <a:moveTo>
                  <a:pt x="15602" y="12973"/>
                </a:moveTo>
                <a:cubicBezTo>
                  <a:pt x="15602" y="12998"/>
                  <a:pt x="15602" y="13022"/>
                  <a:pt x="15602" y="13047"/>
                </a:cubicBezTo>
                <a:cubicBezTo>
                  <a:pt x="15628" y="13038"/>
                  <a:pt x="15667" y="12991"/>
                  <a:pt x="15677" y="12948"/>
                </a:cubicBezTo>
                <a:cubicBezTo>
                  <a:pt x="15694" y="12876"/>
                  <a:pt x="15712" y="12838"/>
                  <a:pt x="15751" y="12774"/>
                </a:cubicBezTo>
                <a:cubicBezTo>
                  <a:pt x="15777" y="12731"/>
                  <a:pt x="15776" y="12719"/>
                  <a:pt x="15776" y="12675"/>
                </a:cubicBezTo>
                <a:cubicBezTo>
                  <a:pt x="15816" y="12688"/>
                  <a:pt x="15801" y="12723"/>
                  <a:pt x="15801" y="12774"/>
                </a:cubicBezTo>
                <a:cubicBezTo>
                  <a:pt x="15801" y="12860"/>
                  <a:pt x="15815" y="12918"/>
                  <a:pt x="15850" y="12998"/>
                </a:cubicBezTo>
                <a:cubicBezTo>
                  <a:pt x="15877" y="13060"/>
                  <a:pt x="15942" y="13133"/>
                  <a:pt x="15999" y="13171"/>
                </a:cubicBezTo>
                <a:cubicBezTo>
                  <a:pt x="16077" y="13223"/>
                  <a:pt x="16108" y="13175"/>
                  <a:pt x="16173" y="13122"/>
                </a:cubicBezTo>
              </a:path>
              <a:path w="5086" h="5755">
                <a:moveTo>
                  <a:pt x="16272" y="12427"/>
                </a:moveTo>
                <a:cubicBezTo>
                  <a:pt x="16261" y="12545"/>
                  <a:pt x="16231" y="12647"/>
                  <a:pt x="16247" y="12774"/>
                </a:cubicBezTo>
                <a:cubicBezTo>
                  <a:pt x="16258" y="12865"/>
                  <a:pt x="16274" y="12986"/>
                  <a:pt x="16297" y="13072"/>
                </a:cubicBezTo>
                <a:cubicBezTo>
                  <a:pt x="16310" y="13119"/>
                  <a:pt x="16323" y="13158"/>
                  <a:pt x="16346" y="13196"/>
                </a:cubicBezTo>
              </a:path>
              <a:path w="5086" h="5755">
                <a:moveTo>
                  <a:pt x="16073" y="12700"/>
                </a:moveTo>
                <a:cubicBezTo>
                  <a:pt x="16179" y="12685"/>
                  <a:pt x="16242" y="12695"/>
                  <a:pt x="16346" y="12700"/>
                </a:cubicBezTo>
                <a:cubicBezTo>
                  <a:pt x="16363" y="12700"/>
                  <a:pt x="16379" y="12700"/>
                  <a:pt x="16396" y="12700"/>
                </a:cubicBezTo>
              </a:path>
              <a:path w="5086" h="5755">
                <a:moveTo>
                  <a:pt x="16793" y="12477"/>
                </a:moveTo>
                <a:cubicBezTo>
                  <a:pt x="16793" y="12502"/>
                  <a:pt x="16793" y="12526"/>
                  <a:pt x="16793" y="12551"/>
                </a:cubicBezTo>
              </a:path>
              <a:path w="5086" h="5755">
                <a:moveTo>
                  <a:pt x="16743" y="12998"/>
                </a:moveTo>
                <a:cubicBezTo>
                  <a:pt x="16760" y="13014"/>
                  <a:pt x="16776" y="13031"/>
                  <a:pt x="16793" y="13047"/>
                </a:cubicBezTo>
              </a:path>
              <a:path w="5086" h="5755">
                <a:moveTo>
                  <a:pt x="15081" y="13692"/>
                </a:moveTo>
                <a:cubicBezTo>
                  <a:pt x="15075" y="13746"/>
                  <a:pt x="15075" y="13761"/>
                  <a:pt x="15056" y="13816"/>
                </a:cubicBezTo>
                <a:cubicBezTo>
                  <a:pt x="15034" y="13880"/>
                  <a:pt x="15005" y="13948"/>
                  <a:pt x="14982" y="14015"/>
                </a:cubicBezTo>
                <a:cubicBezTo>
                  <a:pt x="14942" y="14131"/>
                  <a:pt x="14912" y="14238"/>
                  <a:pt x="14908" y="14362"/>
                </a:cubicBezTo>
                <a:cubicBezTo>
                  <a:pt x="14904" y="14470"/>
                  <a:pt x="14932" y="14529"/>
                  <a:pt x="14982" y="14610"/>
                </a:cubicBezTo>
                <a:cubicBezTo>
                  <a:pt x="15029" y="14686"/>
                  <a:pt x="15086" y="14743"/>
                  <a:pt x="15180" y="14759"/>
                </a:cubicBezTo>
                <a:cubicBezTo>
                  <a:pt x="15271" y="14774"/>
                  <a:pt x="15339" y="14766"/>
                  <a:pt x="15404" y="14709"/>
                </a:cubicBezTo>
                <a:cubicBezTo>
                  <a:pt x="15476" y="14645"/>
                  <a:pt x="15537" y="14555"/>
                  <a:pt x="15553" y="14461"/>
                </a:cubicBezTo>
                <a:cubicBezTo>
                  <a:pt x="15577" y="14325"/>
                  <a:pt x="15559" y="14145"/>
                  <a:pt x="15528" y="14015"/>
                </a:cubicBezTo>
                <a:cubicBezTo>
                  <a:pt x="15508" y="13929"/>
                  <a:pt x="15485" y="13815"/>
                  <a:pt x="15429" y="13742"/>
                </a:cubicBezTo>
                <a:cubicBezTo>
                  <a:pt x="15381" y="13680"/>
                  <a:pt x="15354" y="13636"/>
                  <a:pt x="15280" y="13618"/>
                </a:cubicBezTo>
                <a:cubicBezTo>
                  <a:pt x="15220" y="13603"/>
                  <a:pt x="15179" y="13625"/>
                  <a:pt x="15156" y="13667"/>
                </a:cubicBezTo>
                <a:cubicBezTo>
                  <a:pt x="15139" y="13698"/>
                  <a:pt x="15168" y="13722"/>
                  <a:pt x="15180" y="13742"/>
                </a:cubicBezTo>
              </a:path>
              <a:path w="5086" h="5755">
                <a:moveTo>
                  <a:pt x="15801" y="13990"/>
                </a:moveTo>
                <a:cubicBezTo>
                  <a:pt x="15887" y="13970"/>
                  <a:pt x="15960" y="13965"/>
                  <a:pt x="16049" y="13965"/>
                </a:cubicBezTo>
                <a:cubicBezTo>
                  <a:pt x="16065" y="13965"/>
                  <a:pt x="16082" y="13965"/>
                  <a:pt x="16098" y="13965"/>
                </a:cubicBezTo>
              </a:path>
              <a:path w="5086" h="5755">
                <a:moveTo>
                  <a:pt x="15949" y="14163"/>
                </a:moveTo>
                <a:cubicBezTo>
                  <a:pt x="15963" y="14249"/>
                  <a:pt x="16031" y="14230"/>
                  <a:pt x="16123" y="14238"/>
                </a:cubicBezTo>
              </a:path>
              <a:path w="5086" h="5755">
                <a:moveTo>
                  <a:pt x="16594" y="13717"/>
                </a:moveTo>
                <a:cubicBezTo>
                  <a:pt x="16670" y="13717"/>
                  <a:pt x="16748" y="13711"/>
                  <a:pt x="16793" y="13791"/>
                </a:cubicBezTo>
                <a:cubicBezTo>
                  <a:pt x="16852" y="13896"/>
                  <a:pt x="16908" y="14066"/>
                  <a:pt x="16892" y="14188"/>
                </a:cubicBezTo>
                <a:cubicBezTo>
                  <a:pt x="16880" y="14277"/>
                  <a:pt x="16823" y="14392"/>
                  <a:pt x="16768" y="14461"/>
                </a:cubicBezTo>
                <a:cubicBezTo>
                  <a:pt x="16740" y="14497"/>
                  <a:pt x="16635" y="14568"/>
                  <a:pt x="16594" y="14560"/>
                </a:cubicBezTo>
                <a:cubicBezTo>
                  <a:pt x="16547" y="14551"/>
                  <a:pt x="16519" y="14528"/>
                  <a:pt x="16495" y="14486"/>
                </a:cubicBezTo>
                <a:cubicBezTo>
                  <a:pt x="16466" y="14435"/>
                  <a:pt x="16470" y="14386"/>
                  <a:pt x="16495" y="14337"/>
                </a:cubicBezTo>
                <a:cubicBezTo>
                  <a:pt x="16531" y="14264"/>
                  <a:pt x="16635" y="14280"/>
                  <a:pt x="16694" y="14312"/>
                </a:cubicBezTo>
                <a:cubicBezTo>
                  <a:pt x="16763" y="14349"/>
                  <a:pt x="16845" y="14462"/>
                  <a:pt x="16917" y="14486"/>
                </a:cubicBezTo>
                <a:cubicBezTo>
                  <a:pt x="17001" y="14514"/>
                  <a:pt x="17016" y="14517"/>
                  <a:pt x="17090" y="14461"/>
                </a:cubicBezTo>
              </a:path>
              <a:path w="5086" h="5755">
                <a:moveTo>
                  <a:pt x="17239" y="13717"/>
                </a:moveTo>
                <a:cubicBezTo>
                  <a:pt x="17342" y="13702"/>
                  <a:pt x="17406" y="13717"/>
                  <a:pt x="17512" y="13717"/>
                </a:cubicBezTo>
                <a:cubicBezTo>
                  <a:pt x="17576" y="13717"/>
                  <a:pt x="17602" y="13714"/>
                  <a:pt x="17661" y="13692"/>
                </a:cubicBezTo>
              </a:path>
              <a:path w="5086" h="5755">
                <a:moveTo>
                  <a:pt x="17239" y="13692"/>
                </a:moveTo>
                <a:cubicBezTo>
                  <a:pt x="17177" y="13761"/>
                  <a:pt x="17122" y="13803"/>
                  <a:pt x="17115" y="13891"/>
                </a:cubicBezTo>
                <a:cubicBezTo>
                  <a:pt x="17110" y="13945"/>
                  <a:pt x="17142" y="13973"/>
                  <a:pt x="17165" y="13990"/>
                </a:cubicBezTo>
                <a:cubicBezTo>
                  <a:pt x="17220" y="14031"/>
                  <a:pt x="17205" y="13997"/>
                  <a:pt x="17264" y="13990"/>
                </a:cubicBezTo>
                <a:cubicBezTo>
                  <a:pt x="17309" y="13985"/>
                  <a:pt x="17334" y="13965"/>
                  <a:pt x="17388" y="13965"/>
                </a:cubicBezTo>
                <a:cubicBezTo>
                  <a:pt x="17475" y="13965"/>
                  <a:pt x="17460" y="13953"/>
                  <a:pt x="17512" y="14015"/>
                </a:cubicBezTo>
                <a:cubicBezTo>
                  <a:pt x="17561" y="14074"/>
                  <a:pt x="17599" y="14162"/>
                  <a:pt x="17611" y="14238"/>
                </a:cubicBezTo>
                <a:cubicBezTo>
                  <a:pt x="17624" y="14322"/>
                  <a:pt x="17620" y="14457"/>
                  <a:pt x="17587" y="14536"/>
                </a:cubicBezTo>
                <a:cubicBezTo>
                  <a:pt x="17574" y="14567"/>
                  <a:pt x="17488" y="14628"/>
                  <a:pt x="17462" y="14635"/>
                </a:cubicBezTo>
                <a:cubicBezTo>
                  <a:pt x="17396" y="14653"/>
                  <a:pt x="17325" y="14614"/>
                  <a:pt x="17289" y="14560"/>
                </a:cubicBezTo>
                <a:cubicBezTo>
                  <a:pt x="17289" y="14552"/>
                  <a:pt x="17289" y="14544"/>
                  <a:pt x="17289" y="14536"/>
                </a:cubicBezTo>
              </a:path>
              <a:path w="5086" h="5755">
                <a:moveTo>
                  <a:pt x="17810" y="14089"/>
                </a:moveTo>
                <a:cubicBezTo>
                  <a:pt x="17874" y="14112"/>
                  <a:pt x="18029" y="14180"/>
                  <a:pt x="18107" y="14139"/>
                </a:cubicBezTo>
                <a:cubicBezTo>
                  <a:pt x="18124" y="14122"/>
                  <a:pt x="18140" y="14106"/>
                  <a:pt x="18157" y="14089"/>
                </a:cubicBezTo>
              </a:path>
              <a:path w="5086" h="5755">
                <a:moveTo>
                  <a:pt x="18281" y="13816"/>
                </a:moveTo>
                <a:cubicBezTo>
                  <a:pt x="18355" y="13972"/>
                  <a:pt x="18411" y="14103"/>
                  <a:pt x="18504" y="14238"/>
                </a:cubicBezTo>
                <a:cubicBezTo>
                  <a:pt x="18593" y="14367"/>
                  <a:pt x="18684" y="14511"/>
                  <a:pt x="18802" y="14610"/>
                </a:cubicBezTo>
                <a:cubicBezTo>
                  <a:pt x="18819" y="14618"/>
                  <a:pt x="18835" y="14627"/>
                  <a:pt x="18852" y="14635"/>
                </a:cubicBezTo>
              </a:path>
              <a:path w="5086" h="5755">
                <a:moveTo>
                  <a:pt x="18653" y="13717"/>
                </a:moveTo>
                <a:cubicBezTo>
                  <a:pt x="18535" y="13915"/>
                  <a:pt x="18501" y="14054"/>
                  <a:pt x="18405" y="14238"/>
                </a:cubicBezTo>
                <a:cubicBezTo>
                  <a:pt x="18367" y="14310"/>
                  <a:pt x="18346" y="14396"/>
                  <a:pt x="18306" y="14461"/>
                </a:cubicBezTo>
                <a:cubicBezTo>
                  <a:pt x="18283" y="14484"/>
                  <a:pt x="18275" y="14488"/>
                  <a:pt x="18281" y="14511"/>
                </a:cubicBezTo>
              </a:path>
              <a:path w="5086" h="5755">
                <a:moveTo>
                  <a:pt x="18802" y="13370"/>
                </a:moveTo>
                <a:cubicBezTo>
                  <a:pt x="18935" y="13376"/>
                  <a:pt x="19053" y="13347"/>
                  <a:pt x="19124" y="13469"/>
                </a:cubicBezTo>
                <a:cubicBezTo>
                  <a:pt x="19155" y="13523"/>
                  <a:pt x="19175" y="13640"/>
                  <a:pt x="19124" y="13692"/>
                </a:cubicBezTo>
                <a:cubicBezTo>
                  <a:pt x="19085" y="13731"/>
                  <a:pt x="19018" y="13743"/>
                  <a:pt x="18976" y="13767"/>
                </a:cubicBezTo>
                <a:cubicBezTo>
                  <a:pt x="18929" y="13794"/>
                  <a:pt x="18948" y="13801"/>
                  <a:pt x="18901" y="13767"/>
                </a:cubicBezTo>
                <a:cubicBezTo>
                  <a:pt x="18910" y="13741"/>
                  <a:pt x="18958" y="13702"/>
                  <a:pt x="19000" y="13692"/>
                </a:cubicBezTo>
                <a:cubicBezTo>
                  <a:pt x="19058" y="13678"/>
                  <a:pt x="19171" y="13720"/>
                  <a:pt x="19224" y="13742"/>
                </a:cubicBezTo>
                <a:cubicBezTo>
                  <a:pt x="19268" y="13761"/>
                  <a:pt x="19302" y="13782"/>
                  <a:pt x="19348" y="13791"/>
                </a:cubicBezTo>
              </a:path>
              <a:path w="5086" h="5755">
                <a:moveTo>
                  <a:pt x="18083" y="14784"/>
                </a:moveTo>
                <a:cubicBezTo>
                  <a:pt x="18083" y="14907"/>
                  <a:pt x="18087" y="15036"/>
                  <a:pt x="18107" y="15156"/>
                </a:cubicBezTo>
                <a:cubicBezTo>
                  <a:pt x="18123" y="15254"/>
                  <a:pt x="18151" y="15362"/>
                  <a:pt x="18182" y="15453"/>
                </a:cubicBezTo>
              </a:path>
              <a:path w="5086" h="5755">
                <a:moveTo>
                  <a:pt x="17835" y="15056"/>
                </a:moveTo>
                <a:cubicBezTo>
                  <a:pt x="17929" y="15067"/>
                  <a:pt x="18014" y="15119"/>
                  <a:pt x="18107" y="15131"/>
                </a:cubicBezTo>
                <a:cubicBezTo>
                  <a:pt x="18200" y="15131"/>
                  <a:pt x="18226" y="15129"/>
                  <a:pt x="18281" y="15156"/>
                </a:cubicBezTo>
              </a:path>
              <a:path w="5086" h="5755">
                <a:moveTo>
                  <a:pt x="18504" y="14908"/>
                </a:moveTo>
                <a:cubicBezTo>
                  <a:pt x="18561" y="15036"/>
                  <a:pt x="18632" y="15135"/>
                  <a:pt x="18703" y="15255"/>
                </a:cubicBezTo>
                <a:cubicBezTo>
                  <a:pt x="18783" y="15390"/>
                  <a:pt x="18853" y="15511"/>
                  <a:pt x="18976" y="15602"/>
                </a:cubicBezTo>
              </a:path>
              <a:path w="5086" h="5755">
                <a:moveTo>
                  <a:pt x="18827" y="14709"/>
                </a:moveTo>
                <a:cubicBezTo>
                  <a:pt x="18761" y="14800"/>
                  <a:pt x="18688" y="14873"/>
                  <a:pt x="18653" y="14982"/>
                </a:cubicBezTo>
                <a:cubicBezTo>
                  <a:pt x="18615" y="15101"/>
                  <a:pt x="18568" y="15209"/>
                  <a:pt x="18529" y="15329"/>
                </a:cubicBezTo>
                <a:cubicBezTo>
                  <a:pt x="18504" y="15407"/>
                  <a:pt x="18454" y="15476"/>
                  <a:pt x="18430" y="15553"/>
                </a:cubicBezTo>
                <a:cubicBezTo>
                  <a:pt x="18430" y="15561"/>
                  <a:pt x="18430" y="15569"/>
                  <a:pt x="18430" y="15577"/>
                </a:cubicBezTo>
              </a:path>
              <a:path w="5086" h="5755">
                <a:moveTo>
                  <a:pt x="19025" y="14585"/>
                </a:moveTo>
                <a:cubicBezTo>
                  <a:pt x="19142" y="14634"/>
                  <a:pt x="19221" y="14633"/>
                  <a:pt x="19199" y="14734"/>
                </a:cubicBezTo>
                <a:cubicBezTo>
                  <a:pt x="19183" y="14807"/>
                  <a:pt x="19152" y="14811"/>
                  <a:pt x="19100" y="14858"/>
                </a:cubicBezTo>
                <a:cubicBezTo>
                  <a:pt x="19067" y="14888"/>
                  <a:pt x="19036" y="14897"/>
                  <a:pt x="19000" y="14932"/>
                </a:cubicBezTo>
                <a:cubicBezTo>
                  <a:pt x="19008" y="14955"/>
                  <a:pt x="19062" y="15017"/>
                  <a:pt x="19100" y="15032"/>
                </a:cubicBezTo>
                <a:cubicBezTo>
                  <a:pt x="19148" y="15051"/>
                  <a:pt x="19321" y="15096"/>
                  <a:pt x="19372" y="15081"/>
                </a:cubicBezTo>
                <a:cubicBezTo>
                  <a:pt x="19380" y="15073"/>
                  <a:pt x="19389" y="15064"/>
                  <a:pt x="19397" y="15056"/>
                </a:cubicBezTo>
              </a:path>
              <a:path w="5086" h="5755">
                <a:moveTo>
                  <a:pt x="14660" y="14759"/>
                </a:moveTo>
                <a:cubicBezTo>
                  <a:pt x="14682" y="14922"/>
                  <a:pt x="14684" y="15065"/>
                  <a:pt x="14684" y="15230"/>
                </a:cubicBezTo>
                <a:cubicBezTo>
                  <a:pt x="14684" y="15320"/>
                  <a:pt x="14703" y="15429"/>
                  <a:pt x="14660" y="15503"/>
                </a:cubicBezTo>
              </a:path>
              <a:path w="5086" h="5755">
                <a:moveTo>
                  <a:pt x="14312" y="15056"/>
                </a:moveTo>
                <a:cubicBezTo>
                  <a:pt x="14404" y="15056"/>
                  <a:pt x="14471" y="15078"/>
                  <a:pt x="14560" y="15081"/>
                </a:cubicBezTo>
                <a:cubicBezTo>
                  <a:pt x="14634" y="15084"/>
                  <a:pt x="14710" y="15081"/>
                  <a:pt x="14784" y="15081"/>
                </a:cubicBezTo>
              </a:path>
              <a:path w="5086" h="5755">
                <a:moveTo>
                  <a:pt x="15131" y="14932"/>
                </a:moveTo>
                <a:cubicBezTo>
                  <a:pt x="15221" y="15130"/>
                  <a:pt x="15284" y="15273"/>
                  <a:pt x="15429" y="15429"/>
                </a:cubicBezTo>
                <a:cubicBezTo>
                  <a:pt x="15506" y="15512"/>
                  <a:pt x="15552" y="15577"/>
                  <a:pt x="15652" y="15627"/>
                </a:cubicBezTo>
              </a:path>
              <a:path w="5086" h="5755">
                <a:moveTo>
                  <a:pt x="15553" y="14833"/>
                </a:moveTo>
                <a:cubicBezTo>
                  <a:pt x="15473" y="14883"/>
                  <a:pt x="15398" y="14944"/>
                  <a:pt x="15354" y="15032"/>
                </a:cubicBezTo>
                <a:cubicBezTo>
                  <a:pt x="15301" y="15137"/>
                  <a:pt x="15251" y="15247"/>
                  <a:pt x="15205" y="15354"/>
                </a:cubicBezTo>
                <a:cubicBezTo>
                  <a:pt x="15172" y="15431"/>
                  <a:pt x="15149" y="15523"/>
                  <a:pt x="15131" y="15602"/>
                </a:cubicBezTo>
                <a:cubicBezTo>
                  <a:pt x="15121" y="15644"/>
                  <a:pt x="15141" y="15569"/>
                  <a:pt x="15156" y="15528"/>
                </a:cubicBezTo>
              </a:path>
              <a:path w="5086" h="5755">
                <a:moveTo>
                  <a:pt x="15553" y="14635"/>
                </a:moveTo>
                <a:cubicBezTo>
                  <a:pt x="15634" y="14621"/>
                  <a:pt x="15740" y="14574"/>
                  <a:pt x="15801" y="14660"/>
                </a:cubicBezTo>
                <a:cubicBezTo>
                  <a:pt x="15844" y="14720"/>
                  <a:pt x="15851" y="14741"/>
                  <a:pt x="15825" y="14808"/>
                </a:cubicBezTo>
                <a:cubicBezTo>
                  <a:pt x="15806" y="14857"/>
                  <a:pt x="15769" y="14889"/>
                  <a:pt x="15751" y="14932"/>
                </a:cubicBezTo>
                <a:cubicBezTo>
                  <a:pt x="15718" y="15007"/>
                  <a:pt x="15736" y="15070"/>
                  <a:pt x="15801" y="15131"/>
                </a:cubicBezTo>
                <a:cubicBezTo>
                  <a:pt x="15839" y="15166"/>
                  <a:pt x="15932" y="15203"/>
                  <a:pt x="15974" y="15230"/>
                </a:cubicBezTo>
              </a:path>
              <a:path w="5086" h="5755">
                <a:moveTo>
                  <a:pt x="15453" y="15999"/>
                </a:moveTo>
                <a:cubicBezTo>
                  <a:pt x="15463" y="16119"/>
                  <a:pt x="15509" y="16234"/>
                  <a:pt x="15553" y="16346"/>
                </a:cubicBezTo>
                <a:cubicBezTo>
                  <a:pt x="15604" y="16476"/>
                  <a:pt x="15711" y="16612"/>
                  <a:pt x="15801" y="16718"/>
                </a:cubicBezTo>
                <a:cubicBezTo>
                  <a:pt x="15863" y="16781"/>
                  <a:pt x="15873" y="16799"/>
                  <a:pt x="15925" y="16818"/>
                </a:cubicBezTo>
              </a:path>
              <a:path w="5086" h="5755">
                <a:moveTo>
                  <a:pt x="15776" y="15900"/>
                </a:moveTo>
                <a:cubicBezTo>
                  <a:pt x="15695" y="16081"/>
                  <a:pt x="15634" y="16254"/>
                  <a:pt x="15577" y="16446"/>
                </a:cubicBezTo>
                <a:cubicBezTo>
                  <a:pt x="15549" y="16540"/>
                  <a:pt x="15506" y="16627"/>
                  <a:pt x="15478" y="16718"/>
                </a:cubicBezTo>
                <a:cubicBezTo>
                  <a:pt x="15478" y="16726"/>
                  <a:pt x="15478" y="16735"/>
                  <a:pt x="15478" y="16743"/>
                </a:cubicBezTo>
              </a:path>
              <a:path w="5086" h="5755">
                <a:moveTo>
                  <a:pt x="15925" y="15627"/>
                </a:moveTo>
                <a:cubicBezTo>
                  <a:pt x="16004" y="15627"/>
                  <a:pt x="16114" y="15608"/>
                  <a:pt x="16173" y="15677"/>
                </a:cubicBezTo>
                <a:cubicBezTo>
                  <a:pt x="16202" y="15711"/>
                  <a:pt x="16212" y="15809"/>
                  <a:pt x="16197" y="15850"/>
                </a:cubicBezTo>
                <a:cubicBezTo>
                  <a:pt x="16183" y="15887"/>
                  <a:pt x="16135" y="15912"/>
                  <a:pt x="16123" y="15949"/>
                </a:cubicBezTo>
                <a:cubicBezTo>
                  <a:pt x="16109" y="15990"/>
                  <a:pt x="16192" y="16042"/>
                  <a:pt x="16222" y="16049"/>
                </a:cubicBezTo>
                <a:cubicBezTo>
                  <a:pt x="16305" y="16069"/>
                  <a:pt x="16330" y="16062"/>
                  <a:pt x="16421" y="16049"/>
                </a:cubicBezTo>
              </a:path>
              <a:path w="5086" h="5755">
                <a:moveTo>
                  <a:pt x="16222" y="16321"/>
                </a:moveTo>
                <a:cubicBezTo>
                  <a:pt x="16337" y="16353"/>
                  <a:pt x="16314" y="16354"/>
                  <a:pt x="16421" y="16297"/>
                </a:cubicBezTo>
              </a:path>
              <a:path w="5086" h="5755">
                <a:moveTo>
                  <a:pt x="16247" y="16396"/>
                </a:moveTo>
                <a:cubicBezTo>
                  <a:pt x="16401" y="16440"/>
                  <a:pt x="16406" y="16456"/>
                  <a:pt x="16545" y="16421"/>
                </a:cubicBezTo>
              </a:path>
              <a:path w="5086" h="5755">
                <a:moveTo>
                  <a:pt x="16942" y="15900"/>
                </a:moveTo>
                <a:cubicBezTo>
                  <a:pt x="16997" y="15889"/>
                  <a:pt x="17094" y="15883"/>
                  <a:pt x="17140" y="15949"/>
                </a:cubicBezTo>
                <a:cubicBezTo>
                  <a:pt x="17199" y="16036"/>
                  <a:pt x="17206" y="16199"/>
                  <a:pt x="17190" y="16297"/>
                </a:cubicBezTo>
                <a:cubicBezTo>
                  <a:pt x="17172" y="16405"/>
                  <a:pt x="17115" y="16493"/>
                  <a:pt x="17041" y="16570"/>
                </a:cubicBezTo>
                <a:cubicBezTo>
                  <a:pt x="16994" y="16619"/>
                  <a:pt x="16936" y="16662"/>
                  <a:pt x="16867" y="16669"/>
                </a:cubicBezTo>
                <a:cubicBezTo>
                  <a:pt x="16802" y="16676"/>
                  <a:pt x="16798" y="16655"/>
                  <a:pt x="16793" y="16594"/>
                </a:cubicBezTo>
                <a:cubicBezTo>
                  <a:pt x="16791" y="16571"/>
                  <a:pt x="16814" y="16479"/>
                  <a:pt x="16842" y="16470"/>
                </a:cubicBezTo>
                <a:cubicBezTo>
                  <a:pt x="16924" y="16445"/>
                  <a:pt x="16996" y="16514"/>
                  <a:pt x="17041" y="16570"/>
                </a:cubicBezTo>
                <a:cubicBezTo>
                  <a:pt x="17078" y="16615"/>
                  <a:pt x="17140" y="16720"/>
                  <a:pt x="17190" y="16743"/>
                </a:cubicBezTo>
                <a:cubicBezTo>
                  <a:pt x="17250" y="16771"/>
                  <a:pt x="17303" y="16699"/>
                  <a:pt x="17338" y="16669"/>
                </a:cubicBezTo>
              </a:path>
              <a:path w="5086" h="5755">
                <a:moveTo>
                  <a:pt x="17611" y="15999"/>
                </a:moveTo>
                <a:cubicBezTo>
                  <a:pt x="17695" y="15978"/>
                  <a:pt x="17777" y="15992"/>
                  <a:pt x="17859" y="15974"/>
                </a:cubicBezTo>
                <a:cubicBezTo>
                  <a:pt x="17884" y="15966"/>
                  <a:pt x="17909" y="15957"/>
                  <a:pt x="17934" y="15949"/>
                </a:cubicBezTo>
              </a:path>
              <a:path w="5086" h="5755">
                <a:moveTo>
                  <a:pt x="17512" y="15999"/>
                </a:moveTo>
                <a:cubicBezTo>
                  <a:pt x="17484" y="16110"/>
                  <a:pt x="17487" y="16128"/>
                  <a:pt x="17537" y="16222"/>
                </a:cubicBezTo>
                <a:cubicBezTo>
                  <a:pt x="17581" y="16304"/>
                  <a:pt x="17645" y="16334"/>
                  <a:pt x="17711" y="16396"/>
                </a:cubicBezTo>
                <a:cubicBezTo>
                  <a:pt x="17778" y="16459"/>
                  <a:pt x="17806" y="16501"/>
                  <a:pt x="17810" y="16594"/>
                </a:cubicBezTo>
                <a:cubicBezTo>
                  <a:pt x="17813" y="16658"/>
                  <a:pt x="17786" y="16770"/>
                  <a:pt x="17735" y="16818"/>
                </a:cubicBezTo>
                <a:cubicBezTo>
                  <a:pt x="17663" y="16885"/>
                  <a:pt x="17611" y="16855"/>
                  <a:pt x="17537" y="16818"/>
                </a:cubicBezTo>
                <a:cubicBezTo>
                  <a:pt x="17477" y="16788"/>
                  <a:pt x="17451" y="16773"/>
                  <a:pt x="17413" y="16743"/>
                </a:cubicBezTo>
              </a:path>
              <a:path w="5086" h="5755">
                <a:moveTo>
                  <a:pt x="14982" y="15875"/>
                </a:moveTo>
                <a:cubicBezTo>
                  <a:pt x="14949" y="15962"/>
                  <a:pt x="14935" y="16053"/>
                  <a:pt x="14932" y="16148"/>
                </a:cubicBezTo>
                <a:cubicBezTo>
                  <a:pt x="14929" y="16274"/>
                  <a:pt x="14966" y="16375"/>
                  <a:pt x="14982" y="16495"/>
                </a:cubicBezTo>
                <a:cubicBezTo>
                  <a:pt x="14982" y="16540"/>
                  <a:pt x="14979" y="16553"/>
                  <a:pt x="15007" y="16570"/>
                </a:cubicBezTo>
                <a:cubicBezTo>
                  <a:pt x="15055" y="16490"/>
                  <a:pt x="15052" y="16273"/>
                  <a:pt x="15056" y="16197"/>
                </a:cubicBezTo>
                <a:cubicBezTo>
                  <a:pt x="15065" y="16044"/>
                  <a:pt x="15094" y="15901"/>
                  <a:pt x="15131" y="15751"/>
                </a:cubicBezTo>
                <a:cubicBezTo>
                  <a:pt x="15158" y="15641"/>
                  <a:pt x="15170" y="15489"/>
                  <a:pt x="15255" y="15404"/>
                </a:cubicBezTo>
                <a:cubicBezTo>
                  <a:pt x="15295" y="15363"/>
                  <a:pt x="15428" y="15369"/>
                  <a:pt x="15478" y="15379"/>
                </a:cubicBezTo>
                <a:cubicBezTo>
                  <a:pt x="15561" y="15395"/>
                  <a:pt x="15645" y="15429"/>
                  <a:pt x="15726" y="15453"/>
                </a:cubicBezTo>
              </a:path>
              <a:path w="5086" h="5755">
                <a:moveTo>
                  <a:pt x="16718" y="15900"/>
                </a:moveTo>
                <a:cubicBezTo>
                  <a:pt x="16712" y="16053"/>
                  <a:pt x="16694" y="16193"/>
                  <a:pt x="16694" y="16346"/>
                </a:cubicBezTo>
                <a:cubicBezTo>
                  <a:pt x="16694" y="16421"/>
                  <a:pt x="16694" y="16495"/>
                  <a:pt x="16694" y="16570"/>
                </a:cubicBezTo>
                <a:cubicBezTo>
                  <a:pt x="16694" y="16513"/>
                  <a:pt x="16684" y="16502"/>
                  <a:pt x="16694" y="16446"/>
                </a:cubicBezTo>
                <a:cubicBezTo>
                  <a:pt x="16717" y="16321"/>
                  <a:pt x="16702" y="16200"/>
                  <a:pt x="16718" y="16073"/>
                </a:cubicBezTo>
                <a:cubicBezTo>
                  <a:pt x="16735" y="15937"/>
                  <a:pt x="16743" y="15814"/>
                  <a:pt x="16743" y="15677"/>
                </a:cubicBezTo>
                <a:cubicBezTo>
                  <a:pt x="16743" y="15593"/>
                  <a:pt x="16753" y="15478"/>
                  <a:pt x="16793" y="15404"/>
                </a:cubicBezTo>
                <a:cubicBezTo>
                  <a:pt x="16842" y="15312"/>
                  <a:pt x="16915" y="15311"/>
                  <a:pt x="17016" y="15329"/>
                </a:cubicBezTo>
                <a:cubicBezTo>
                  <a:pt x="17140" y="15351"/>
                  <a:pt x="17246" y="15411"/>
                  <a:pt x="17363" y="15453"/>
                </a:cubicBezTo>
                <a:cubicBezTo>
                  <a:pt x="17430" y="15477"/>
                  <a:pt x="17514" y="15521"/>
                  <a:pt x="17587" y="15503"/>
                </a:cubicBezTo>
                <a:cubicBezTo>
                  <a:pt x="17609" y="15480"/>
                  <a:pt x="17617" y="15475"/>
                  <a:pt x="17611" y="15453"/>
                </a:cubicBezTo>
              </a:path>
              <a:path w="5086" h="5755">
                <a:moveTo>
                  <a:pt x="16520" y="15255"/>
                </a:moveTo>
                <a:cubicBezTo>
                  <a:pt x="16510" y="15369"/>
                  <a:pt x="16508" y="15442"/>
                  <a:pt x="16520" y="15553"/>
                </a:cubicBezTo>
                <a:cubicBezTo>
                  <a:pt x="16527" y="15617"/>
                  <a:pt x="16520" y="15686"/>
                  <a:pt x="16520" y="15751"/>
                </a:cubicBezTo>
              </a:path>
              <a:path w="5086" h="5755">
                <a:moveTo>
                  <a:pt x="16297" y="15354"/>
                </a:moveTo>
                <a:cubicBezTo>
                  <a:pt x="16416" y="15332"/>
                  <a:pt x="16410" y="15380"/>
                  <a:pt x="16520" y="15404"/>
                </a:cubicBezTo>
                <a:cubicBezTo>
                  <a:pt x="16537" y="15404"/>
                  <a:pt x="16553" y="15404"/>
                  <a:pt x="16570" y="15404"/>
                </a:cubicBezTo>
              </a:path>
              <a:path w="5086" h="5755">
                <a:moveTo>
                  <a:pt x="16297" y="15652"/>
                </a:moveTo>
                <a:cubicBezTo>
                  <a:pt x="16356" y="15695"/>
                  <a:pt x="16409" y="15738"/>
                  <a:pt x="16470" y="15776"/>
                </a:cubicBezTo>
              </a:path>
              <a:path w="5086" h="5755">
                <a:moveTo>
                  <a:pt x="15776" y="17289"/>
                </a:moveTo>
                <a:cubicBezTo>
                  <a:pt x="15820" y="17388"/>
                  <a:pt x="15872" y="17468"/>
                  <a:pt x="15925" y="17562"/>
                </a:cubicBezTo>
                <a:cubicBezTo>
                  <a:pt x="15993" y="17684"/>
                  <a:pt x="16052" y="17782"/>
                  <a:pt x="16148" y="17884"/>
                </a:cubicBezTo>
                <a:cubicBezTo>
                  <a:pt x="16156" y="17892"/>
                  <a:pt x="16165" y="17901"/>
                  <a:pt x="16173" y="17909"/>
                </a:cubicBezTo>
              </a:path>
              <a:path w="5086" h="5755">
                <a:moveTo>
                  <a:pt x="16247" y="17041"/>
                </a:moveTo>
                <a:cubicBezTo>
                  <a:pt x="16066" y="17159"/>
                  <a:pt x="16021" y="17202"/>
                  <a:pt x="15925" y="17388"/>
                </a:cubicBezTo>
                <a:cubicBezTo>
                  <a:pt x="15862" y="17510"/>
                  <a:pt x="15829" y="17637"/>
                  <a:pt x="15776" y="17760"/>
                </a:cubicBezTo>
                <a:cubicBezTo>
                  <a:pt x="15737" y="17837"/>
                  <a:pt x="15738" y="17852"/>
                  <a:pt x="15701" y="17884"/>
                </a:cubicBezTo>
              </a:path>
              <a:path w="5086" h="5755">
                <a:moveTo>
                  <a:pt x="16297" y="17264"/>
                </a:moveTo>
                <a:cubicBezTo>
                  <a:pt x="16402" y="17264"/>
                  <a:pt x="16471" y="17280"/>
                  <a:pt x="16570" y="17289"/>
                </a:cubicBezTo>
                <a:cubicBezTo>
                  <a:pt x="16578" y="17289"/>
                  <a:pt x="16586" y="17289"/>
                  <a:pt x="16594" y="17289"/>
                </a:cubicBezTo>
              </a:path>
              <a:path w="5086" h="5755">
                <a:moveTo>
                  <a:pt x="16197" y="17487"/>
                </a:moveTo>
                <a:cubicBezTo>
                  <a:pt x="16286" y="17593"/>
                  <a:pt x="16293" y="17633"/>
                  <a:pt x="16421" y="17587"/>
                </a:cubicBezTo>
              </a:path>
              <a:path w="5086" h="5755">
                <a:moveTo>
                  <a:pt x="16966" y="17041"/>
                </a:moveTo>
                <a:cubicBezTo>
                  <a:pt x="16949" y="17125"/>
                  <a:pt x="16938" y="17209"/>
                  <a:pt x="16917" y="17289"/>
                </a:cubicBezTo>
                <a:cubicBezTo>
                  <a:pt x="16909" y="17314"/>
                  <a:pt x="16900" y="17338"/>
                  <a:pt x="16892" y="17363"/>
                </a:cubicBezTo>
              </a:path>
              <a:path w="5086" h="5755">
                <a:moveTo>
                  <a:pt x="16743" y="17214"/>
                </a:moveTo>
                <a:cubicBezTo>
                  <a:pt x="16837" y="17243"/>
                  <a:pt x="16898" y="17267"/>
                  <a:pt x="16991" y="17289"/>
                </a:cubicBezTo>
                <a:cubicBezTo>
                  <a:pt x="17016" y="17297"/>
                  <a:pt x="17041" y="17306"/>
                  <a:pt x="17066" y="17314"/>
                </a:cubicBezTo>
              </a:path>
              <a:path w="5086" h="5755">
                <a:moveTo>
                  <a:pt x="16669" y="17760"/>
                </a:moveTo>
                <a:cubicBezTo>
                  <a:pt x="16760" y="17760"/>
                  <a:pt x="16851" y="17760"/>
                  <a:pt x="16942" y="17760"/>
                </a:cubicBezTo>
              </a:path>
              <a:path w="5086" h="5755">
                <a:moveTo>
                  <a:pt x="17363" y="17438"/>
                </a:moveTo>
                <a:cubicBezTo>
                  <a:pt x="17465" y="17434"/>
                  <a:pt x="17572" y="17447"/>
                  <a:pt x="17661" y="17388"/>
                </a:cubicBezTo>
                <a:cubicBezTo>
                  <a:pt x="17669" y="17380"/>
                  <a:pt x="17678" y="17371"/>
                  <a:pt x="17686" y="17363"/>
                </a:cubicBezTo>
              </a:path>
              <a:path w="5086" h="5755">
                <a:moveTo>
                  <a:pt x="17314" y="17338"/>
                </a:moveTo>
                <a:cubicBezTo>
                  <a:pt x="17254" y="17418"/>
                  <a:pt x="17264" y="17457"/>
                  <a:pt x="17264" y="17562"/>
                </a:cubicBezTo>
                <a:cubicBezTo>
                  <a:pt x="17264" y="17597"/>
                  <a:pt x="17292" y="17635"/>
                  <a:pt x="17314" y="17661"/>
                </a:cubicBezTo>
                <a:cubicBezTo>
                  <a:pt x="17345" y="17697"/>
                  <a:pt x="17398" y="17694"/>
                  <a:pt x="17438" y="17711"/>
                </a:cubicBezTo>
                <a:cubicBezTo>
                  <a:pt x="17500" y="17737"/>
                  <a:pt x="17538" y="17738"/>
                  <a:pt x="17562" y="17810"/>
                </a:cubicBezTo>
                <a:cubicBezTo>
                  <a:pt x="17586" y="17883"/>
                  <a:pt x="17554" y="17972"/>
                  <a:pt x="17512" y="18033"/>
                </a:cubicBezTo>
                <a:cubicBezTo>
                  <a:pt x="17482" y="18076"/>
                  <a:pt x="17438" y="18102"/>
                  <a:pt x="17388" y="18107"/>
                </a:cubicBezTo>
                <a:cubicBezTo>
                  <a:pt x="17332" y="18112"/>
                  <a:pt x="17307" y="18107"/>
                  <a:pt x="17264" y="18083"/>
                </a:cubicBezTo>
                <a:cubicBezTo>
                  <a:pt x="17210" y="18056"/>
                  <a:pt x="17190" y="18044"/>
                  <a:pt x="17165" y="180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37120" y="3598920"/>
            <a:ext cx="785880" cy="544320"/>
          </a:xfrm>
          <a:custGeom>
            <a:avLst/>
            <a:gdLst/>
            <a:ahLst/>
            <a:rect l="l" t="t" r="r" b="b"/>
            <a:pathLst>
              <a:path w="2184" h="1514">
                <a:moveTo>
                  <a:pt x="13990" y="10468"/>
                </a:moveTo>
                <a:cubicBezTo>
                  <a:pt x="14046" y="10549"/>
                  <a:pt x="14052" y="10583"/>
                  <a:pt x="14089" y="10666"/>
                </a:cubicBezTo>
                <a:cubicBezTo>
                  <a:pt x="14128" y="10752"/>
                  <a:pt x="14162" y="10813"/>
                  <a:pt x="14213" y="10889"/>
                </a:cubicBezTo>
                <a:cubicBezTo>
                  <a:pt x="14247" y="10940"/>
                  <a:pt x="14277" y="10989"/>
                  <a:pt x="14337" y="11013"/>
                </a:cubicBezTo>
                <a:cubicBezTo>
                  <a:pt x="14368" y="11025"/>
                  <a:pt x="14394" y="10982"/>
                  <a:pt x="14412" y="10964"/>
                </a:cubicBezTo>
              </a:path>
              <a:path w="2184" h="1514">
                <a:moveTo>
                  <a:pt x="14387" y="10319"/>
                </a:moveTo>
                <a:cubicBezTo>
                  <a:pt x="14387" y="10415"/>
                  <a:pt x="14371" y="10500"/>
                  <a:pt x="14362" y="10592"/>
                </a:cubicBezTo>
                <a:cubicBezTo>
                  <a:pt x="14349" y="10725"/>
                  <a:pt x="14322" y="10854"/>
                  <a:pt x="14312" y="10988"/>
                </a:cubicBezTo>
                <a:cubicBezTo>
                  <a:pt x="14304" y="11097"/>
                  <a:pt x="14292" y="11204"/>
                  <a:pt x="14288" y="11311"/>
                </a:cubicBezTo>
                <a:cubicBezTo>
                  <a:pt x="14285" y="11383"/>
                  <a:pt x="14278" y="11451"/>
                  <a:pt x="14312" y="11509"/>
                </a:cubicBezTo>
                <a:cubicBezTo>
                  <a:pt x="14312" y="11455"/>
                  <a:pt x="14318" y="11436"/>
                  <a:pt x="14337" y="11385"/>
                </a:cubicBezTo>
              </a:path>
              <a:path w="2184" h="1514">
                <a:moveTo>
                  <a:pt x="14858" y="10567"/>
                </a:moveTo>
                <a:cubicBezTo>
                  <a:pt x="14841" y="10643"/>
                  <a:pt x="14853" y="10742"/>
                  <a:pt x="14833" y="10815"/>
                </a:cubicBezTo>
                <a:cubicBezTo>
                  <a:pt x="14817" y="10870"/>
                  <a:pt x="14808" y="10905"/>
                  <a:pt x="14808" y="10964"/>
                </a:cubicBezTo>
                <a:cubicBezTo>
                  <a:pt x="14808" y="11029"/>
                  <a:pt x="14808" y="10946"/>
                  <a:pt x="14808" y="10939"/>
                </a:cubicBezTo>
              </a:path>
              <a:path w="2184" h="1514">
                <a:moveTo>
                  <a:pt x="14833" y="10145"/>
                </a:moveTo>
                <a:cubicBezTo>
                  <a:pt x="14841" y="10120"/>
                  <a:pt x="14850" y="10096"/>
                  <a:pt x="14858" y="10071"/>
                </a:cubicBezTo>
              </a:path>
              <a:path w="2184" h="1514">
                <a:moveTo>
                  <a:pt x="15032" y="10691"/>
                </a:moveTo>
                <a:cubicBezTo>
                  <a:pt x="15045" y="10777"/>
                  <a:pt x="15056" y="10817"/>
                  <a:pt x="15056" y="10889"/>
                </a:cubicBezTo>
                <a:cubicBezTo>
                  <a:pt x="15056" y="10832"/>
                  <a:pt x="15072" y="10793"/>
                  <a:pt x="15081" y="10740"/>
                </a:cubicBezTo>
                <a:cubicBezTo>
                  <a:pt x="15093" y="10671"/>
                  <a:pt x="15102" y="10607"/>
                  <a:pt x="15131" y="10542"/>
                </a:cubicBezTo>
                <a:cubicBezTo>
                  <a:pt x="15140" y="10521"/>
                  <a:pt x="15196" y="10400"/>
                  <a:pt x="15205" y="10393"/>
                </a:cubicBezTo>
                <a:cubicBezTo>
                  <a:pt x="15248" y="10357"/>
                  <a:pt x="15271" y="10428"/>
                  <a:pt x="15280" y="10443"/>
                </a:cubicBezTo>
                <a:cubicBezTo>
                  <a:pt x="15314" y="10496"/>
                  <a:pt x="15287" y="10531"/>
                  <a:pt x="15304" y="10592"/>
                </a:cubicBezTo>
                <a:cubicBezTo>
                  <a:pt x="15322" y="10656"/>
                  <a:pt x="15340" y="10738"/>
                  <a:pt x="15379" y="10790"/>
                </a:cubicBezTo>
                <a:cubicBezTo>
                  <a:pt x="15415" y="10838"/>
                  <a:pt x="15475" y="10860"/>
                  <a:pt x="15528" y="10864"/>
                </a:cubicBezTo>
                <a:cubicBezTo>
                  <a:pt x="15564" y="10867"/>
                  <a:pt x="15578" y="10839"/>
                  <a:pt x="15602" y="10815"/>
                </a:cubicBezTo>
              </a:path>
              <a:path w="2184" h="1514">
                <a:moveTo>
                  <a:pt x="15701" y="9996"/>
                </a:moveTo>
                <a:cubicBezTo>
                  <a:pt x="15687" y="10127"/>
                  <a:pt x="15668" y="10268"/>
                  <a:pt x="15652" y="10393"/>
                </a:cubicBezTo>
                <a:cubicBezTo>
                  <a:pt x="15636" y="10524"/>
                  <a:pt x="15639" y="10700"/>
                  <a:pt x="15677" y="10815"/>
                </a:cubicBezTo>
                <a:cubicBezTo>
                  <a:pt x="15679" y="10821"/>
                  <a:pt x="15677" y="10906"/>
                  <a:pt x="15677" y="10840"/>
                </a:cubicBezTo>
              </a:path>
              <a:path w="2184" h="1514">
                <a:moveTo>
                  <a:pt x="15553" y="10269"/>
                </a:moveTo>
                <a:cubicBezTo>
                  <a:pt x="15637" y="10269"/>
                  <a:pt x="15697" y="10248"/>
                  <a:pt x="15776" y="10244"/>
                </a:cubicBezTo>
                <a:cubicBezTo>
                  <a:pt x="15792" y="10244"/>
                  <a:pt x="15809" y="10244"/>
                  <a:pt x="15825" y="10244"/>
                </a:cubicBezTo>
              </a:path>
              <a:path w="2184" h="1514">
                <a:moveTo>
                  <a:pt x="16173" y="10368"/>
                </a:moveTo>
                <a:cubicBezTo>
                  <a:pt x="16173" y="10437"/>
                  <a:pt x="16192" y="10453"/>
                  <a:pt x="16148" y="10468"/>
                </a:cubicBezTo>
              </a:path>
              <a:path w="2184" h="1514">
                <a:moveTo>
                  <a:pt x="16098" y="10691"/>
                </a:moveTo>
                <a:cubicBezTo>
                  <a:pt x="16098" y="10734"/>
                  <a:pt x="16126" y="10675"/>
                  <a:pt x="16148" y="106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9760" y="3571920"/>
            <a:ext cx="1063440" cy="482400"/>
          </a:xfrm>
          <a:custGeom>
            <a:avLst/>
            <a:gdLst/>
            <a:ahLst/>
            <a:rect l="l" t="t" r="r" b="b"/>
            <a:pathLst>
              <a:path w="2953" h="1340">
                <a:moveTo>
                  <a:pt x="17140" y="9922"/>
                </a:moveTo>
                <a:cubicBezTo>
                  <a:pt x="17079" y="10044"/>
                  <a:pt x="17034" y="10111"/>
                  <a:pt x="16991" y="10244"/>
                </a:cubicBezTo>
                <a:cubicBezTo>
                  <a:pt x="16958" y="10346"/>
                  <a:pt x="16921" y="10435"/>
                  <a:pt x="16917" y="10542"/>
                </a:cubicBezTo>
                <a:cubicBezTo>
                  <a:pt x="16914" y="10626"/>
                  <a:pt x="16917" y="10713"/>
                  <a:pt x="16942" y="10790"/>
                </a:cubicBezTo>
                <a:cubicBezTo>
                  <a:pt x="16958" y="10840"/>
                  <a:pt x="16985" y="10910"/>
                  <a:pt x="17041" y="10914"/>
                </a:cubicBezTo>
                <a:cubicBezTo>
                  <a:pt x="17057" y="10914"/>
                  <a:pt x="17074" y="10914"/>
                  <a:pt x="17090" y="10914"/>
                </a:cubicBezTo>
              </a:path>
              <a:path w="2953" h="1340">
                <a:moveTo>
                  <a:pt x="17512" y="10195"/>
                </a:moveTo>
                <a:cubicBezTo>
                  <a:pt x="17467" y="10304"/>
                  <a:pt x="17443" y="10387"/>
                  <a:pt x="17413" y="10492"/>
                </a:cubicBezTo>
                <a:cubicBezTo>
                  <a:pt x="17391" y="10569"/>
                  <a:pt x="17388" y="10633"/>
                  <a:pt x="17388" y="10716"/>
                </a:cubicBezTo>
                <a:cubicBezTo>
                  <a:pt x="17388" y="10776"/>
                  <a:pt x="17409" y="10830"/>
                  <a:pt x="17462" y="10864"/>
                </a:cubicBezTo>
                <a:cubicBezTo>
                  <a:pt x="17534" y="10910"/>
                  <a:pt x="17621" y="10891"/>
                  <a:pt x="17686" y="10840"/>
                </a:cubicBezTo>
                <a:cubicBezTo>
                  <a:pt x="17785" y="10762"/>
                  <a:pt x="17827" y="10677"/>
                  <a:pt x="17859" y="10567"/>
                </a:cubicBezTo>
                <a:cubicBezTo>
                  <a:pt x="17890" y="10459"/>
                  <a:pt x="17859" y="10394"/>
                  <a:pt x="17810" y="10294"/>
                </a:cubicBezTo>
                <a:cubicBezTo>
                  <a:pt x="17760" y="10193"/>
                  <a:pt x="17693" y="10178"/>
                  <a:pt x="17611" y="10120"/>
                </a:cubicBezTo>
                <a:cubicBezTo>
                  <a:pt x="17536" y="10066"/>
                  <a:pt x="17535" y="10071"/>
                  <a:pt x="17438" y="10071"/>
                </a:cubicBezTo>
                <a:cubicBezTo>
                  <a:pt x="17405" y="10071"/>
                  <a:pt x="17397" y="10079"/>
                  <a:pt x="17413" y="10120"/>
                </a:cubicBezTo>
              </a:path>
              <a:path w="2953" h="1340">
                <a:moveTo>
                  <a:pt x="17983" y="10840"/>
                </a:moveTo>
                <a:cubicBezTo>
                  <a:pt x="17980" y="10883"/>
                  <a:pt x="17983" y="11016"/>
                  <a:pt x="17959" y="11063"/>
                </a:cubicBezTo>
                <a:cubicBezTo>
                  <a:pt x="17946" y="11090"/>
                  <a:pt x="17916" y="11145"/>
                  <a:pt x="17909" y="11088"/>
                </a:cubicBezTo>
                <a:cubicBezTo>
                  <a:pt x="17909" y="11080"/>
                  <a:pt x="17909" y="11071"/>
                  <a:pt x="17909" y="11063"/>
                </a:cubicBezTo>
              </a:path>
              <a:path w="2953" h="1340">
                <a:moveTo>
                  <a:pt x="18256" y="10195"/>
                </a:moveTo>
                <a:cubicBezTo>
                  <a:pt x="18300" y="10172"/>
                  <a:pt x="18423" y="10064"/>
                  <a:pt x="18479" y="10145"/>
                </a:cubicBezTo>
                <a:cubicBezTo>
                  <a:pt x="18535" y="10226"/>
                  <a:pt x="18529" y="10298"/>
                  <a:pt x="18529" y="10393"/>
                </a:cubicBezTo>
                <a:cubicBezTo>
                  <a:pt x="18529" y="10471"/>
                  <a:pt x="18507" y="10567"/>
                  <a:pt x="18479" y="10641"/>
                </a:cubicBezTo>
                <a:cubicBezTo>
                  <a:pt x="18454" y="10708"/>
                  <a:pt x="18401" y="10834"/>
                  <a:pt x="18331" y="10864"/>
                </a:cubicBezTo>
                <a:cubicBezTo>
                  <a:pt x="18302" y="10877"/>
                  <a:pt x="18243" y="10820"/>
                  <a:pt x="18256" y="10790"/>
                </a:cubicBezTo>
                <a:cubicBezTo>
                  <a:pt x="18275" y="10748"/>
                  <a:pt x="18359" y="10676"/>
                  <a:pt x="18405" y="10691"/>
                </a:cubicBezTo>
                <a:cubicBezTo>
                  <a:pt x="18444" y="10704"/>
                  <a:pt x="18490" y="10724"/>
                  <a:pt x="18529" y="10740"/>
                </a:cubicBezTo>
                <a:cubicBezTo>
                  <a:pt x="18589" y="10766"/>
                  <a:pt x="18638" y="10785"/>
                  <a:pt x="18703" y="10790"/>
                </a:cubicBezTo>
                <a:cubicBezTo>
                  <a:pt x="18731" y="10790"/>
                  <a:pt x="18742" y="10788"/>
                  <a:pt x="18752" y="10765"/>
                </a:cubicBezTo>
              </a:path>
              <a:path w="2953" h="1340">
                <a:moveTo>
                  <a:pt x="18876" y="10071"/>
                </a:moveTo>
                <a:cubicBezTo>
                  <a:pt x="18973" y="10064"/>
                  <a:pt x="19051" y="10046"/>
                  <a:pt x="19149" y="10046"/>
                </a:cubicBezTo>
                <a:cubicBezTo>
                  <a:pt x="19206" y="10046"/>
                  <a:pt x="19227" y="10041"/>
                  <a:pt x="19248" y="9996"/>
                </a:cubicBezTo>
              </a:path>
              <a:path w="2953" h="1340">
                <a:moveTo>
                  <a:pt x="18976" y="10120"/>
                </a:moveTo>
                <a:cubicBezTo>
                  <a:pt x="18909" y="10161"/>
                  <a:pt x="18836" y="10185"/>
                  <a:pt x="18827" y="10269"/>
                </a:cubicBezTo>
                <a:cubicBezTo>
                  <a:pt x="18824" y="10293"/>
                  <a:pt x="18827" y="10320"/>
                  <a:pt x="18827" y="10344"/>
                </a:cubicBezTo>
                <a:cubicBezTo>
                  <a:pt x="18902" y="10344"/>
                  <a:pt x="18981" y="10356"/>
                  <a:pt x="19050" y="10319"/>
                </a:cubicBezTo>
                <a:cubicBezTo>
                  <a:pt x="19094" y="10295"/>
                  <a:pt x="19122" y="10288"/>
                  <a:pt x="19174" y="10319"/>
                </a:cubicBezTo>
                <a:cubicBezTo>
                  <a:pt x="19209" y="10340"/>
                  <a:pt x="19223" y="10430"/>
                  <a:pt x="19224" y="10468"/>
                </a:cubicBezTo>
                <a:cubicBezTo>
                  <a:pt x="19226" y="10515"/>
                  <a:pt x="19233" y="10676"/>
                  <a:pt x="19199" y="10716"/>
                </a:cubicBezTo>
                <a:cubicBezTo>
                  <a:pt x="19167" y="10753"/>
                  <a:pt x="19112" y="10790"/>
                  <a:pt x="19075" y="10815"/>
                </a:cubicBezTo>
                <a:cubicBezTo>
                  <a:pt x="19037" y="10841"/>
                  <a:pt x="19014" y="10824"/>
                  <a:pt x="18976" y="10790"/>
                </a:cubicBezTo>
                <a:cubicBezTo>
                  <a:pt x="18914" y="10734"/>
                  <a:pt x="18926" y="10700"/>
                  <a:pt x="18926" y="10616"/>
                </a:cubicBezTo>
              </a:path>
              <a:path w="2953" h="1340">
                <a:moveTo>
                  <a:pt x="19745" y="10170"/>
                </a:moveTo>
                <a:cubicBezTo>
                  <a:pt x="19794" y="10322"/>
                  <a:pt x="19888" y="10523"/>
                  <a:pt x="19869" y="10691"/>
                </a:cubicBezTo>
                <a:cubicBezTo>
                  <a:pt x="19858" y="10794"/>
                  <a:pt x="19787" y="10914"/>
                  <a:pt x="19720" y="10988"/>
                </a:cubicBezTo>
                <a:cubicBezTo>
                  <a:pt x="19628" y="11089"/>
                  <a:pt x="19549" y="11136"/>
                  <a:pt x="19422" y="11187"/>
                </a:cubicBezTo>
                <a:cubicBezTo>
                  <a:pt x="19350" y="11216"/>
                  <a:pt x="19273" y="11237"/>
                  <a:pt x="19199" y="112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6200" y="1847880"/>
            <a:ext cx="1224000" cy="314280"/>
          </a:xfrm>
          <a:custGeom>
            <a:avLst/>
            <a:gdLst/>
            <a:ahLst/>
            <a:rect l="l" t="t" r="r" b="b"/>
            <a:pathLst>
              <a:path w="3400" h="869">
                <a:moveTo>
                  <a:pt x="13295" y="5283"/>
                </a:moveTo>
                <a:cubicBezTo>
                  <a:pt x="13295" y="5385"/>
                  <a:pt x="13316" y="5459"/>
                  <a:pt x="13320" y="5556"/>
                </a:cubicBezTo>
                <a:cubicBezTo>
                  <a:pt x="13323" y="5628"/>
                  <a:pt x="13328" y="5733"/>
                  <a:pt x="13345" y="5804"/>
                </a:cubicBezTo>
                <a:cubicBezTo>
                  <a:pt x="13361" y="5871"/>
                  <a:pt x="13395" y="5898"/>
                  <a:pt x="13419" y="5953"/>
                </a:cubicBezTo>
                <a:cubicBezTo>
                  <a:pt x="13419" y="5981"/>
                  <a:pt x="13421" y="5992"/>
                  <a:pt x="13444" y="6003"/>
                </a:cubicBezTo>
                <a:cubicBezTo>
                  <a:pt x="13466" y="5998"/>
                  <a:pt x="13535" y="5981"/>
                  <a:pt x="13543" y="5953"/>
                </a:cubicBezTo>
                <a:cubicBezTo>
                  <a:pt x="13561" y="5892"/>
                  <a:pt x="13565" y="5842"/>
                  <a:pt x="13593" y="5779"/>
                </a:cubicBezTo>
                <a:cubicBezTo>
                  <a:pt x="13625" y="5708"/>
                  <a:pt x="13620" y="5629"/>
                  <a:pt x="13643" y="5556"/>
                </a:cubicBezTo>
                <a:cubicBezTo>
                  <a:pt x="13664" y="5488"/>
                  <a:pt x="13696" y="5427"/>
                  <a:pt x="13717" y="5358"/>
                </a:cubicBezTo>
                <a:cubicBezTo>
                  <a:pt x="13730" y="5318"/>
                  <a:pt x="13726" y="5246"/>
                  <a:pt x="13742" y="5209"/>
                </a:cubicBezTo>
                <a:cubicBezTo>
                  <a:pt x="13750" y="5201"/>
                  <a:pt x="13759" y="5192"/>
                  <a:pt x="13767" y="5184"/>
                </a:cubicBezTo>
              </a:path>
              <a:path w="3400" h="869">
                <a:moveTo>
                  <a:pt x="13915" y="5606"/>
                </a:moveTo>
                <a:cubicBezTo>
                  <a:pt x="13985" y="5606"/>
                  <a:pt x="13991" y="5605"/>
                  <a:pt x="14039" y="5556"/>
                </a:cubicBezTo>
                <a:cubicBezTo>
                  <a:pt x="14074" y="5521"/>
                  <a:pt x="14105" y="5456"/>
                  <a:pt x="14114" y="5407"/>
                </a:cubicBezTo>
                <a:cubicBezTo>
                  <a:pt x="14121" y="5367"/>
                  <a:pt x="14132" y="5255"/>
                  <a:pt x="14089" y="5234"/>
                </a:cubicBezTo>
                <a:cubicBezTo>
                  <a:pt x="14051" y="5215"/>
                  <a:pt x="13992" y="5238"/>
                  <a:pt x="13965" y="5259"/>
                </a:cubicBezTo>
                <a:cubicBezTo>
                  <a:pt x="13907" y="5305"/>
                  <a:pt x="13893" y="5393"/>
                  <a:pt x="13866" y="5457"/>
                </a:cubicBezTo>
                <a:cubicBezTo>
                  <a:pt x="13831" y="5538"/>
                  <a:pt x="13816" y="5593"/>
                  <a:pt x="13816" y="5680"/>
                </a:cubicBezTo>
                <a:cubicBezTo>
                  <a:pt x="13816" y="5748"/>
                  <a:pt x="13802" y="5820"/>
                  <a:pt x="13841" y="5879"/>
                </a:cubicBezTo>
                <a:cubicBezTo>
                  <a:pt x="13869" y="5921"/>
                  <a:pt x="13894" y="5928"/>
                  <a:pt x="13940" y="5928"/>
                </a:cubicBezTo>
                <a:cubicBezTo>
                  <a:pt x="14003" y="5928"/>
                  <a:pt x="14040" y="5894"/>
                  <a:pt x="14089" y="5854"/>
                </a:cubicBezTo>
              </a:path>
              <a:path w="3400" h="869">
                <a:moveTo>
                  <a:pt x="14312" y="5407"/>
                </a:moveTo>
                <a:cubicBezTo>
                  <a:pt x="14312" y="5500"/>
                  <a:pt x="14302" y="5549"/>
                  <a:pt x="14288" y="5631"/>
                </a:cubicBezTo>
                <a:cubicBezTo>
                  <a:pt x="14281" y="5673"/>
                  <a:pt x="14288" y="5868"/>
                  <a:pt x="14288" y="5829"/>
                </a:cubicBezTo>
                <a:cubicBezTo>
                  <a:pt x="14288" y="5746"/>
                  <a:pt x="14299" y="5675"/>
                  <a:pt x="14312" y="5606"/>
                </a:cubicBezTo>
                <a:cubicBezTo>
                  <a:pt x="14325" y="5539"/>
                  <a:pt x="14342" y="5465"/>
                  <a:pt x="14387" y="5407"/>
                </a:cubicBezTo>
                <a:cubicBezTo>
                  <a:pt x="14450" y="5326"/>
                  <a:pt x="14521" y="5276"/>
                  <a:pt x="14610" y="5234"/>
                </a:cubicBezTo>
                <a:cubicBezTo>
                  <a:pt x="14627" y="5226"/>
                  <a:pt x="14643" y="5217"/>
                  <a:pt x="14660" y="5209"/>
                </a:cubicBezTo>
              </a:path>
              <a:path w="3400" h="869">
                <a:moveTo>
                  <a:pt x="15056" y="5135"/>
                </a:moveTo>
                <a:cubicBezTo>
                  <a:pt x="15039" y="5236"/>
                  <a:pt x="15054" y="5359"/>
                  <a:pt x="15032" y="5457"/>
                </a:cubicBezTo>
                <a:cubicBezTo>
                  <a:pt x="15016" y="5526"/>
                  <a:pt x="15007" y="5582"/>
                  <a:pt x="15007" y="5655"/>
                </a:cubicBezTo>
                <a:cubicBezTo>
                  <a:pt x="15007" y="5715"/>
                  <a:pt x="15014" y="5712"/>
                  <a:pt x="14982" y="5755"/>
                </a:cubicBezTo>
              </a:path>
              <a:path w="3400" h="869">
                <a:moveTo>
                  <a:pt x="14684" y="5407"/>
                </a:moveTo>
                <a:cubicBezTo>
                  <a:pt x="14773" y="5407"/>
                  <a:pt x="14850" y="5393"/>
                  <a:pt x="14932" y="5383"/>
                </a:cubicBezTo>
                <a:cubicBezTo>
                  <a:pt x="14994" y="5375"/>
                  <a:pt x="15069" y="5383"/>
                  <a:pt x="15131" y="5383"/>
                </a:cubicBezTo>
              </a:path>
              <a:path w="3400" h="869">
                <a:moveTo>
                  <a:pt x="15379" y="5482"/>
                </a:moveTo>
                <a:cubicBezTo>
                  <a:pt x="15409" y="5504"/>
                  <a:pt x="15436" y="5518"/>
                  <a:pt x="15478" y="5507"/>
                </a:cubicBezTo>
                <a:cubicBezTo>
                  <a:pt x="15521" y="5496"/>
                  <a:pt x="15622" y="5445"/>
                  <a:pt x="15652" y="5407"/>
                </a:cubicBezTo>
                <a:cubicBezTo>
                  <a:pt x="15671" y="5383"/>
                  <a:pt x="15677" y="5342"/>
                  <a:pt x="15677" y="5308"/>
                </a:cubicBezTo>
                <a:cubicBezTo>
                  <a:pt x="15658" y="5294"/>
                  <a:pt x="15603" y="5247"/>
                  <a:pt x="15577" y="5259"/>
                </a:cubicBezTo>
                <a:cubicBezTo>
                  <a:pt x="15546" y="5273"/>
                  <a:pt x="15452" y="5331"/>
                  <a:pt x="15429" y="5358"/>
                </a:cubicBezTo>
                <a:cubicBezTo>
                  <a:pt x="15386" y="5408"/>
                  <a:pt x="15358" y="5493"/>
                  <a:pt x="15354" y="5556"/>
                </a:cubicBezTo>
                <a:cubicBezTo>
                  <a:pt x="15350" y="5630"/>
                  <a:pt x="15354" y="5674"/>
                  <a:pt x="15404" y="5730"/>
                </a:cubicBezTo>
                <a:cubicBezTo>
                  <a:pt x="15453" y="5785"/>
                  <a:pt x="15480" y="5779"/>
                  <a:pt x="15553" y="5779"/>
                </a:cubicBezTo>
                <a:cubicBezTo>
                  <a:pt x="15625" y="5779"/>
                  <a:pt x="15662" y="5762"/>
                  <a:pt x="15726" y="5730"/>
                </a:cubicBezTo>
              </a:path>
              <a:path w="3400" h="869">
                <a:moveTo>
                  <a:pt x="15825" y="5358"/>
                </a:moveTo>
                <a:cubicBezTo>
                  <a:pt x="15860" y="5427"/>
                  <a:pt x="15870" y="5488"/>
                  <a:pt x="15900" y="5556"/>
                </a:cubicBezTo>
                <a:cubicBezTo>
                  <a:pt x="15928" y="5618"/>
                  <a:pt x="16017" y="5691"/>
                  <a:pt x="16073" y="5730"/>
                </a:cubicBezTo>
                <a:cubicBezTo>
                  <a:pt x="16153" y="5786"/>
                  <a:pt x="16263" y="5753"/>
                  <a:pt x="16346" y="5730"/>
                </a:cubicBezTo>
              </a:path>
              <a:path w="3400" h="869">
                <a:moveTo>
                  <a:pt x="16173" y="5358"/>
                </a:moveTo>
                <a:cubicBezTo>
                  <a:pt x="16111" y="5465"/>
                  <a:pt x="16040" y="5550"/>
                  <a:pt x="15974" y="5655"/>
                </a:cubicBezTo>
                <a:cubicBezTo>
                  <a:pt x="15939" y="5711"/>
                  <a:pt x="15896" y="5753"/>
                  <a:pt x="15850" y="5804"/>
                </a:cubicBezTo>
                <a:cubicBezTo>
                  <a:pt x="15805" y="5853"/>
                  <a:pt x="15809" y="5863"/>
                  <a:pt x="15825" y="5829"/>
                </a:cubicBezTo>
                <a:cubicBezTo>
                  <a:pt x="15825" y="5821"/>
                  <a:pt x="15825" y="5812"/>
                  <a:pt x="15825" y="5804"/>
                </a:cubicBezTo>
              </a:path>
              <a:path w="3400" h="869">
                <a:moveTo>
                  <a:pt x="16669" y="5184"/>
                </a:moveTo>
                <a:cubicBezTo>
                  <a:pt x="16677" y="5184"/>
                  <a:pt x="16686" y="5184"/>
                  <a:pt x="16694" y="5184"/>
                </a:cubicBezTo>
              </a:path>
              <a:path w="3400" h="869">
                <a:moveTo>
                  <a:pt x="16570" y="5507"/>
                </a:moveTo>
                <a:cubicBezTo>
                  <a:pt x="16595" y="5541"/>
                  <a:pt x="16594" y="5538"/>
                  <a:pt x="16594" y="55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46880" y="1490760"/>
            <a:ext cx="974520" cy="447480"/>
          </a:xfrm>
          <a:custGeom>
            <a:avLst/>
            <a:gdLst/>
            <a:ahLst/>
            <a:rect l="l" t="t" r="r" b="b"/>
            <a:pathLst>
              <a:path w="2705" h="1242">
                <a:moveTo>
                  <a:pt x="18207" y="4242"/>
                </a:moveTo>
                <a:cubicBezTo>
                  <a:pt x="18184" y="4249"/>
                  <a:pt x="18153" y="4283"/>
                  <a:pt x="18132" y="4316"/>
                </a:cubicBezTo>
                <a:cubicBezTo>
                  <a:pt x="18089" y="4384"/>
                  <a:pt x="18039" y="4466"/>
                  <a:pt x="18008" y="4539"/>
                </a:cubicBezTo>
                <a:cubicBezTo>
                  <a:pt x="17963" y="4645"/>
                  <a:pt x="17962" y="4756"/>
                  <a:pt x="17934" y="4862"/>
                </a:cubicBezTo>
                <a:cubicBezTo>
                  <a:pt x="17912" y="4946"/>
                  <a:pt x="17909" y="5019"/>
                  <a:pt x="17909" y="5110"/>
                </a:cubicBezTo>
                <a:cubicBezTo>
                  <a:pt x="17909" y="5192"/>
                  <a:pt x="17926" y="5258"/>
                  <a:pt x="17934" y="5333"/>
                </a:cubicBezTo>
                <a:cubicBezTo>
                  <a:pt x="17938" y="5376"/>
                  <a:pt x="17957" y="5376"/>
                  <a:pt x="17983" y="5358"/>
                </a:cubicBezTo>
              </a:path>
              <a:path w="2705" h="1242">
                <a:moveTo>
                  <a:pt x="18430" y="4539"/>
                </a:moveTo>
                <a:cubicBezTo>
                  <a:pt x="18407" y="4636"/>
                  <a:pt x="18366" y="4739"/>
                  <a:pt x="18355" y="4837"/>
                </a:cubicBezTo>
                <a:cubicBezTo>
                  <a:pt x="18346" y="4913"/>
                  <a:pt x="18313" y="5006"/>
                  <a:pt x="18331" y="5085"/>
                </a:cubicBezTo>
                <a:cubicBezTo>
                  <a:pt x="18344" y="5142"/>
                  <a:pt x="18370" y="5182"/>
                  <a:pt x="18405" y="5209"/>
                </a:cubicBezTo>
                <a:cubicBezTo>
                  <a:pt x="18472" y="5261"/>
                  <a:pt x="18474" y="5219"/>
                  <a:pt x="18529" y="5184"/>
                </a:cubicBezTo>
                <a:cubicBezTo>
                  <a:pt x="18596" y="5141"/>
                  <a:pt x="18662" y="5071"/>
                  <a:pt x="18678" y="4986"/>
                </a:cubicBezTo>
                <a:cubicBezTo>
                  <a:pt x="18693" y="4908"/>
                  <a:pt x="18703" y="4846"/>
                  <a:pt x="18703" y="4762"/>
                </a:cubicBezTo>
                <a:cubicBezTo>
                  <a:pt x="18703" y="4668"/>
                  <a:pt x="18672" y="4639"/>
                  <a:pt x="18628" y="4564"/>
                </a:cubicBezTo>
                <a:cubicBezTo>
                  <a:pt x="18590" y="4499"/>
                  <a:pt x="18516" y="4443"/>
                  <a:pt x="18430" y="4465"/>
                </a:cubicBezTo>
                <a:cubicBezTo>
                  <a:pt x="18407" y="4471"/>
                  <a:pt x="18315" y="4534"/>
                  <a:pt x="18306" y="4564"/>
                </a:cubicBezTo>
                <a:cubicBezTo>
                  <a:pt x="18306" y="4605"/>
                  <a:pt x="18306" y="4613"/>
                  <a:pt x="18306" y="4638"/>
                </a:cubicBezTo>
              </a:path>
              <a:path w="2705" h="1242">
                <a:moveTo>
                  <a:pt x="18976" y="5011"/>
                </a:moveTo>
                <a:cubicBezTo>
                  <a:pt x="18961" y="5126"/>
                  <a:pt x="18952" y="5207"/>
                  <a:pt x="18926" y="5308"/>
                </a:cubicBezTo>
                <a:cubicBezTo>
                  <a:pt x="18918" y="5340"/>
                  <a:pt x="18916" y="5413"/>
                  <a:pt x="18901" y="5383"/>
                </a:cubicBezTo>
                <a:cubicBezTo>
                  <a:pt x="18901" y="5350"/>
                  <a:pt x="18901" y="5333"/>
                  <a:pt x="18901" y="5308"/>
                </a:cubicBezTo>
              </a:path>
              <a:path w="2705" h="1242">
                <a:moveTo>
                  <a:pt x="19149" y="4589"/>
                </a:moveTo>
                <a:cubicBezTo>
                  <a:pt x="19214" y="4500"/>
                  <a:pt x="19270" y="4383"/>
                  <a:pt x="19372" y="4366"/>
                </a:cubicBezTo>
                <a:cubicBezTo>
                  <a:pt x="19460" y="4352"/>
                  <a:pt x="19461" y="4396"/>
                  <a:pt x="19496" y="4465"/>
                </a:cubicBezTo>
                <a:cubicBezTo>
                  <a:pt x="19531" y="4534"/>
                  <a:pt x="19558" y="4682"/>
                  <a:pt x="19546" y="4762"/>
                </a:cubicBezTo>
                <a:cubicBezTo>
                  <a:pt x="19534" y="4841"/>
                  <a:pt x="19526" y="4935"/>
                  <a:pt x="19496" y="5011"/>
                </a:cubicBezTo>
                <a:cubicBezTo>
                  <a:pt x="19467" y="5084"/>
                  <a:pt x="19451" y="5123"/>
                  <a:pt x="19397" y="5159"/>
                </a:cubicBezTo>
                <a:cubicBezTo>
                  <a:pt x="19368" y="5178"/>
                  <a:pt x="19323" y="5195"/>
                  <a:pt x="19298" y="5159"/>
                </a:cubicBezTo>
                <a:cubicBezTo>
                  <a:pt x="19274" y="5124"/>
                  <a:pt x="19273" y="5082"/>
                  <a:pt x="19273" y="5035"/>
                </a:cubicBezTo>
                <a:cubicBezTo>
                  <a:pt x="19273" y="4965"/>
                  <a:pt x="19347" y="4986"/>
                  <a:pt x="19397" y="4986"/>
                </a:cubicBezTo>
                <a:cubicBezTo>
                  <a:pt x="19449" y="4986"/>
                  <a:pt x="19489" y="5011"/>
                  <a:pt x="19546" y="5011"/>
                </a:cubicBezTo>
                <a:cubicBezTo>
                  <a:pt x="19599" y="5011"/>
                  <a:pt x="19628" y="5018"/>
                  <a:pt x="19670" y="4986"/>
                </a:cubicBezTo>
              </a:path>
              <a:path w="2705" h="1242">
                <a:moveTo>
                  <a:pt x="19819" y="4390"/>
                </a:moveTo>
                <a:cubicBezTo>
                  <a:pt x="19921" y="4375"/>
                  <a:pt x="20019" y="4349"/>
                  <a:pt x="20117" y="4341"/>
                </a:cubicBezTo>
                <a:cubicBezTo>
                  <a:pt x="20152" y="4341"/>
                  <a:pt x="20169" y="4336"/>
                  <a:pt x="20191" y="4316"/>
                </a:cubicBezTo>
              </a:path>
              <a:path w="2705" h="1242">
                <a:moveTo>
                  <a:pt x="19943" y="4341"/>
                </a:moveTo>
                <a:cubicBezTo>
                  <a:pt x="19897" y="4428"/>
                  <a:pt x="19827" y="4517"/>
                  <a:pt x="19819" y="4614"/>
                </a:cubicBezTo>
                <a:cubicBezTo>
                  <a:pt x="19816" y="4658"/>
                  <a:pt x="19834" y="4675"/>
                  <a:pt x="19844" y="4713"/>
                </a:cubicBezTo>
                <a:cubicBezTo>
                  <a:pt x="19905" y="4698"/>
                  <a:pt x="19903" y="4686"/>
                  <a:pt x="19943" y="4638"/>
                </a:cubicBezTo>
                <a:cubicBezTo>
                  <a:pt x="19976" y="4598"/>
                  <a:pt x="20036" y="4503"/>
                  <a:pt x="20092" y="4514"/>
                </a:cubicBezTo>
                <a:cubicBezTo>
                  <a:pt x="20156" y="4527"/>
                  <a:pt x="20178" y="4609"/>
                  <a:pt x="20191" y="4663"/>
                </a:cubicBezTo>
                <a:cubicBezTo>
                  <a:pt x="20210" y="4744"/>
                  <a:pt x="20211" y="4770"/>
                  <a:pt x="20191" y="4837"/>
                </a:cubicBezTo>
                <a:cubicBezTo>
                  <a:pt x="20179" y="4877"/>
                  <a:pt x="20164" y="4906"/>
                  <a:pt x="20117" y="4911"/>
                </a:cubicBezTo>
                <a:cubicBezTo>
                  <a:pt x="20064" y="4917"/>
                  <a:pt x="20007" y="4922"/>
                  <a:pt x="19968" y="4887"/>
                </a:cubicBezTo>
                <a:cubicBezTo>
                  <a:pt x="19938" y="4857"/>
                  <a:pt x="19927" y="4843"/>
                  <a:pt x="19918" y="4812"/>
                </a:cubicBezTo>
              </a:path>
              <a:path w="2705" h="1242">
                <a:moveTo>
                  <a:pt x="20389" y="4142"/>
                </a:moveTo>
                <a:cubicBezTo>
                  <a:pt x="20502" y="4344"/>
                  <a:pt x="20584" y="4485"/>
                  <a:pt x="20613" y="4713"/>
                </a:cubicBezTo>
                <a:cubicBezTo>
                  <a:pt x="20629" y="4843"/>
                  <a:pt x="20616" y="4988"/>
                  <a:pt x="20588" y="5110"/>
                </a:cubicBezTo>
                <a:cubicBezTo>
                  <a:pt x="20588" y="5138"/>
                  <a:pt x="20586" y="5149"/>
                  <a:pt x="20563" y="51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99040" y="2946240"/>
            <a:ext cx="1812960" cy="571680"/>
          </a:xfrm>
          <a:custGeom>
            <a:avLst/>
            <a:gdLst/>
            <a:ahLst/>
            <a:rect l="l" t="t" r="r" b="b"/>
            <a:pathLst>
              <a:path w="5037" h="1588">
                <a:moveTo>
                  <a:pt x="14213" y="8880"/>
                </a:moveTo>
                <a:cubicBezTo>
                  <a:pt x="14213" y="8969"/>
                  <a:pt x="14193" y="9074"/>
                  <a:pt x="14238" y="9153"/>
                </a:cubicBezTo>
                <a:cubicBezTo>
                  <a:pt x="14261" y="9176"/>
                  <a:pt x="14265" y="9184"/>
                  <a:pt x="14288" y="9178"/>
                </a:cubicBezTo>
                <a:cubicBezTo>
                  <a:pt x="14328" y="9147"/>
                  <a:pt x="14357" y="9128"/>
                  <a:pt x="14387" y="9079"/>
                </a:cubicBezTo>
                <a:cubicBezTo>
                  <a:pt x="14415" y="9033"/>
                  <a:pt x="14449" y="8981"/>
                  <a:pt x="14461" y="8954"/>
                </a:cubicBezTo>
                <a:cubicBezTo>
                  <a:pt x="14481" y="8910"/>
                  <a:pt x="14506" y="8828"/>
                  <a:pt x="14511" y="8781"/>
                </a:cubicBezTo>
                <a:cubicBezTo>
                  <a:pt x="14511" y="8756"/>
                  <a:pt x="14511" y="8748"/>
                  <a:pt x="14511" y="8731"/>
                </a:cubicBezTo>
                <a:cubicBezTo>
                  <a:pt x="14474" y="8780"/>
                  <a:pt x="14486" y="8813"/>
                  <a:pt x="14486" y="8880"/>
                </a:cubicBezTo>
                <a:cubicBezTo>
                  <a:pt x="14486" y="9049"/>
                  <a:pt x="14495" y="9212"/>
                  <a:pt x="14511" y="9376"/>
                </a:cubicBezTo>
                <a:cubicBezTo>
                  <a:pt x="14520" y="9473"/>
                  <a:pt x="14473" y="9546"/>
                  <a:pt x="14461" y="9624"/>
                </a:cubicBezTo>
                <a:cubicBezTo>
                  <a:pt x="14447" y="9715"/>
                  <a:pt x="14464" y="9764"/>
                  <a:pt x="14362" y="9773"/>
                </a:cubicBezTo>
                <a:cubicBezTo>
                  <a:pt x="14309" y="9777"/>
                  <a:pt x="14223" y="9797"/>
                  <a:pt x="14188" y="9748"/>
                </a:cubicBezTo>
                <a:cubicBezTo>
                  <a:pt x="14154" y="9700"/>
                  <a:pt x="14163" y="9655"/>
                  <a:pt x="14163" y="9599"/>
                </a:cubicBezTo>
              </a:path>
              <a:path w="5037" h="1588">
                <a:moveTo>
                  <a:pt x="14784" y="8806"/>
                </a:moveTo>
                <a:cubicBezTo>
                  <a:pt x="14875" y="8806"/>
                  <a:pt x="14965" y="8806"/>
                  <a:pt x="15056" y="8806"/>
                </a:cubicBezTo>
              </a:path>
              <a:path w="5037" h="1588">
                <a:moveTo>
                  <a:pt x="14808" y="9004"/>
                </a:moveTo>
                <a:cubicBezTo>
                  <a:pt x="14882" y="9004"/>
                  <a:pt x="15008" y="9007"/>
                  <a:pt x="15007" y="9004"/>
                </a:cubicBezTo>
                <a:cubicBezTo>
                  <a:pt x="14994" y="8939"/>
                  <a:pt x="15007" y="9071"/>
                  <a:pt x="15007" y="9004"/>
                </a:cubicBezTo>
                <a:cubicBezTo>
                  <a:pt x="15007" y="8897"/>
                  <a:pt x="14960" y="9051"/>
                  <a:pt x="15032" y="8954"/>
                </a:cubicBezTo>
                <a:cubicBezTo>
                  <a:pt x="15017" y="9014"/>
                  <a:pt x="15022" y="9064"/>
                  <a:pt x="15007" y="9004"/>
                </a:cubicBezTo>
                <a:cubicBezTo>
                  <a:pt x="14991" y="8939"/>
                  <a:pt x="15007" y="9071"/>
                  <a:pt x="15007" y="9004"/>
                </a:cubicBezTo>
                <a:cubicBezTo>
                  <a:pt x="15007" y="8937"/>
                  <a:pt x="15007" y="9071"/>
                  <a:pt x="15007" y="9004"/>
                </a:cubicBezTo>
                <a:cubicBezTo>
                  <a:pt x="15007" y="8937"/>
                  <a:pt x="15007" y="9071"/>
                  <a:pt x="15007" y="9004"/>
                </a:cubicBezTo>
                <a:cubicBezTo>
                  <a:pt x="15007" y="8937"/>
                  <a:pt x="15007" y="9071"/>
                  <a:pt x="15007" y="9004"/>
                </a:cubicBezTo>
                <a:cubicBezTo>
                  <a:pt x="15007" y="8928"/>
                  <a:pt x="14995" y="8994"/>
                  <a:pt x="15007" y="9004"/>
                </a:cubicBezTo>
                <a:cubicBezTo>
                  <a:pt x="15046" y="9035"/>
                  <a:pt x="15007" y="9054"/>
                  <a:pt x="15007" y="9004"/>
                </a:cubicBezTo>
                <a:cubicBezTo>
                  <a:pt x="15007" y="8933"/>
                  <a:pt x="15029" y="9071"/>
                  <a:pt x="15007" y="9004"/>
                </a:cubicBezTo>
                <a:cubicBezTo>
                  <a:pt x="14991" y="8957"/>
                  <a:pt x="14972" y="8969"/>
                  <a:pt x="15007" y="9004"/>
                </a:cubicBezTo>
                <a:cubicBezTo>
                  <a:pt x="15044" y="9041"/>
                  <a:pt x="14932" y="8944"/>
                  <a:pt x="15007" y="9004"/>
                </a:cubicBezTo>
                <a:cubicBezTo>
                  <a:pt x="15033" y="9025"/>
                  <a:pt x="14974" y="9004"/>
                  <a:pt x="15007" y="9004"/>
                </a:cubicBezTo>
                <a:cubicBezTo>
                  <a:pt x="15040" y="9004"/>
                  <a:pt x="15049" y="8996"/>
                  <a:pt x="15032" y="8954"/>
                </a:cubicBezTo>
              </a:path>
              <a:path w="5037" h="1588">
                <a:moveTo>
                  <a:pt x="15478" y="8533"/>
                </a:moveTo>
                <a:cubicBezTo>
                  <a:pt x="15543" y="8490"/>
                  <a:pt x="15520" y="8483"/>
                  <a:pt x="15602" y="8483"/>
                </a:cubicBezTo>
                <a:cubicBezTo>
                  <a:pt x="15637" y="8483"/>
                  <a:pt x="15682" y="8470"/>
                  <a:pt x="15701" y="8508"/>
                </a:cubicBezTo>
                <a:cubicBezTo>
                  <a:pt x="15742" y="8591"/>
                  <a:pt x="15723" y="8627"/>
                  <a:pt x="15701" y="8706"/>
                </a:cubicBezTo>
                <a:cubicBezTo>
                  <a:pt x="15677" y="8792"/>
                  <a:pt x="15651" y="8892"/>
                  <a:pt x="15577" y="8954"/>
                </a:cubicBezTo>
                <a:cubicBezTo>
                  <a:pt x="15552" y="8975"/>
                  <a:pt x="15493" y="9024"/>
                  <a:pt x="15453" y="9029"/>
                </a:cubicBezTo>
                <a:cubicBezTo>
                  <a:pt x="15418" y="9029"/>
                  <a:pt x="15406" y="9039"/>
                  <a:pt x="15404" y="9079"/>
                </a:cubicBezTo>
                <a:cubicBezTo>
                  <a:pt x="15347" y="9051"/>
                  <a:pt x="15361" y="9043"/>
                  <a:pt x="15379" y="9004"/>
                </a:cubicBezTo>
                <a:cubicBezTo>
                  <a:pt x="15411" y="8935"/>
                  <a:pt x="15432" y="8954"/>
                  <a:pt x="15503" y="8954"/>
                </a:cubicBezTo>
                <a:cubicBezTo>
                  <a:pt x="15559" y="8954"/>
                  <a:pt x="15581" y="8983"/>
                  <a:pt x="15627" y="9004"/>
                </a:cubicBezTo>
                <a:cubicBezTo>
                  <a:pt x="15690" y="9033"/>
                  <a:pt x="15729" y="9029"/>
                  <a:pt x="15801" y="9029"/>
                </a:cubicBezTo>
                <a:cubicBezTo>
                  <a:pt x="15851" y="9029"/>
                  <a:pt x="15883" y="9041"/>
                  <a:pt x="15900" y="9004"/>
                </a:cubicBezTo>
                <a:cubicBezTo>
                  <a:pt x="15908" y="8987"/>
                  <a:pt x="15917" y="8971"/>
                  <a:pt x="15925" y="8954"/>
                </a:cubicBezTo>
              </a:path>
              <a:path w="5037" h="1588">
                <a:moveTo>
                  <a:pt x="15999" y="8458"/>
                </a:moveTo>
                <a:cubicBezTo>
                  <a:pt x="16062" y="8441"/>
                  <a:pt x="16143" y="8420"/>
                  <a:pt x="16197" y="8409"/>
                </a:cubicBezTo>
                <a:cubicBezTo>
                  <a:pt x="16250" y="8398"/>
                  <a:pt x="16316" y="8409"/>
                  <a:pt x="16371" y="8409"/>
                </a:cubicBezTo>
              </a:path>
              <a:path w="5037" h="1588">
                <a:moveTo>
                  <a:pt x="16024" y="8434"/>
                </a:moveTo>
                <a:cubicBezTo>
                  <a:pt x="15970" y="8509"/>
                  <a:pt x="15925" y="8544"/>
                  <a:pt x="15925" y="8632"/>
                </a:cubicBezTo>
                <a:cubicBezTo>
                  <a:pt x="15925" y="8657"/>
                  <a:pt x="15925" y="8665"/>
                  <a:pt x="15925" y="8682"/>
                </a:cubicBezTo>
                <a:cubicBezTo>
                  <a:pt x="15959" y="8682"/>
                  <a:pt x="16005" y="8695"/>
                  <a:pt x="16024" y="8657"/>
                </a:cubicBezTo>
                <a:cubicBezTo>
                  <a:pt x="16037" y="8630"/>
                  <a:pt x="16055" y="8612"/>
                  <a:pt x="16098" y="8607"/>
                </a:cubicBezTo>
                <a:cubicBezTo>
                  <a:pt x="16131" y="8603"/>
                  <a:pt x="16180" y="8597"/>
                  <a:pt x="16197" y="8632"/>
                </a:cubicBezTo>
                <a:cubicBezTo>
                  <a:pt x="16216" y="8672"/>
                  <a:pt x="16208" y="8713"/>
                  <a:pt x="16222" y="8756"/>
                </a:cubicBezTo>
                <a:cubicBezTo>
                  <a:pt x="16236" y="8797"/>
                  <a:pt x="16245" y="8866"/>
                  <a:pt x="16222" y="8930"/>
                </a:cubicBezTo>
                <a:cubicBezTo>
                  <a:pt x="16199" y="8993"/>
                  <a:pt x="16159" y="9024"/>
                  <a:pt x="16098" y="9029"/>
                </a:cubicBezTo>
                <a:cubicBezTo>
                  <a:pt x="16069" y="9031"/>
                  <a:pt x="15903" y="9035"/>
                  <a:pt x="15974" y="9004"/>
                </a:cubicBezTo>
                <a:cubicBezTo>
                  <a:pt x="15982" y="9004"/>
                  <a:pt x="15991" y="9004"/>
                  <a:pt x="15999" y="9004"/>
                </a:cubicBezTo>
              </a:path>
              <a:path w="5037" h="1588">
                <a:moveTo>
                  <a:pt x="16495" y="8706"/>
                </a:moveTo>
                <a:cubicBezTo>
                  <a:pt x="16586" y="8706"/>
                  <a:pt x="16677" y="8706"/>
                  <a:pt x="16768" y="8706"/>
                </a:cubicBezTo>
              </a:path>
              <a:path w="5037" h="1588">
                <a:moveTo>
                  <a:pt x="17041" y="8483"/>
                </a:moveTo>
                <a:cubicBezTo>
                  <a:pt x="16997" y="8582"/>
                  <a:pt x="16940" y="8699"/>
                  <a:pt x="16917" y="8806"/>
                </a:cubicBezTo>
                <a:cubicBezTo>
                  <a:pt x="16901" y="8883"/>
                  <a:pt x="16930" y="8967"/>
                  <a:pt x="16942" y="9029"/>
                </a:cubicBezTo>
                <a:cubicBezTo>
                  <a:pt x="16958" y="9109"/>
                  <a:pt x="16956" y="9103"/>
                  <a:pt x="17041" y="9103"/>
                </a:cubicBezTo>
                <a:cubicBezTo>
                  <a:pt x="17124" y="9103"/>
                  <a:pt x="17129" y="9090"/>
                  <a:pt x="17190" y="9029"/>
                </a:cubicBezTo>
                <a:cubicBezTo>
                  <a:pt x="17235" y="8983"/>
                  <a:pt x="17260" y="8919"/>
                  <a:pt x="17264" y="8855"/>
                </a:cubicBezTo>
                <a:cubicBezTo>
                  <a:pt x="17269" y="8773"/>
                  <a:pt x="17253" y="8747"/>
                  <a:pt x="17214" y="8682"/>
                </a:cubicBezTo>
                <a:cubicBezTo>
                  <a:pt x="17180" y="8625"/>
                  <a:pt x="17137" y="8606"/>
                  <a:pt x="17090" y="8558"/>
                </a:cubicBezTo>
                <a:cubicBezTo>
                  <a:pt x="17068" y="8535"/>
                  <a:pt x="17060" y="8530"/>
                  <a:pt x="17066" y="8508"/>
                </a:cubicBezTo>
              </a:path>
              <a:path w="5037" h="1588">
                <a:moveTo>
                  <a:pt x="17214" y="8260"/>
                </a:moveTo>
                <a:cubicBezTo>
                  <a:pt x="17248" y="8209"/>
                  <a:pt x="17268" y="8191"/>
                  <a:pt x="17338" y="8186"/>
                </a:cubicBezTo>
                <a:cubicBezTo>
                  <a:pt x="17375" y="8184"/>
                  <a:pt x="17467" y="8202"/>
                  <a:pt x="17487" y="8235"/>
                </a:cubicBezTo>
                <a:cubicBezTo>
                  <a:pt x="17521" y="8290"/>
                  <a:pt x="17430" y="8345"/>
                  <a:pt x="17413" y="8384"/>
                </a:cubicBezTo>
                <a:cubicBezTo>
                  <a:pt x="17397" y="8419"/>
                  <a:pt x="17400" y="8397"/>
                  <a:pt x="17388" y="8434"/>
                </a:cubicBezTo>
                <a:cubicBezTo>
                  <a:pt x="17435" y="8468"/>
                  <a:pt x="17476" y="8458"/>
                  <a:pt x="17537" y="8458"/>
                </a:cubicBezTo>
                <a:cubicBezTo>
                  <a:pt x="17570" y="8458"/>
                  <a:pt x="17586" y="8458"/>
                  <a:pt x="17611" y="8458"/>
                </a:cubicBezTo>
              </a:path>
              <a:path w="5037" h="1588">
                <a:moveTo>
                  <a:pt x="17512" y="8756"/>
                </a:moveTo>
                <a:cubicBezTo>
                  <a:pt x="17595" y="8756"/>
                  <a:pt x="17677" y="8756"/>
                  <a:pt x="17760" y="8756"/>
                </a:cubicBezTo>
              </a:path>
              <a:path w="5037" h="1588">
                <a:moveTo>
                  <a:pt x="17512" y="8880"/>
                </a:moveTo>
                <a:cubicBezTo>
                  <a:pt x="17611" y="8880"/>
                  <a:pt x="17711" y="8880"/>
                  <a:pt x="17810" y="8880"/>
                </a:cubicBezTo>
              </a:path>
              <a:path w="5037" h="1588">
                <a:moveTo>
                  <a:pt x="18182" y="8458"/>
                </a:moveTo>
                <a:cubicBezTo>
                  <a:pt x="18248" y="8421"/>
                  <a:pt x="18341" y="8350"/>
                  <a:pt x="18430" y="8384"/>
                </a:cubicBezTo>
                <a:cubicBezTo>
                  <a:pt x="18476" y="8402"/>
                  <a:pt x="18499" y="8494"/>
                  <a:pt x="18504" y="8533"/>
                </a:cubicBezTo>
                <a:cubicBezTo>
                  <a:pt x="18515" y="8616"/>
                  <a:pt x="18501" y="8728"/>
                  <a:pt x="18479" y="8806"/>
                </a:cubicBezTo>
                <a:cubicBezTo>
                  <a:pt x="18461" y="8870"/>
                  <a:pt x="18417" y="8975"/>
                  <a:pt x="18380" y="9029"/>
                </a:cubicBezTo>
                <a:cubicBezTo>
                  <a:pt x="18346" y="9078"/>
                  <a:pt x="18268" y="9130"/>
                  <a:pt x="18231" y="9153"/>
                </a:cubicBezTo>
                <a:cubicBezTo>
                  <a:pt x="18223" y="9153"/>
                  <a:pt x="18215" y="9153"/>
                  <a:pt x="18207" y="9153"/>
                </a:cubicBezTo>
                <a:cubicBezTo>
                  <a:pt x="18195" y="9147"/>
                  <a:pt x="18113" y="9100"/>
                  <a:pt x="18107" y="9079"/>
                </a:cubicBezTo>
                <a:cubicBezTo>
                  <a:pt x="18107" y="9021"/>
                  <a:pt x="18107" y="8996"/>
                  <a:pt x="18107" y="8954"/>
                </a:cubicBezTo>
                <a:cubicBezTo>
                  <a:pt x="18156" y="8954"/>
                  <a:pt x="18214" y="8916"/>
                  <a:pt x="18256" y="8930"/>
                </a:cubicBezTo>
                <a:cubicBezTo>
                  <a:pt x="18325" y="8952"/>
                  <a:pt x="18352" y="8965"/>
                  <a:pt x="18405" y="9004"/>
                </a:cubicBezTo>
                <a:cubicBezTo>
                  <a:pt x="18448" y="9036"/>
                  <a:pt x="18480" y="9101"/>
                  <a:pt x="18529" y="9079"/>
                </a:cubicBezTo>
                <a:cubicBezTo>
                  <a:pt x="18549" y="9038"/>
                  <a:pt x="18547" y="9022"/>
                  <a:pt x="18579" y="9029"/>
                </a:cubicBezTo>
              </a:path>
              <a:path w="5037" h="1588">
                <a:moveTo>
                  <a:pt x="18802" y="8483"/>
                </a:moveTo>
                <a:cubicBezTo>
                  <a:pt x="18910" y="8483"/>
                  <a:pt x="19106" y="8514"/>
                  <a:pt x="19199" y="8458"/>
                </a:cubicBezTo>
              </a:path>
              <a:path w="5037" h="1588">
                <a:moveTo>
                  <a:pt x="18876" y="8434"/>
                </a:moveTo>
                <a:cubicBezTo>
                  <a:pt x="18822" y="8512"/>
                  <a:pt x="18782" y="8547"/>
                  <a:pt x="18777" y="8632"/>
                </a:cubicBezTo>
                <a:cubicBezTo>
                  <a:pt x="18774" y="8677"/>
                  <a:pt x="18789" y="8726"/>
                  <a:pt x="18827" y="8731"/>
                </a:cubicBezTo>
                <a:cubicBezTo>
                  <a:pt x="18873" y="8737"/>
                  <a:pt x="18885" y="8711"/>
                  <a:pt x="18926" y="8706"/>
                </a:cubicBezTo>
                <a:cubicBezTo>
                  <a:pt x="18975" y="8701"/>
                  <a:pt x="19013" y="8701"/>
                  <a:pt x="19050" y="8731"/>
                </a:cubicBezTo>
                <a:cubicBezTo>
                  <a:pt x="19105" y="8775"/>
                  <a:pt x="19081" y="8786"/>
                  <a:pt x="19149" y="8806"/>
                </a:cubicBezTo>
                <a:cubicBezTo>
                  <a:pt x="19156" y="8894"/>
                  <a:pt x="19173" y="8976"/>
                  <a:pt x="19149" y="9029"/>
                </a:cubicBezTo>
                <a:cubicBezTo>
                  <a:pt x="19124" y="9085"/>
                  <a:pt x="19098" y="9121"/>
                  <a:pt x="19050" y="9153"/>
                </a:cubicBezTo>
                <a:cubicBezTo>
                  <a:pt x="19001" y="9185"/>
                  <a:pt x="18953" y="9116"/>
                  <a:pt x="18926" y="9103"/>
                </a:cubicBezTo>
                <a:cubicBezTo>
                  <a:pt x="18859" y="9081"/>
                  <a:pt x="18838" y="9080"/>
                  <a:pt x="18827" y="90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53040" y="2251080"/>
            <a:ext cx="847800" cy="374760"/>
          </a:xfrm>
          <a:custGeom>
            <a:avLst/>
            <a:gdLst/>
            <a:ahLst/>
            <a:rect l="l" t="t" r="r" b="b"/>
            <a:pathLst>
              <a:path w="2358" h="1043">
                <a:moveTo>
                  <a:pt x="14312" y="6648"/>
                </a:moveTo>
                <a:cubicBezTo>
                  <a:pt x="14369" y="6733"/>
                  <a:pt x="14431" y="6812"/>
                  <a:pt x="14486" y="6896"/>
                </a:cubicBezTo>
                <a:cubicBezTo>
                  <a:pt x="14532" y="6966"/>
                  <a:pt x="14583" y="7087"/>
                  <a:pt x="14635" y="7144"/>
                </a:cubicBezTo>
                <a:cubicBezTo>
                  <a:pt x="14675" y="7187"/>
                  <a:pt x="14757" y="7237"/>
                  <a:pt x="14808" y="7268"/>
                </a:cubicBezTo>
                <a:cubicBezTo>
                  <a:pt x="14866" y="7303"/>
                  <a:pt x="14883" y="7302"/>
                  <a:pt x="14908" y="7268"/>
                </a:cubicBezTo>
                <a:cubicBezTo>
                  <a:pt x="14939" y="7226"/>
                  <a:pt x="14932" y="7227"/>
                  <a:pt x="14932" y="7169"/>
                </a:cubicBezTo>
              </a:path>
              <a:path w="2358" h="1043">
                <a:moveTo>
                  <a:pt x="14858" y="6548"/>
                </a:moveTo>
                <a:cubicBezTo>
                  <a:pt x="14777" y="6647"/>
                  <a:pt x="14714" y="6749"/>
                  <a:pt x="14635" y="6846"/>
                </a:cubicBezTo>
                <a:cubicBezTo>
                  <a:pt x="14569" y="6927"/>
                  <a:pt x="14471" y="6995"/>
                  <a:pt x="14412" y="7069"/>
                </a:cubicBezTo>
                <a:cubicBezTo>
                  <a:pt x="14400" y="7084"/>
                  <a:pt x="14315" y="7185"/>
                  <a:pt x="14362" y="7169"/>
                </a:cubicBezTo>
                <a:cubicBezTo>
                  <a:pt x="14406" y="7147"/>
                  <a:pt x="14417" y="7144"/>
                  <a:pt x="14436" y="7119"/>
                </a:cubicBezTo>
              </a:path>
              <a:path w="2358" h="1043">
                <a:moveTo>
                  <a:pt x="15156" y="6846"/>
                </a:moveTo>
                <a:cubicBezTo>
                  <a:pt x="15230" y="6846"/>
                  <a:pt x="15305" y="6846"/>
                  <a:pt x="15379" y="6846"/>
                </a:cubicBezTo>
              </a:path>
              <a:path w="2358" h="1043">
                <a:moveTo>
                  <a:pt x="15156" y="7045"/>
                </a:moveTo>
                <a:cubicBezTo>
                  <a:pt x="15239" y="7045"/>
                  <a:pt x="15321" y="7045"/>
                  <a:pt x="15404" y="7045"/>
                </a:cubicBezTo>
              </a:path>
              <a:path w="2358" h="1043">
                <a:moveTo>
                  <a:pt x="15677" y="6772"/>
                </a:moveTo>
                <a:cubicBezTo>
                  <a:pt x="15766" y="6772"/>
                  <a:pt x="15843" y="6778"/>
                  <a:pt x="15925" y="6747"/>
                </a:cubicBezTo>
              </a:path>
              <a:path w="2358" h="1043">
                <a:moveTo>
                  <a:pt x="16222" y="6251"/>
                </a:moveTo>
                <a:cubicBezTo>
                  <a:pt x="16222" y="6483"/>
                  <a:pt x="16189" y="6758"/>
                  <a:pt x="16247" y="6970"/>
                </a:cubicBezTo>
                <a:cubicBezTo>
                  <a:pt x="16247" y="6978"/>
                  <a:pt x="16247" y="6987"/>
                  <a:pt x="16247" y="6995"/>
                </a:cubicBezTo>
                <a:cubicBezTo>
                  <a:pt x="16277" y="6945"/>
                  <a:pt x="16273" y="6896"/>
                  <a:pt x="16297" y="6846"/>
                </a:cubicBezTo>
                <a:cubicBezTo>
                  <a:pt x="16321" y="6796"/>
                  <a:pt x="16333" y="6747"/>
                  <a:pt x="16371" y="6697"/>
                </a:cubicBezTo>
                <a:cubicBezTo>
                  <a:pt x="16401" y="6657"/>
                  <a:pt x="16472" y="6626"/>
                  <a:pt x="16520" y="6623"/>
                </a:cubicBezTo>
                <a:cubicBezTo>
                  <a:pt x="16601" y="6618"/>
                  <a:pt x="16602" y="6667"/>
                  <a:pt x="16644" y="6722"/>
                </a:cubicBezTo>
                <a:cubicBezTo>
                  <a:pt x="16688" y="6780"/>
                  <a:pt x="16660" y="6836"/>
                  <a:pt x="16619" y="6896"/>
                </a:cubicBezTo>
                <a:cubicBezTo>
                  <a:pt x="16590" y="6937"/>
                  <a:pt x="16536" y="6970"/>
                  <a:pt x="16495" y="6995"/>
                </a:cubicBezTo>
                <a:cubicBezTo>
                  <a:pt x="16444" y="7026"/>
                  <a:pt x="16377" y="7040"/>
                  <a:pt x="16321" y="7045"/>
                </a:cubicBezTo>
                <a:cubicBezTo>
                  <a:pt x="16297" y="7045"/>
                  <a:pt x="16288" y="7045"/>
                  <a:pt x="16272" y="70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62160" y="1133640"/>
            <a:ext cx="509760" cy="268200"/>
          </a:xfrm>
          <a:custGeom>
            <a:avLst/>
            <a:gdLst/>
            <a:ahLst/>
            <a:rect l="l" t="t" r="r" b="b"/>
            <a:pathLst>
              <a:path w="1415" h="745">
                <a:moveTo>
                  <a:pt x="8781" y="3597"/>
                </a:moveTo>
                <a:cubicBezTo>
                  <a:pt x="8743" y="3559"/>
                  <a:pt x="8731" y="3550"/>
                  <a:pt x="8731" y="3497"/>
                </a:cubicBezTo>
                <a:cubicBezTo>
                  <a:pt x="8731" y="3443"/>
                  <a:pt x="8711" y="3418"/>
                  <a:pt x="8706" y="3373"/>
                </a:cubicBezTo>
                <a:cubicBezTo>
                  <a:pt x="8702" y="3340"/>
                  <a:pt x="8673" y="3301"/>
                  <a:pt x="8632" y="3324"/>
                </a:cubicBezTo>
                <a:cubicBezTo>
                  <a:pt x="8622" y="3330"/>
                  <a:pt x="8561" y="3411"/>
                  <a:pt x="8558" y="3423"/>
                </a:cubicBezTo>
                <a:cubicBezTo>
                  <a:pt x="8540" y="3488"/>
                  <a:pt x="8547" y="3555"/>
                  <a:pt x="8533" y="3621"/>
                </a:cubicBezTo>
                <a:cubicBezTo>
                  <a:pt x="8517" y="3694"/>
                  <a:pt x="8492" y="3751"/>
                  <a:pt x="8533" y="3820"/>
                </a:cubicBezTo>
                <a:cubicBezTo>
                  <a:pt x="8551" y="3849"/>
                  <a:pt x="8585" y="3891"/>
                  <a:pt x="8607" y="3894"/>
                </a:cubicBezTo>
                <a:cubicBezTo>
                  <a:pt x="8638" y="3898"/>
                  <a:pt x="8693" y="3849"/>
                  <a:pt x="8706" y="3820"/>
                </a:cubicBezTo>
                <a:cubicBezTo>
                  <a:pt x="8727" y="3772"/>
                  <a:pt x="8751" y="3754"/>
                  <a:pt x="8756" y="3696"/>
                </a:cubicBezTo>
                <a:cubicBezTo>
                  <a:pt x="8757" y="3680"/>
                  <a:pt x="8760" y="3568"/>
                  <a:pt x="8756" y="3572"/>
                </a:cubicBezTo>
                <a:cubicBezTo>
                  <a:pt x="8742" y="3587"/>
                  <a:pt x="8803" y="3681"/>
                  <a:pt x="8806" y="3696"/>
                </a:cubicBezTo>
                <a:cubicBezTo>
                  <a:pt x="8815" y="3741"/>
                  <a:pt x="8825" y="3805"/>
                  <a:pt x="8855" y="3820"/>
                </a:cubicBezTo>
                <a:cubicBezTo>
                  <a:pt x="8880" y="3820"/>
                  <a:pt x="8888" y="3820"/>
                  <a:pt x="8905" y="3820"/>
                </a:cubicBezTo>
              </a:path>
              <a:path w="1415" h="745">
                <a:moveTo>
                  <a:pt x="9004" y="3423"/>
                </a:moveTo>
                <a:cubicBezTo>
                  <a:pt x="9074" y="3444"/>
                  <a:pt x="9107" y="3448"/>
                  <a:pt x="9178" y="3448"/>
                </a:cubicBezTo>
                <a:cubicBezTo>
                  <a:pt x="9203" y="3448"/>
                  <a:pt x="9211" y="3448"/>
                  <a:pt x="9227" y="3448"/>
                </a:cubicBezTo>
              </a:path>
              <a:path w="1415" h="745">
                <a:moveTo>
                  <a:pt x="9004" y="3646"/>
                </a:moveTo>
                <a:cubicBezTo>
                  <a:pt x="9086" y="3681"/>
                  <a:pt x="9072" y="3653"/>
                  <a:pt x="9153" y="3646"/>
                </a:cubicBezTo>
                <a:cubicBezTo>
                  <a:pt x="9181" y="3646"/>
                  <a:pt x="9192" y="3644"/>
                  <a:pt x="9203" y="3621"/>
                </a:cubicBezTo>
              </a:path>
              <a:path w="1415" h="745">
                <a:moveTo>
                  <a:pt x="9475" y="3522"/>
                </a:moveTo>
                <a:cubicBezTo>
                  <a:pt x="9522" y="3518"/>
                  <a:pt x="9628" y="3519"/>
                  <a:pt x="9674" y="3497"/>
                </a:cubicBezTo>
                <a:cubicBezTo>
                  <a:pt x="9682" y="3489"/>
                  <a:pt x="9691" y="3481"/>
                  <a:pt x="9699" y="3473"/>
                </a:cubicBezTo>
              </a:path>
              <a:path w="1415" h="745">
                <a:moveTo>
                  <a:pt x="9897" y="3150"/>
                </a:moveTo>
                <a:cubicBezTo>
                  <a:pt x="9925" y="3253"/>
                  <a:pt x="9913" y="3277"/>
                  <a:pt x="9897" y="3373"/>
                </a:cubicBezTo>
                <a:cubicBezTo>
                  <a:pt x="9883" y="3455"/>
                  <a:pt x="9914" y="3523"/>
                  <a:pt x="9922" y="3597"/>
                </a:cubicBezTo>
                <a:cubicBezTo>
                  <a:pt x="9922" y="3621"/>
                  <a:pt x="9922" y="3630"/>
                  <a:pt x="9922" y="36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06800" y="1482840"/>
            <a:ext cx="492120" cy="214200"/>
          </a:xfrm>
          <a:custGeom>
            <a:avLst/>
            <a:gdLst/>
            <a:ahLst/>
            <a:rect l="l" t="t" r="r" b="b"/>
            <a:pathLst>
              <a:path w="1365" h="596">
                <a:moveTo>
                  <a:pt x="8632" y="4118"/>
                </a:moveTo>
                <a:cubicBezTo>
                  <a:pt x="8651" y="4188"/>
                  <a:pt x="8673" y="4272"/>
                  <a:pt x="8682" y="4341"/>
                </a:cubicBezTo>
                <a:cubicBezTo>
                  <a:pt x="8693" y="4421"/>
                  <a:pt x="8689" y="4487"/>
                  <a:pt x="8706" y="4564"/>
                </a:cubicBezTo>
                <a:cubicBezTo>
                  <a:pt x="8714" y="4599"/>
                  <a:pt x="8682" y="4699"/>
                  <a:pt x="8682" y="4663"/>
                </a:cubicBezTo>
                <a:cubicBezTo>
                  <a:pt x="8682" y="4655"/>
                  <a:pt x="8682" y="4646"/>
                  <a:pt x="8682" y="4638"/>
                </a:cubicBezTo>
                <a:cubicBezTo>
                  <a:pt x="8682" y="4553"/>
                  <a:pt x="8669" y="4460"/>
                  <a:pt x="8706" y="4390"/>
                </a:cubicBezTo>
                <a:cubicBezTo>
                  <a:pt x="8735" y="4336"/>
                  <a:pt x="8779" y="4267"/>
                  <a:pt x="8855" y="4291"/>
                </a:cubicBezTo>
                <a:cubicBezTo>
                  <a:pt x="8869" y="4295"/>
                  <a:pt x="8997" y="4377"/>
                  <a:pt x="9004" y="4390"/>
                </a:cubicBezTo>
                <a:cubicBezTo>
                  <a:pt x="9028" y="4438"/>
                  <a:pt x="9000" y="4527"/>
                  <a:pt x="8979" y="4564"/>
                </a:cubicBezTo>
                <a:cubicBezTo>
                  <a:pt x="8937" y="4638"/>
                  <a:pt x="8921" y="4627"/>
                  <a:pt x="8855" y="4663"/>
                </a:cubicBezTo>
                <a:cubicBezTo>
                  <a:pt x="8836" y="4673"/>
                  <a:pt x="8724" y="4727"/>
                  <a:pt x="8706" y="4713"/>
                </a:cubicBezTo>
                <a:cubicBezTo>
                  <a:pt x="8694" y="4704"/>
                  <a:pt x="8727" y="4675"/>
                  <a:pt x="8731" y="4663"/>
                </a:cubicBezTo>
              </a:path>
              <a:path w="1365" h="596">
                <a:moveTo>
                  <a:pt x="9252" y="4316"/>
                </a:moveTo>
                <a:cubicBezTo>
                  <a:pt x="9277" y="4316"/>
                  <a:pt x="9285" y="4316"/>
                  <a:pt x="9302" y="4316"/>
                </a:cubicBezTo>
                <a:cubicBezTo>
                  <a:pt x="9315" y="4278"/>
                  <a:pt x="9331" y="4291"/>
                  <a:pt x="9376" y="4291"/>
                </a:cubicBezTo>
                <a:cubicBezTo>
                  <a:pt x="9401" y="4291"/>
                  <a:pt x="9409" y="4291"/>
                  <a:pt x="9426" y="4291"/>
                </a:cubicBezTo>
              </a:path>
              <a:path w="1365" h="596">
                <a:moveTo>
                  <a:pt x="9227" y="4490"/>
                </a:moveTo>
                <a:cubicBezTo>
                  <a:pt x="9314" y="4514"/>
                  <a:pt x="9289" y="4481"/>
                  <a:pt x="9376" y="4465"/>
                </a:cubicBezTo>
                <a:cubicBezTo>
                  <a:pt x="9428" y="4465"/>
                  <a:pt x="9446" y="4464"/>
                  <a:pt x="9475" y="4440"/>
                </a:cubicBezTo>
              </a:path>
              <a:path w="1365" h="596">
                <a:moveTo>
                  <a:pt x="9773" y="4192"/>
                </a:moveTo>
                <a:cubicBezTo>
                  <a:pt x="9738" y="4323"/>
                  <a:pt x="9723" y="4371"/>
                  <a:pt x="9723" y="4490"/>
                </a:cubicBezTo>
                <a:cubicBezTo>
                  <a:pt x="9723" y="4534"/>
                  <a:pt x="9734" y="4584"/>
                  <a:pt x="9773" y="4589"/>
                </a:cubicBezTo>
                <a:cubicBezTo>
                  <a:pt x="9804" y="4593"/>
                  <a:pt x="9881" y="4582"/>
                  <a:pt x="9897" y="4564"/>
                </a:cubicBezTo>
                <a:cubicBezTo>
                  <a:pt x="9971" y="4482"/>
                  <a:pt x="9982" y="4444"/>
                  <a:pt x="9996" y="4316"/>
                </a:cubicBezTo>
                <a:cubicBezTo>
                  <a:pt x="10004" y="4247"/>
                  <a:pt x="9967" y="4212"/>
                  <a:pt x="9922" y="4167"/>
                </a:cubicBezTo>
                <a:cubicBezTo>
                  <a:pt x="9883" y="4128"/>
                  <a:pt x="9851" y="4118"/>
                  <a:pt x="9798" y="41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48040" y="1177920"/>
            <a:ext cx="689040" cy="268200"/>
          </a:xfrm>
          <a:custGeom>
            <a:avLst/>
            <a:gdLst/>
            <a:ahLst/>
            <a:rect l="l" t="t" r="r" b="b"/>
            <a:pathLst>
              <a:path w="1911" h="745">
                <a:moveTo>
                  <a:pt x="10988" y="3497"/>
                </a:moveTo>
                <a:cubicBezTo>
                  <a:pt x="10996" y="3514"/>
                  <a:pt x="11005" y="3530"/>
                  <a:pt x="11013" y="3547"/>
                </a:cubicBezTo>
                <a:cubicBezTo>
                  <a:pt x="11013" y="3496"/>
                  <a:pt x="11002" y="3489"/>
                  <a:pt x="10988" y="3448"/>
                </a:cubicBezTo>
                <a:cubicBezTo>
                  <a:pt x="10978" y="3419"/>
                  <a:pt x="10955" y="3403"/>
                  <a:pt x="10914" y="3398"/>
                </a:cubicBezTo>
                <a:cubicBezTo>
                  <a:pt x="10857" y="3392"/>
                  <a:pt x="10843" y="3464"/>
                  <a:pt x="10815" y="3497"/>
                </a:cubicBezTo>
                <a:cubicBezTo>
                  <a:pt x="10753" y="3573"/>
                  <a:pt x="10709" y="3645"/>
                  <a:pt x="10691" y="3746"/>
                </a:cubicBezTo>
                <a:cubicBezTo>
                  <a:pt x="10682" y="3797"/>
                  <a:pt x="10667" y="3935"/>
                  <a:pt x="10716" y="3969"/>
                </a:cubicBezTo>
                <a:cubicBezTo>
                  <a:pt x="10779" y="4014"/>
                  <a:pt x="10812" y="4018"/>
                  <a:pt x="10889" y="4018"/>
                </a:cubicBezTo>
                <a:cubicBezTo>
                  <a:pt x="10958" y="4018"/>
                  <a:pt x="10983" y="4013"/>
                  <a:pt x="11038" y="3969"/>
                </a:cubicBezTo>
              </a:path>
              <a:path w="1911" h="745">
                <a:moveTo>
                  <a:pt x="11212" y="3621"/>
                </a:moveTo>
                <a:cubicBezTo>
                  <a:pt x="11279" y="3621"/>
                  <a:pt x="11298" y="3612"/>
                  <a:pt x="11361" y="3597"/>
                </a:cubicBezTo>
                <a:cubicBezTo>
                  <a:pt x="11389" y="3597"/>
                  <a:pt x="11399" y="3599"/>
                  <a:pt x="11410" y="3621"/>
                </a:cubicBezTo>
              </a:path>
              <a:path w="1911" h="745">
                <a:moveTo>
                  <a:pt x="11212" y="3870"/>
                </a:moveTo>
                <a:cubicBezTo>
                  <a:pt x="11259" y="3870"/>
                  <a:pt x="11291" y="3848"/>
                  <a:pt x="11336" y="3845"/>
                </a:cubicBezTo>
                <a:cubicBezTo>
                  <a:pt x="11396" y="3841"/>
                  <a:pt x="11394" y="3836"/>
                  <a:pt x="11435" y="3795"/>
                </a:cubicBezTo>
              </a:path>
              <a:path w="1911" h="745">
                <a:moveTo>
                  <a:pt x="11658" y="3398"/>
                </a:moveTo>
                <a:cubicBezTo>
                  <a:pt x="11712" y="3376"/>
                  <a:pt x="11783" y="3334"/>
                  <a:pt x="11832" y="3324"/>
                </a:cubicBezTo>
                <a:cubicBezTo>
                  <a:pt x="11905" y="3309"/>
                  <a:pt x="11896" y="3304"/>
                  <a:pt x="11956" y="3324"/>
                </a:cubicBezTo>
                <a:cubicBezTo>
                  <a:pt x="11989" y="3335"/>
                  <a:pt x="11992" y="3376"/>
                  <a:pt x="11981" y="3423"/>
                </a:cubicBezTo>
                <a:cubicBezTo>
                  <a:pt x="11944" y="3578"/>
                  <a:pt x="11912" y="3650"/>
                  <a:pt x="11832" y="3770"/>
                </a:cubicBezTo>
                <a:cubicBezTo>
                  <a:pt x="11806" y="3810"/>
                  <a:pt x="11756" y="3873"/>
                  <a:pt x="11708" y="3894"/>
                </a:cubicBezTo>
                <a:cubicBezTo>
                  <a:pt x="11680" y="3894"/>
                  <a:pt x="11669" y="3896"/>
                  <a:pt x="11658" y="3919"/>
                </a:cubicBezTo>
                <a:cubicBezTo>
                  <a:pt x="11658" y="3869"/>
                  <a:pt x="11664" y="3870"/>
                  <a:pt x="11708" y="3845"/>
                </a:cubicBezTo>
                <a:cubicBezTo>
                  <a:pt x="11781" y="3803"/>
                  <a:pt x="11807" y="3828"/>
                  <a:pt x="11881" y="3845"/>
                </a:cubicBezTo>
                <a:cubicBezTo>
                  <a:pt x="11941" y="3859"/>
                  <a:pt x="11992" y="3870"/>
                  <a:pt x="12055" y="3870"/>
                </a:cubicBezTo>
                <a:cubicBezTo>
                  <a:pt x="12090" y="3870"/>
                  <a:pt x="12107" y="3865"/>
                  <a:pt x="12129" y="3845"/>
                </a:cubicBezTo>
              </a:path>
              <a:path w="1911" h="745">
                <a:moveTo>
                  <a:pt x="12353" y="3349"/>
                </a:moveTo>
                <a:cubicBezTo>
                  <a:pt x="12408" y="3344"/>
                  <a:pt x="12475" y="3342"/>
                  <a:pt x="12526" y="3324"/>
                </a:cubicBezTo>
                <a:cubicBezTo>
                  <a:pt x="12577" y="3306"/>
                  <a:pt x="12590" y="3308"/>
                  <a:pt x="12601" y="3274"/>
                </a:cubicBezTo>
              </a:path>
              <a:path w="1911" h="745">
                <a:moveTo>
                  <a:pt x="12353" y="3349"/>
                </a:moveTo>
                <a:cubicBezTo>
                  <a:pt x="12293" y="3409"/>
                  <a:pt x="12254" y="3421"/>
                  <a:pt x="12254" y="3497"/>
                </a:cubicBezTo>
                <a:cubicBezTo>
                  <a:pt x="12254" y="3543"/>
                  <a:pt x="12251" y="3566"/>
                  <a:pt x="12303" y="3572"/>
                </a:cubicBezTo>
                <a:cubicBezTo>
                  <a:pt x="12347" y="3577"/>
                  <a:pt x="12370" y="3576"/>
                  <a:pt x="12402" y="3547"/>
                </a:cubicBezTo>
                <a:cubicBezTo>
                  <a:pt x="12430" y="3522"/>
                  <a:pt x="12466" y="3501"/>
                  <a:pt x="12502" y="3497"/>
                </a:cubicBezTo>
                <a:cubicBezTo>
                  <a:pt x="12569" y="3489"/>
                  <a:pt x="12563" y="3560"/>
                  <a:pt x="12576" y="3597"/>
                </a:cubicBezTo>
                <a:cubicBezTo>
                  <a:pt x="12598" y="3658"/>
                  <a:pt x="12622" y="3690"/>
                  <a:pt x="12576" y="3746"/>
                </a:cubicBezTo>
                <a:cubicBezTo>
                  <a:pt x="12528" y="3805"/>
                  <a:pt x="12556" y="3813"/>
                  <a:pt x="12477" y="3845"/>
                </a:cubicBezTo>
                <a:cubicBezTo>
                  <a:pt x="12403" y="3875"/>
                  <a:pt x="12350" y="3874"/>
                  <a:pt x="12278" y="3894"/>
                </a:cubicBezTo>
                <a:cubicBezTo>
                  <a:pt x="12262" y="3902"/>
                  <a:pt x="12245" y="3911"/>
                  <a:pt x="12229" y="39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16280" y="4232160"/>
            <a:ext cx="3492720" cy="189000"/>
          </a:xfrm>
          <a:custGeom>
            <a:avLst/>
            <a:gdLst/>
            <a:ahLst/>
            <a:rect l="l" t="t" r="r" b="b"/>
            <a:pathLst>
              <a:path w="9700" h="522">
                <a:moveTo>
                  <a:pt x="12824" y="12030"/>
                </a:moveTo>
                <a:cubicBezTo>
                  <a:pt x="12853" y="11976"/>
                  <a:pt x="12820" y="11938"/>
                  <a:pt x="12874" y="11881"/>
                </a:cubicBezTo>
                <a:cubicBezTo>
                  <a:pt x="12917" y="11835"/>
                  <a:pt x="12942" y="11834"/>
                  <a:pt x="12998" y="11807"/>
                </a:cubicBezTo>
                <a:cubicBezTo>
                  <a:pt x="13081" y="11766"/>
                  <a:pt x="13099" y="11767"/>
                  <a:pt x="13196" y="11757"/>
                </a:cubicBezTo>
                <a:cubicBezTo>
                  <a:pt x="13309" y="11745"/>
                  <a:pt x="13434" y="11760"/>
                  <a:pt x="13543" y="11782"/>
                </a:cubicBezTo>
                <a:cubicBezTo>
                  <a:pt x="13729" y="11819"/>
                  <a:pt x="13882" y="11943"/>
                  <a:pt x="14039" y="12030"/>
                </a:cubicBezTo>
                <a:cubicBezTo>
                  <a:pt x="14129" y="12080"/>
                  <a:pt x="14235" y="12130"/>
                  <a:pt x="14337" y="12154"/>
                </a:cubicBezTo>
                <a:cubicBezTo>
                  <a:pt x="14441" y="12179"/>
                  <a:pt x="14553" y="12172"/>
                  <a:pt x="14660" y="12179"/>
                </a:cubicBezTo>
                <a:cubicBezTo>
                  <a:pt x="14777" y="12187"/>
                  <a:pt x="14893" y="12169"/>
                  <a:pt x="15007" y="12154"/>
                </a:cubicBezTo>
                <a:cubicBezTo>
                  <a:pt x="15123" y="12139"/>
                  <a:pt x="15238" y="12098"/>
                  <a:pt x="15354" y="12080"/>
                </a:cubicBezTo>
                <a:cubicBezTo>
                  <a:pt x="15462" y="12063"/>
                  <a:pt x="15566" y="12058"/>
                  <a:pt x="15677" y="12055"/>
                </a:cubicBezTo>
                <a:cubicBezTo>
                  <a:pt x="15793" y="12051"/>
                  <a:pt x="15911" y="12060"/>
                  <a:pt x="16024" y="12080"/>
                </a:cubicBezTo>
                <a:cubicBezTo>
                  <a:pt x="16183" y="12108"/>
                  <a:pt x="16337" y="12127"/>
                  <a:pt x="16495" y="12154"/>
                </a:cubicBezTo>
                <a:cubicBezTo>
                  <a:pt x="16735" y="12195"/>
                  <a:pt x="16972" y="12263"/>
                  <a:pt x="17214" y="12278"/>
                </a:cubicBezTo>
                <a:cubicBezTo>
                  <a:pt x="17399" y="12289"/>
                  <a:pt x="17557" y="12251"/>
                  <a:pt x="17735" y="12229"/>
                </a:cubicBezTo>
                <a:cubicBezTo>
                  <a:pt x="17902" y="12208"/>
                  <a:pt x="18065" y="12143"/>
                  <a:pt x="18231" y="12129"/>
                </a:cubicBezTo>
                <a:cubicBezTo>
                  <a:pt x="18495" y="12108"/>
                  <a:pt x="18742" y="12161"/>
                  <a:pt x="19000" y="12179"/>
                </a:cubicBezTo>
                <a:cubicBezTo>
                  <a:pt x="19343" y="12203"/>
                  <a:pt x="19708" y="12197"/>
                  <a:pt x="20042" y="12129"/>
                </a:cubicBezTo>
                <a:cubicBezTo>
                  <a:pt x="20199" y="12097"/>
                  <a:pt x="20360" y="12063"/>
                  <a:pt x="20513" y="12030"/>
                </a:cubicBezTo>
                <a:cubicBezTo>
                  <a:pt x="20623" y="12006"/>
                  <a:pt x="20693" y="11985"/>
                  <a:pt x="20811" y="11981"/>
                </a:cubicBezTo>
                <a:cubicBezTo>
                  <a:pt x="20998" y="11975"/>
                  <a:pt x="21196" y="11993"/>
                  <a:pt x="21382" y="12005"/>
                </a:cubicBezTo>
                <a:cubicBezTo>
                  <a:pt x="21562" y="12016"/>
                  <a:pt x="21747" y="12038"/>
                  <a:pt x="21927" y="12055"/>
                </a:cubicBezTo>
                <a:cubicBezTo>
                  <a:pt x="22044" y="12066"/>
                  <a:pt x="22394" y="12153"/>
                  <a:pt x="22498" y="12055"/>
                </a:cubicBezTo>
                <a:cubicBezTo>
                  <a:pt x="22556" y="12000"/>
                  <a:pt x="22478" y="11949"/>
                  <a:pt x="22498" y="119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15120" y="4456080"/>
            <a:ext cx="142920" cy="465120"/>
          </a:xfrm>
          <a:custGeom>
            <a:avLst/>
            <a:gdLst/>
            <a:ahLst/>
            <a:rect l="l" t="t" r="r" b="b"/>
            <a:pathLst>
              <a:path w="398" h="1290">
                <a:moveTo>
                  <a:pt x="20414" y="12378"/>
                </a:moveTo>
                <a:cubicBezTo>
                  <a:pt x="20326" y="12466"/>
                  <a:pt x="20260" y="12547"/>
                  <a:pt x="20191" y="12650"/>
                </a:cubicBezTo>
                <a:cubicBezTo>
                  <a:pt x="20124" y="12750"/>
                  <a:pt x="20057" y="12850"/>
                  <a:pt x="20042" y="12973"/>
                </a:cubicBezTo>
                <a:cubicBezTo>
                  <a:pt x="20027" y="13092"/>
                  <a:pt x="20071" y="13272"/>
                  <a:pt x="20141" y="13370"/>
                </a:cubicBezTo>
                <a:cubicBezTo>
                  <a:pt x="20211" y="13468"/>
                  <a:pt x="20287" y="13574"/>
                  <a:pt x="20389" y="13643"/>
                </a:cubicBezTo>
                <a:cubicBezTo>
                  <a:pt x="20406" y="13651"/>
                  <a:pt x="20422" y="13659"/>
                  <a:pt x="20439" y="136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29680" y="4518000"/>
            <a:ext cx="179280" cy="36360"/>
          </a:xfrm>
          <a:custGeom>
            <a:avLst/>
            <a:gdLst/>
            <a:ahLst/>
            <a:rect l="l" t="t" r="r" b="b"/>
            <a:pathLst>
              <a:path w="497" h="100">
                <a:moveTo>
                  <a:pt x="20638" y="12576"/>
                </a:moveTo>
                <a:cubicBezTo>
                  <a:pt x="20782" y="12550"/>
                  <a:pt x="20824" y="12555"/>
                  <a:pt x="20960" y="12601"/>
                </a:cubicBezTo>
                <a:cubicBezTo>
                  <a:pt x="21023" y="12622"/>
                  <a:pt x="21073" y="12628"/>
                  <a:pt x="21134" y="126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412040" y="4545000"/>
            <a:ext cx="196920" cy="357120"/>
          </a:xfrm>
          <a:custGeom>
            <a:avLst/>
            <a:gdLst/>
            <a:ahLst/>
            <a:rect l="l" t="t" r="r" b="b"/>
            <a:pathLst>
              <a:path w="547" h="993">
                <a:moveTo>
                  <a:pt x="20662" y="12626"/>
                </a:moveTo>
                <a:cubicBezTo>
                  <a:pt x="20608" y="12711"/>
                  <a:pt x="20551" y="12756"/>
                  <a:pt x="20613" y="12849"/>
                </a:cubicBezTo>
                <a:cubicBezTo>
                  <a:pt x="20645" y="12897"/>
                  <a:pt x="20672" y="12921"/>
                  <a:pt x="20712" y="12948"/>
                </a:cubicBezTo>
                <a:cubicBezTo>
                  <a:pt x="20755" y="12977"/>
                  <a:pt x="20784" y="12973"/>
                  <a:pt x="20836" y="12973"/>
                </a:cubicBezTo>
                <a:cubicBezTo>
                  <a:pt x="20881" y="12973"/>
                  <a:pt x="20904" y="12948"/>
                  <a:pt x="20960" y="12948"/>
                </a:cubicBezTo>
                <a:cubicBezTo>
                  <a:pt x="21015" y="12948"/>
                  <a:pt x="21060" y="13033"/>
                  <a:pt x="21084" y="13072"/>
                </a:cubicBezTo>
                <a:cubicBezTo>
                  <a:pt x="21115" y="13124"/>
                  <a:pt x="21138" y="13287"/>
                  <a:pt x="21134" y="13345"/>
                </a:cubicBezTo>
                <a:cubicBezTo>
                  <a:pt x="21128" y="13427"/>
                  <a:pt x="21062" y="13511"/>
                  <a:pt x="21010" y="13568"/>
                </a:cubicBezTo>
                <a:cubicBezTo>
                  <a:pt x="20950" y="13633"/>
                  <a:pt x="20882" y="13625"/>
                  <a:pt x="20811" y="13593"/>
                </a:cubicBezTo>
                <a:cubicBezTo>
                  <a:pt x="20767" y="13573"/>
                  <a:pt x="20684" y="13543"/>
                  <a:pt x="20662" y="13494"/>
                </a:cubicBezTo>
                <a:cubicBezTo>
                  <a:pt x="20662" y="13486"/>
                  <a:pt x="20662" y="13477"/>
                  <a:pt x="20662" y="134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53240" y="4867200"/>
            <a:ext cx="27000" cy="125640"/>
          </a:xfrm>
          <a:custGeom>
            <a:avLst/>
            <a:gdLst/>
            <a:ahLst/>
            <a:rect l="l" t="t" r="r" b="b"/>
            <a:pathLst>
              <a:path w="75" h="348">
                <a:moveTo>
                  <a:pt x="21332" y="13519"/>
                </a:moveTo>
                <a:cubicBezTo>
                  <a:pt x="21311" y="13679"/>
                  <a:pt x="21321" y="13756"/>
                  <a:pt x="21258" y="138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50080" y="4518000"/>
            <a:ext cx="233280" cy="366840"/>
          </a:xfrm>
          <a:custGeom>
            <a:avLst/>
            <a:gdLst/>
            <a:ahLst/>
            <a:rect l="l" t="t" r="r" b="b"/>
            <a:pathLst>
              <a:path w="646" h="1018">
                <a:moveTo>
                  <a:pt x="21704" y="12700"/>
                </a:moveTo>
                <a:cubicBezTo>
                  <a:pt x="21657" y="12758"/>
                  <a:pt x="21576" y="12853"/>
                  <a:pt x="21555" y="12923"/>
                </a:cubicBezTo>
                <a:cubicBezTo>
                  <a:pt x="21526" y="13020"/>
                  <a:pt x="21526" y="13124"/>
                  <a:pt x="21555" y="13221"/>
                </a:cubicBezTo>
                <a:cubicBezTo>
                  <a:pt x="21579" y="13300"/>
                  <a:pt x="21641" y="13415"/>
                  <a:pt x="21704" y="13469"/>
                </a:cubicBezTo>
                <a:cubicBezTo>
                  <a:pt x="21760" y="13518"/>
                  <a:pt x="21873" y="13585"/>
                  <a:pt x="21952" y="13568"/>
                </a:cubicBezTo>
                <a:cubicBezTo>
                  <a:pt x="22048" y="13548"/>
                  <a:pt x="22094" y="13478"/>
                  <a:pt x="22126" y="13395"/>
                </a:cubicBezTo>
                <a:cubicBezTo>
                  <a:pt x="22177" y="13262"/>
                  <a:pt x="22181" y="13160"/>
                  <a:pt x="22151" y="13022"/>
                </a:cubicBezTo>
                <a:cubicBezTo>
                  <a:pt x="22116" y="12865"/>
                  <a:pt x="22034" y="12725"/>
                  <a:pt x="21903" y="12626"/>
                </a:cubicBezTo>
                <a:cubicBezTo>
                  <a:pt x="21811" y="12556"/>
                  <a:pt x="21686" y="12526"/>
                  <a:pt x="21580" y="12576"/>
                </a:cubicBezTo>
                <a:cubicBezTo>
                  <a:pt x="21506" y="12611"/>
                  <a:pt x="21531" y="12697"/>
                  <a:pt x="21555" y="12750"/>
                </a:cubicBezTo>
                <a:cubicBezTo>
                  <a:pt x="21563" y="12766"/>
                  <a:pt x="21572" y="12783"/>
                  <a:pt x="21580" y="127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91640" y="4438800"/>
            <a:ext cx="98280" cy="455400"/>
          </a:xfrm>
          <a:custGeom>
            <a:avLst/>
            <a:gdLst/>
            <a:ahLst/>
            <a:rect l="l" t="t" r="r" b="b"/>
            <a:pathLst>
              <a:path w="274" h="1266">
                <a:moveTo>
                  <a:pt x="22200" y="12328"/>
                </a:moveTo>
                <a:cubicBezTo>
                  <a:pt x="22356" y="12640"/>
                  <a:pt x="22561" y="12995"/>
                  <a:pt x="22473" y="13370"/>
                </a:cubicBezTo>
                <a:cubicBezTo>
                  <a:pt x="22443" y="13499"/>
                  <a:pt x="22328" y="13541"/>
                  <a:pt x="22225" y="135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96120" y="4983120"/>
            <a:ext cx="98280" cy="411120"/>
          </a:xfrm>
          <a:custGeom>
            <a:avLst/>
            <a:gdLst/>
            <a:ahLst/>
            <a:rect l="l" t="t" r="r" b="b"/>
            <a:pathLst>
              <a:path w="274" h="1142">
                <a:moveTo>
                  <a:pt x="20464" y="13841"/>
                </a:moveTo>
                <a:cubicBezTo>
                  <a:pt x="20406" y="13933"/>
                  <a:pt x="20369" y="13979"/>
                  <a:pt x="20340" y="14089"/>
                </a:cubicBezTo>
                <a:cubicBezTo>
                  <a:pt x="20295" y="14257"/>
                  <a:pt x="20245" y="14385"/>
                  <a:pt x="20290" y="14560"/>
                </a:cubicBezTo>
                <a:cubicBezTo>
                  <a:pt x="20321" y="14680"/>
                  <a:pt x="20359" y="14786"/>
                  <a:pt x="20439" y="14883"/>
                </a:cubicBezTo>
                <a:cubicBezTo>
                  <a:pt x="20489" y="14932"/>
                  <a:pt x="20506" y="14948"/>
                  <a:pt x="20538" y="149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29680" y="5153040"/>
            <a:ext cx="160200" cy="27000"/>
          </a:xfrm>
          <a:custGeom>
            <a:avLst/>
            <a:gdLst/>
            <a:ahLst/>
            <a:rect l="l" t="t" r="r" b="b"/>
            <a:pathLst>
              <a:path w="447" h="76">
                <a:moveTo>
                  <a:pt x="20638" y="14312"/>
                </a:moveTo>
                <a:cubicBezTo>
                  <a:pt x="20743" y="14353"/>
                  <a:pt x="20843" y="14407"/>
                  <a:pt x="20960" y="14387"/>
                </a:cubicBezTo>
                <a:cubicBezTo>
                  <a:pt x="21044" y="14366"/>
                  <a:pt x="21070" y="14371"/>
                  <a:pt x="21084" y="143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99240" y="5045040"/>
            <a:ext cx="135000" cy="9720"/>
          </a:xfrm>
          <a:custGeom>
            <a:avLst/>
            <a:gdLst/>
            <a:ahLst/>
            <a:rect l="l" t="t" r="r" b="b"/>
            <a:pathLst>
              <a:path w="373" h="25">
                <a:moveTo>
                  <a:pt x="21109" y="14015"/>
                </a:moveTo>
                <a:cubicBezTo>
                  <a:pt x="21203" y="14015"/>
                  <a:pt x="21349" y="14048"/>
                  <a:pt x="21431" y="14039"/>
                </a:cubicBezTo>
                <a:cubicBezTo>
                  <a:pt x="21448" y="14031"/>
                  <a:pt x="21464" y="14023"/>
                  <a:pt x="21481" y="140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81960" y="5027760"/>
            <a:ext cx="152280" cy="366480"/>
          </a:xfrm>
          <a:custGeom>
            <a:avLst/>
            <a:gdLst/>
            <a:ahLst/>
            <a:rect l="l" t="t" r="r" b="b"/>
            <a:pathLst>
              <a:path w="423" h="1018">
                <a:moveTo>
                  <a:pt x="21158" y="13965"/>
                </a:moveTo>
                <a:cubicBezTo>
                  <a:pt x="21085" y="14038"/>
                  <a:pt x="21065" y="14078"/>
                  <a:pt x="21059" y="14188"/>
                </a:cubicBezTo>
                <a:cubicBezTo>
                  <a:pt x="21056" y="14248"/>
                  <a:pt x="21095" y="14292"/>
                  <a:pt x="21134" y="14337"/>
                </a:cubicBezTo>
                <a:cubicBezTo>
                  <a:pt x="21155" y="14361"/>
                  <a:pt x="21225" y="14381"/>
                  <a:pt x="21258" y="14362"/>
                </a:cubicBezTo>
                <a:cubicBezTo>
                  <a:pt x="21279" y="14350"/>
                  <a:pt x="21357" y="14301"/>
                  <a:pt x="21382" y="14312"/>
                </a:cubicBezTo>
                <a:cubicBezTo>
                  <a:pt x="21444" y="14340"/>
                  <a:pt x="21435" y="14352"/>
                  <a:pt x="21456" y="14412"/>
                </a:cubicBezTo>
                <a:cubicBezTo>
                  <a:pt x="21487" y="14498"/>
                  <a:pt x="21497" y="14615"/>
                  <a:pt x="21481" y="14709"/>
                </a:cubicBezTo>
                <a:cubicBezTo>
                  <a:pt x="21470" y="14776"/>
                  <a:pt x="21467" y="14888"/>
                  <a:pt x="21406" y="14932"/>
                </a:cubicBezTo>
                <a:cubicBezTo>
                  <a:pt x="21349" y="14973"/>
                  <a:pt x="21326" y="14982"/>
                  <a:pt x="21258" y="14982"/>
                </a:cubicBezTo>
                <a:cubicBezTo>
                  <a:pt x="21227" y="14982"/>
                  <a:pt x="21145" y="14896"/>
                  <a:pt x="21134" y="14858"/>
                </a:cubicBezTo>
                <a:cubicBezTo>
                  <a:pt x="21134" y="14841"/>
                  <a:pt x="21134" y="14825"/>
                  <a:pt x="21134" y="148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69160" y="5392800"/>
            <a:ext cx="27000" cy="135000"/>
          </a:xfrm>
          <a:custGeom>
            <a:avLst/>
            <a:gdLst/>
            <a:ahLst/>
            <a:rect l="l" t="t" r="r" b="b"/>
            <a:pathLst>
              <a:path w="75" h="373">
                <a:moveTo>
                  <a:pt x="21654" y="14982"/>
                </a:moveTo>
                <a:cubicBezTo>
                  <a:pt x="21624" y="15089"/>
                  <a:pt x="21590" y="15194"/>
                  <a:pt x="21580" y="15304"/>
                </a:cubicBezTo>
                <a:cubicBezTo>
                  <a:pt x="21580" y="15329"/>
                  <a:pt x="21580" y="15337"/>
                  <a:pt x="21580" y="153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75720" y="5089680"/>
            <a:ext cx="161640" cy="339480"/>
          </a:xfrm>
          <a:custGeom>
            <a:avLst/>
            <a:gdLst/>
            <a:ahLst/>
            <a:rect l="l" t="t" r="r" b="b"/>
            <a:pathLst>
              <a:path w="447" h="943">
                <a:moveTo>
                  <a:pt x="22027" y="14312"/>
                </a:moveTo>
                <a:cubicBezTo>
                  <a:pt x="22011" y="14375"/>
                  <a:pt x="21952" y="14416"/>
                  <a:pt x="21927" y="14486"/>
                </a:cubicBezTo>
                <a:cubicBezTo>
                  <a:pt x="21868" y="14649"/>
                  <a:pt x="21885" y="14755"/>
                  <a:pt x="21952" y="14908"/>
                </a:cubicBezTo>
                <a:cubicBezTo>
                  <a:pt x="21973" y="14956"/>
                  <a:pt x="22049" y="15064"/>
                  <a:pt x="22101" y="15081"/>
                </a:cubicBezTo>
                <a:cubicBezTo>
                  <a:pt x="22188" y="15110"/>
                  <a:pt x="22248" y="14992"/>
                  <a:pt x="22275" y="14932"/>
                </a:cubicBezTo>
                <a:cubicBezTo>
                  <a:pt x="22327" y="14818"/>
                  <a:pt x="22341" y="14660"/>
                  <a:pt x="22324" y="14536"/>
                </a:cubicBezTo>
                <a:cubicBezTo>
                  <a:pt x="22306" y="14407"/>
                  <a:pt x="22218" y="14316"/>
                  <a:pt x="22151" y="14213"/>
                </a:cubicBezTo>
                <a:cubicBezTo>
                  <a:pt x="22122" y="14168"/>
                  <a:pt x="22068" y="14129"/>
                  <a:pt x="22051" y="141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82000" y="5000760"/>
            <a:ext cx="98280" cy="482400"/>
          </a:xfrm>
          <a:custGeom>
            <a:avLst/>
            <a:gdLst/>
            <a:ahLst/>
            <a:rect l="l" t="t" r="r" b="b"/>
            <a:pathLst>
              <a:path w="274" h="1340">
                <a:moveTo>
                  <a:pt x="22448" y="13891"/>
                </a:moveTo>
                <a:cubicBezTo>
                  <a:pt x="22597" y="13957"/>
                  <a:pt x="22594" y="14028"/>
                  <a:pt x="22647" y="14188"/>
                </a:cubicBezTo>
                <a:cubicBezTo>
                  <a:pt x="22730" y="14438"/>
                  <a:pt x="22748" y="14694"/>
                  <a:pt x="22721" y="14957"/>
                </a:cubicBezTo>
                <a:cubicBezTo>
                  <a:pt x="22707" y="15098"/>
                  <a:pt x="22654" y="15152"/>
                  <a:pt x="22547" y="152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Y= ½ x</a:t>
            </a:r>
            <a:r>
              <a:rPr b="1" lang="en-US" sz="4400" spc="-1" strike="noStrike" baseline="30000">
                <a:solidFill>
                  <a:srgbClr val="dddddd"/>
                </a:solidFill>
                <a:latin typeface="Garamond"/>
              </a:rPr>
              <a:t>2</a:t>
            </a: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 - 4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38" name="handygraph1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936960" cy="4038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7000" y="4653000"/>
            <a:ext cx="88920" cy="71280"/>
          </a:xfrm>
          <a:custGeom>
            <a:avLst/>
            <a:gdLst/>
            <a:ahLst/>
            <a:rect l="l" t="t" r="r" b="b"/>
            <a:pathLst>
              <a:path w="249" h="200">
                <a:moveTo>
                  <a:pt x="6648" y="13022"/>
                </a:moveTo>
                <a:cubicBezTo>
                  <a:pt x="6640" y="13022"/>
                  <a:pt x="6631" y="13022"/>
                  <a:pt x="6623" y="13022"/>
                </a:cubicBezTo>
                <a:cubicBezTo>
                  <a:pt x="6625" y="13029"/>
                  <a:pt x="6658" y="13091"/>
                  <a:pt x="6672" y="13072"/>
                </a:cubicBezTo>
                <a:cubicBezTo>
                  <a:pt x="6682" y="13058"/>
                  <a:pt x="6718" y="13030"/>
                  <a:pt x="6722" y="13022"/>
                </a:cubicBezTo>
                <a:cubicBezTo>
                  <a:pt x="6733" y="13001"/>
                  <a:pt x="6707" y="12929"/>
                  <a:pt x="6697" y="12923"/>
                </a:cubicBezTo>
                <a:cubicBezTo>
                  <a:pt x="6658" y="12897"/>
                  <a:pt x="6628" y="12945"/>
                  <a:pt x="6623" y="12948"/>
                </a:cubicBezTo>
                <a:cubicBezTo>
                  <a:pt x="6591" y="12964"/>
                  <a:pt x="6598" y="12952"/>
                  <a:pt x="6598" y="12998"/>
                </a:cubicBezTo>
                <a:cubicBezTo>
                  <a:pt x="6635" y="13010"/>
                  <a:pt x="6620" y="13022"/>
                  <a:pt x="6672" y="13022"/>
                </a:cubicBezTo>
                <a:cubicBezTo>
                  <a:pt x="6715" y="13022"/>
                  <a:pt x="6713" y="13007"/>
                  <a:pt x="6722" y="12973"/>
                </a:cubicBezTo>
                <a:cubicBezTo>
                  <a:pt x="6715" y="12951"/>
                  <a:pt x="6683" y="12928"/>
                  <a:pt x="6648" y="12948"/>
                </a:cubicBezTo>
                <a:cubicBezTo>
                  <a:pt x="6609" y="12970"/>
                  <a:pt x="6584" y="12979"/>
                  <a:pt x="6573" y="13022"/>
                </a:cubicBezTo>
                <a:cubicBezTo>
                  <a:pt x="6586" y="13075"/>
                  <a:pt x="6610" y="13063"/>
                  <a:pt x="6648" y="13097"/>
                </a:cubicBezTo>
                <a:cubicBezTo>
                  <a:pt x="6683" y="13129"/>
                  <a:pt x="6701" y="13122"/>
                  <a:pt x="6747" y="13122"/>
                </a:cubicBezTo>
                <a:cubicBezTo>
                  <a:pt x="6790" y="13122"/>
                  <a:pt x="6806" y="13116"/>
                  <a:pt x="6821" y="13072"/>
                </a:cubicBezTo>
                <a:cubicBezTo>
                  <a:pt x="6838" y="13020"/>
                  <a:pt x="6777" y="13022"/>
                  <a:pt x="6747" y="13022"/>
                </a:cubicBezTo>
                <a:cubicBezTo>
                  <a:pt x="6739" y="13022"/>
                  <a:pt x="6730" y="13022"/>
                  <a:pt x="6722" y="130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05040" y="447372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7516" y="12477"/>
                </a:moveTo>
                <a:cubicBezTo>
                  <a:pt x="7516" y="12502"/>
                  <a:pt x="7516" y="12510"/>
                  <a:pt x="7516" y="12526"/>
                </a:cubicBezTo>
              </a:path>
              <a:path w="150" h="150">
                <a:moveTo>
                  <a:pt x="7516" y="12477"/>
                </a:moveTo>
                <a:cubicBezTo>
                  <a:pt x="7532" y="12502"/>
                  <a:pt x="7549" y="12526"/>
                  <a:pt x="7565" y="12551"/>
                </a:cubicBezTo>
              </a:path>
              <a:path w="150" h="150">
                <a:moveTo>
                  <a:pt x="7565" y="12551"/>
                </a:moveTo>
                <a:cubicBezTo>
                  <a:pt x="7593" y="12572"/>
                  <a:pt x="7642" y="12586"/>
                  <a:pt x="7665" y="12551"/>
                </a:cubicBezTo>
                <a:cubicBezTo>
                  <a:pt x="7665" y="12518"/>
                  <a:pt x="7665" y="12502"/>
                  <a:pt x="7665" y="12477"/>
                </a:cubicBezTo>
                <a:cubicBezTo>
                  <a:pt x="7638" y="12477"/>
                  <a:pt x="7577" y="12484"/>
                  <a:pt x="7565" y="12502"/>
                </a:cubicBezTo>
                <a:cubicBezTo>
                  <a:pt x="7565" y="12510"/>
                  <a:pt x="7565" y="12518"/>
                  <a:pt x="7565" y="12526"/>
                </a:cubicBezTo>
                <a:cubicBezTo>
                  <a:pt x="7575" y="12556"/>
                  <a:pt x="7609" y="12571"/>
                  <a:pt x="7615" y="12526"/>
                </a:cubicBezTo>
                <a:cubicBezTo>
                  <a:pt x="7620" y="12488"/>
                  <a:pt x="7627" y="12457"/>
                  <a:pt x="7590" y="12452"/>
                </a:cubicBezTo>
                <a:cubicBezTo>
                  <a:pt x="7562" y="12452"/>
                  <a:pt x="7551" y="12450"/>
                  <a:pt x="7541" y="124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35080" y="4483080"/>
            <a:ext cx="54000" cy="44640"/>
          </a:xfrm>
          <a:custGeom>
            <a:avLst/>
            <a:gdLst/>
            <a:ahLst/>
            <a:rect l="l" t="t" r="r" b="b"/>
            <a:pathLst>
              <a:path w="150" h="125">
                <a:moveTo>
                  <a:pt x="5705" y="12551"/>
                </a:moveTo>
                <a:cubicBezTo>
                  <a:pt x="5740" y="12577"/>
                  <a:pt x="5736" y="12576"/>
                  <a:pt x="5779" y="12576"/>
                </a:cubicBezTo>
                <a:cubicBezTo>
                  <a:pt x="5811" y="12534"/>
                  <a:pt x="5816" y="12519"/>
                  <a:pt x="5779" y="12477"/>
                </a:cubicBezTo>
                <a:cubicBezTo>
                  <a:pt x="5771" y="12469"/>
                  <a:pt x="5763" y="12460"/>
                  <a:pt x="5755" y="12452"/>
                </a:cubicBezTo>
                <a:cubicBezTo>
                  <a:pt x="5752" y="12460"/>
                  <a:pt x="5713" y="12521"/>
                  <a:pt x="5705" y="12526"/>
                </a:cubicBezTo>
                <a:cubicBezTo>
                  <a:pt x="5675" y="12545"/>
                  <a:pt x="5680" y="12527"/>
                  <a:pt x="5680" y="12576"/>
                </a:cubicBezTo>
                <a:cubicBezTo>
                  <a:pt x="5717" y="12576"/>
                  <a:pt x="5784" y="12592"/>
                  <a:pt x="5804" y="12551"/>
                </a:cubicBezTo>
                <a:cubicBezTo>
                  <a:pt x="5819" y="12521"/>
                  <a:pt x="5771" y="12479"/>
                  <a:pt x="5755" y="12477"/>
                </a:cubicBezTo>
                <a:cubicBezTo>
                  <a:pt x="5703" y="12470"/>
                  <a:pt x="5699" y="12492"/>
                  <a:pt x="5680" y="12502"/>
                </a:cubicBezTo>
                <a:cubicBezTo>
                  <a:pt x="5672" y="12502"/>
                  <a:pt x="5663" y="12502"/>
                  <a:pt x="5655" y="125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04960" y="4000680"/>
            <a:ext cx="63360" cy="53640"/>
          </a:xfrm>
          <a:custGeom>
            <a:avLst/>
            <a:gdLst/>
            <a:ahLst/>
            <a:rect l="l" t="t" r="r" b="b"/>
            <a:pathLst>
              <a:path w="174" h="150">
                <a:moveTo>
                  <a:pt x="4887" y="11212"/>
                </a:moveTo>
                <a:cubicBezTo>
                  <a:pt x="4887" y="11179"/>
                  <a:pt x="4887" y="11145"/>
                  <a:pt x="4887" y="11112"/>
                </a:cubicBezTo>
                <a:cubicBezTo>
                  <a:pt x="4827" y="11127"/>
                  <a:pt x="4859" y="11163"/>
                  <a:pt x="4812" y="11187"/>
                </a:cubicBezTo>
                <a:cubicBezTo>
                  <a:pt x="4777" y="11204"/>
                  <a:pt x="4787" y="11213"/>
                  <a:pt x="4787" y="11261"/>
                </a:cubicBezTo>
                <a:cubicBezTo>
                  <a:pt x="4841" y="11261"/>
                  <a:pt x="4864" y="11268"/>
                  <a:pt x="4887" y="11237"/>
                </a:cubicBezTo>
                <a:cubicBezTo>
                  <a:pt x="4909" y="11214"/>
                  <a:pt x="4917" y="11209"/>
                  <a:pt x="4911" y="11187"/>
                </a:cubicBezTo>
                <a:cubicBezTo>
                  <a:pt x="4874" y="11158"/>
                  <a:pt x="4860" y="11162"/>
                  <a:pt x="4812" y="11162"/>
                </a:cubicBezTo>
                <a:cubicBezTo>
                  <a:pt x="4772" y="11162"/>
                  <a:pt x="4746" y="11186"/>
                  <a:pt x="4738" y="112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21000" y="2054160"/>
            <a:ext cx="73080" cy="44640"/>
          </a:xfrm>
          <a:custGeom>
            <a:avLst/>
            <a:gdLst/>
            <a:ahLst/>
            <a:rect l="l" t="t" r="r" b="b"/>
            <a:pathLst>
              <a:path w="200" h="125">
                <a:moveTo>
                  <a:pt x="9277" y="5705"/>
                </a:moveTo>
                <a:cubicBezTo>
                  <a:pt x="9240" y="5790"/>
                  <a:pt x="9259" y="5750"/>
                  <a:pt x="9277" y="5804"/>
                </a:cubicBezTo>
              </a:path>
              <a:path w="200" h="125">
                <a:moveTo>
                  <a:pt x="9302" y="5829"/>
                </a:moveTo>
                <a:cubicBezTo>
                  <a:pt x="9337" y="5824"/>
                  <a:pt x="9406" y="5817"/>
                  <a:pt x="9426" y="5779"/>
                </a:cubicBezTo>
                <a:cubicBezTo>
                  <a:pt x="9426" y="5755"/>
                  <a:pt x="9426" y="5746"/>
                  <a:pt x="9426" y="5730"/>
                </a:cubicBezTo>
                <a:cubicBezTo>
                  <a:pt x="9362" y="5730"/>
                  <a:pt x="9323" y="5739"/>
                  <a:pt x="9327" y="5730"/>
                </a:cubicBezTo>
                <a:cubicBezTo>
                  <a:pt x="9327" y="5722"/>
                  <a:pt x="9327" y="5713"/>
                  <a:pt x="9327" y="5705"/>
                </a:cubicBezTo>
                <a:cubicBezTo>
                  <a:pt x="9319" y="5728"/>
                  <a:pt x="9284" y="5744"/>
                  <a:pt x="9252" y="5755"/>
                </a:cubicBezTo>
                <a:cubicBezTo>
                  <a:pt x="9244" y="5755"/>
                  <a:pt x="9235" y="5755"/>
                  <a:pt x="9227" y="57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01840" y="2062080"/>
            <a:ext cx="44280" cy="63720"/>
          </a:xfrm>
          <a:custGeom>
            <a:avLst/>
            <a:gdLst/>
            <a:ahLst/>
            <a:rect l="l" t="t" r="r" b="b"/>
            <a:pathLst>
              <a:path w="125" h="175">
                <a:moveTo>
                  <a:pt x="3969" y="5904"/>
                </a:moveTo>
                <a:cubicBezTo>
                  <a:pt x="4012" y="5872"/>
                  <a:pt x="4018" y="5885"/>
                  <a:pt x="4018" y="5829"/>
                </a:cubicBezTo>
                <a:cubicBezTo>
                  <a:pt x="4018" y="5770"/>
                  <a:pt x="3991" y="5774"/>
                  <a:pt x="3969" y="5730"/>
                </a:cubicBezTo>
                <a:cubicBezTo>
                  <a:pt x="3925" y="5763"/>
                  <a:pt x="3927" y="5760"/>
                  <a:pt x="3894" y="5804"/>
                </a:cubicBezTo>
                <a:cubicBezTo>
                  <a:pt x="3905" y="5836"/>
                  <a:pt x="3928" y="5844"/>
                  <a:pt x="3969" y="58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00240" y="4000680"/>
            <a:ext cx="71640" cy="44280"/>
          </a:xfrm>
          <a:custGeom>
            <a:avLst/>
            <a:gdLst/>
            <a:ahLst/>
            <a:rect l="l" t="t" r="r" b="b"/>
            <a:pathLst>
              <a:path w="200" h="126">
                <a:moveTo>
                  <a:pt x="8384" y="11162"/>
                </a:moveTo>
                <a:cubicBezTo>
                  <a:pt x="8359" y="11187"/>
                  <a:pt x="8351" y="11195"/>
                  <a:pt x="8334" y="11212"/>
                </a:cubicBezTo>
                <a:cubicBezTo>
                  <a:pt x="8378" y="11245"/>
                  <a:pt x="8405" y="11248"/>
                  <a:pt x="8458" y="11212"/>
                </a:cubicBezTo>
                <a:cubicBezTo>
                  <a:pt x="8473" y="11202"/>
                  <a:pt x="8505" y="11130"/>
                  <a:pt x="8483" y="11112"/>
                </a:cubicBezTo>
                <a:cubicBezTo>
                  <a:pt x="8472" y="11103"/>
                  <a:pt x="8426" y="11149"/>
                  <a:pt x="8409" y="11162"/>
                </a:cubicBezTo>
                <a:cubicBezTo>
                  <a:pt x="8447" y="11175"/>
                  <a:pt x="8429" y="11187"/>
                  <a:pt x="8483" y="11187"/>
                </a:cubicBezTo>
                <a:cubicBezTo>
                  <a:pt x="8536" y="11187"/>
                  <a:pt x="8533" y="11154"/>
                  <a:pt x="8533" y="11112"/>
                </a:cubicBezTo>
                <a:cubicBezTo>
                  <a:pt x="8483" y="11112"/>
                  <a:pt x="8474" y="11123"/>
                  <a:pt x="8434" y="11137"/>
                </a:cubicBezTo>
                <a:cubicBezTo>
                  <a:pt x="8409" y="11137"/>
                  <a:pt x="8401" y="11137"/>
                  <a:pt x="8384" y="111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57200" y="1874880"/>
            <a:ext cx="420840" cy="2073240"/>
          </a:xfrm>
          <a:custGeom>
            <a:avLst/>
            <a:gdLst/>
            <a:ahLst/>
            <a:rect l="l" t="t" r="r" b="b"/>
            <a:pathLst>
              <a:path w="1167" h="5756">
                <a:moveTo>
                  <a:pt x="3770" y="5209"/>
                </a:moveTo>
                <a:cubicBezTo>
                  <a:pt x="3773" y="5260"/>
                  <a:pt x="3792" y="5320"/>
                  <a:pt x="3795" y="5358"/>
                </a:cubicBezTo>
                <a:cubicBezTo>
                  <a:pt x="3801" y="5431"/>
                  <a:pt x="3807" y="5494"/>
                  <a:pt x="3820" y="5556"/>
                </a:cubicBezTo>
                <a:cubicBezTo>
                  <a:pt x="3832" y="5610"/>
                  <a:pt x="3833" y="5656"/>
                  <a:pt x="3845" y="5705"/>
                </a:cubicBezTo>
                <a:cubicBezTo>
                  <a:pt x="3856" y="5749"/>
                  <a:pt x="3860" y="5788"/>
                  <a:pt x="3870" y="5829"/>
                </a:cubicBezTo>
                <a:cubicBezTo>
                  <a:pt x="3877" y="5857"/>
                  <a:pt x="3882" y="5901"/>
                  <a:pt x="3894" y="5928"/>
                </a:cubicBezTo>
                <a:cubicBezTo>
                  <a:pt x="3896" y="5933"/>
                  <a:pt x="3930" y="5981"/>
                  <a:pt x="3944" y="6003"/>
                </a:cubicBezTo>
                <a:cubicBezTo>
                  <a:pt x="3961" y="6031"/>
                  <a:pt x="3951" y="6043"/>
                  <a:pt x="3969" y="6077"/>
                </a:cubicBezTo>
                <a:cubicBezTo>
                  <a:pt x="3980" y="6097"/>
                  <a:pt x="4007" y="6123"/>
                  <a:pt x="4018" y="6152"/>
                </a:cubicBezTo>
                <a:cubicBezTo>
                  <a:pt x="4032" y="6186"/>
                  <a:pt x="4032" y="6214"/>
                  <a:pt x="4043" y="6251"/>
                </a:cubicBezTo>
                <a:cubicBezTo>
                  <a:pt x="4060" y="6312"/>
                  <a:pt x="4055" y="6362"/>
                  <a:pt x="4068" y="6424"/>
                </a:cubicBezTo>
                <a:cubicBezTo>
                  <a:pt x="4077" y="6466"/>
                  <a:pt x="4084" y="6501"/>
                  <a:pt x="4093" y="6548"/>
                </a:cubicBezTo>
                <a:cubicBezTo>
                  <a:pt x="4105" y="6610"/>
                  <a:pt x="4128" y="6657"/>
                  <a:pt x="4142" y="6722"/>
                </a:cubicBezTo>
                <a:cubicBezTo>
                  <a:pt x="4155" y="6782"/>
                  <a:pt x="4176" y="6837"/>
                  <a:pt x="4192" y="6896"/>
                </a:cubicBezTo>
                <a:cubicBezTo>
                  <a:pt x="4214" y="6979"/>
                  <a:pt x="4243" y="7061"/>
                  <a:pt x="4266" y="7144"/>
                </a:cubicBezTo>
                <a:cubicBezTo>
                  <a:pt x="4285" y="7214"/>
                  <a:pt x="4296" y="7297"/>
                  <a:pt x="4316" y="7367"/>
                </a:cubicBezTo>
                <a:cubicBezTo>
                  <a:pt x="4347" y="7476"/>
                  <a:pt x="4390" y="7582"/>
                  <a:pt x="4415" y="7689"/>
                </a:cubicBezTo>
                <a:cubicBezTo>
                  <a:pt x="4432" y="7761"/>
                  <a:pt x="4450" y="7841"/>
                  <a:pt x="4465" y="7913"/>
                </a:cubicBezTo>
                <a:cubicBezTo>
                  <a:pt x="4481" y="7987"/>
                  <a:pt x="4507" y="8084"/>
                  <a:pt x="4514" y="8161"/>
                </a:cubicBezTo>
                <a:cubicBezTo>
                  <a:pt x="4522" y="8247"/>
                  <a:pt x="4522" y="8326"/>
                  <a:pt x="4539" y="8409"/>
                </a:cubicBezTo>
                <a:cubicBezTo>
                  <a:pt x="4552" y="8471"/>
                  <a:pt x="4583" y="8546"/>
                  <a:pt x="4589" y="8607"/>
                </a:cubicBezTo>
                <a:cubicBezTo>
                  <a:pt x="4596" y="8681"/>
                  <a:pt x="4602" y="8736"/>
                  <a:pt x="4614" y="8806"/>
                </a:cubicBezTo>
                <a:cubicBezTo>
                  <a:pt x="4634" y="8918"/>
                  <a:pt x="4656" y="9040"/>
                  <a:pt x="4663" y="9153"/>
                </a:cubicBezTo>
                <a:cubicBezTo>
                  <a:pt x="4666" y="9211"/>
                  <a:pt x="4684" y="9283"/>
                  <a:pt x="4688" y="9327"/>
                </a:cubicBezTo>
                <a:cubicBezTo>
                  <a:pt x="4694" y="9394"/>
                  <a:pt x="4710" y="9497"/>
                  <a:pt x="4713" y="9550"/>
                </a:cubicBezTo>
                <a:cubicBezTo>
                  <a:pt x="4720" y="9654"/>
                  <a:pt x="4722" y="9746"/>
                  <a:pt x="4738" y="9847"/>
                </a:cubicBezTo>
                <a:cubicBezTo>
                  <a:pt x="4746" y="9899"/>
                  <a:pt x="4754" y="9945"/>
                  <a:pt x="4762" y="9996"/>
                </a:cubicBezTo>
                <a:cubicBezTo>
                  <a:pt x="4772" y="10054"/>
                  <a:pt x="4777" y="10112"/>
                  <a:pt x="4787" y="10170"/>
                </a:cubicBezTo>
                <a:cubicBezTo>
                  <a:pt x="4798" y="10229"/>
                  <a:pt x="4802" y="10287"/>
                  <a:pt x="4812" y="10344"/>
                </a:cubicBezTo>
                <a:cubicBezTo>
                  <a:pt x="4826" y="10424"/>
                  <a:pt x="4822" y="10512"/>
                  <a:pt x="4837" y="10592"/>
                </a:cubicBezTo>
                <a:cubicBezTo>
                  <a:pt x="4846" y="10640"/>
                  <a:pt x="4853" y="10674"/>
                  <a:pt x="4862" y="10716"/>
                </a:cubicBezTo>
                <a:cubicBezTo>
                  <a:pt x="4872" y="10762"/>
                  <a:pt x="4877" y="10798"/>
                  <a:pt x="4887" y="10840"/>
                </a:cubicBezTo>
                <a:cubicBezTo>
                  <a:pt x="4894" y="10870"/>
                  <a:pt x="4898" y="10875"/>
                  <a:pt x="4911" y="10914"/>
                </a:cubicBezTo>
                <a:cubicBezTo>
                  <a:pt x="4919" y="10938"/>
                  <a:pt x="4928" y="10940"/>
                  <a:pt x="4936" y="109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55800" y="1776240"/>
            <a:ext cx="3089160" cy="2965680"/>
          </a:xfrm>
          <a:custGeom>
            <a:avLst/>
            <a:gdLst/>
            <a:ahLst/>
            <a:rect l="l" t="t" r="r" b="b"/>
            <a:pathLst>
              <a:path w="8584" h="8236">
                <a:moveTo>
                  <a:pt x="4887" y="10765"/>
                </a:moveTo>
                <a:cubicBezTo>
                  <a:pt x="4895" y="10906"/>
                  <a:pt x="4909" y="11018"/>
                  <a:pt x="4936" y="11137"/>
                </a:cubicBezTo>
                <a:cubicBezTo>
                  <a:pt x="4949" y="11196"/>
                  <a:pt x="4970" y="11252"/>
                  <a:pt x="4986" y="11311"/>
                </a:cubicBezTo>
                <a:cubicBezTo>
                  <a:pt x="4997" y="11349"/>
                  <a:pt x="4998" y="11395"/>
                  <a:pt x="5011" y="11435"/>
                </a:cubicBezTo>
                <a:cubicBezTo>
                  <a:pt x="5022" y="11469"/>
                  <a:pt x="5051" y="11502"/>
                  <a:pt x="5060" y="11534"/>
                </a:cubicBezTo>
                <a:cubicBezTo>
                  <a:pt x="5073" y="11578"/>
                  <a:pt x="5073" y="11617"/>
                  <a:pt x="5085" y="11658"/>
                </a:cubicBezTo>
                <a:cubicBezTo>
                  <a:pt x="5102" y="11718"/>
                  <a:pt x="5123" y="11795"/>
                  <a:pt x="5135" y="11857"/>
                </a:cubicBezTo>
                <a:cubicBezTo>
                  <a:pt x="5152" y="11944"/>
                  <a:pt x="5155" y="12004"/>
                  <a:pt x="5184" y="12080"/>
                </a:cubicBezTo>
                <a:cubicBezTo>
                  <a:pt x="5212" y="12154"/>
                  <a:pt x="5252" y="12211"/>
                  <a:pt x="5283" y="12278"/>
                </a:cubicBezTo>
                <a:cubicBezTo>
                  <a:pt x="5297" y="12308"/>
                  <a:pt x="5289" y="12350"/>
                  <a:pt x="5308" y="12378"/>
                </a:cubicBezTo>
                <a:cubicBezTo>
                  <a:pt x="5331" y="12412"/>
                  <a:pt x="5340" y="12432"/>
                  <a:pt x="5358" y="12452"/>
                </a:cubicBezTo>
                <a:cubicBezTo>
                  <a:pt x="5378" y="12474"/>
                  <a:pt x="5423" y="12521"/>
                  <a:pt x="5432" y="12526"/>
                </a:cubicBezTo>
                <a:cubicBezTo>
                  <a:pt x="5458" y="12542"/>
                  <a:pt x="5506" y="12537"/>
                  <a:pt x="5531" y="12551"/>
                </a:cubicBezTo>
                <a:cubicBezTo>
                  <a:pt x="5558" y="12566"/>
                  <a:pt x="5606" y="12561"/>
                  <a:pt x="5631" y="12576"/>
                </a:cubicBezTo>
                <a:cubicBezTo>
                  <a:pt x="5669" y="12598"/>
                  <a:pt x="5692" y="12623"/>
                  <a:pt x="5730" y="12650"/>
                </a:cubicBezTo>
                <a:cubicBezTo>
                  <a:pt x="5767" y="12677"/>
                  <a:pt x="5812" y="12717"/>
                  <a:pt x="5854" y="12750"/>
                </a:cubicBezTo>
                <a:cubicBezTo>
                  <a:pt x="5891" y="12779"/>
                  <a:pt x="5920" y="12797"/>
                  <a:pt x="5953" y="12824"/>
                </a:cubicBezTo>
                <a:cubicBezTo>
                  <a:pt x="6036" y="12892"/>
                  <a:pt x="6110" y="12967"/>
                  <a:pt x="6201" y="13022"/>
                </a:cubicBezTo>
                <a:cubicBezTo>
                  <a:pt x="6237" y="13044"/>
                  <a:pt x="6285" y="13082"/>
                  <a:pt x="6325" y="13097"/>
                </a:cubicBezTo>
                <a:cubicBezTo>
                  <a:pt x="6386" y="13120"/>
                  <a:pt x="6433" y="13129"/>
                  <a:pt x="6499" y="13146"/>
                </a:cubicBezTo>
                <a:cubicBezTo>
                  <a:pt x="6555" y="13160"/>
                  <a:pt x="6586" y="13169"/>
                  <a:pt x="6648" y="13171"/>
                </a:cubicBezTo>
                <a:cubicBezTo>
                  <a:pt x="6725" y="13173"/>
                  <a:pt x="6777" y="13157"/>
                  <a:pt x="6846" y="13146"/>
                </a:cubicBezTo>
                <a:cubicBezTo>
                  <a:pt x="6904" y="13137"/>
                  <a:pt x="6965" y="13140"/>
                  <a:pt x="7020" y="13122"/>
                </a:cubicBezTo>
                <a:cubicBezTo>
                  <a:pt x="7067" y="13107"/>
                  <a:pt x="7124" y="13063"/>
                  <a:pt x="7169" y="13047"/>
                </a:cubicBezTo>
                <a:cubicBezTo>
                  <a:pt x="7236" y="13023"/>
                  <a:pt x="7305" y="13012"/>
                  <a:pt x="7367" y="12973"/>
                </a:cubicBezTo>
                <a:cubicBezTo>
                  <a:pt x="7472" y="12907"/>
                  <a:pt x="7505" y="12832"/>
                  <a:pt x="7565" y="12750"/>
                </a:cubicBezTo>
                <a:cubicBezTo>
                  <a:pt x="7609" y="12690"/>
                  <a:pt x="7629" y="12639"/>
                  <a:pt x="7665" y="12576"/>
                </a:cubicBezTo>
                <a:cubicBezTo>
                  <a:pt x="7699" y="12517"/>
                  <a:pt x="7732" y="12461"/>
                  <a:pt x="7764" y="12402"/>
                </a:cubicBezTo>
                <a:cubicBezTo>
                  <a:pt x="7796" y="12343"/>
                  <a:pt x="7830" y="12288"/>
                  <a:pt x="7863" y="12229"/>
                </a:cubicBezTo>
                <a:cubicBezTo>
                  <a:pt x="7895" y="12171"/>
                  <a:pt x="7927" y="12112"/>
                  <a:pt x="7962" y="12055"/>
                </a:cubicBezTo>
                <a:cubicBezTo>
                  <a:pt x="8017" y="11963"/>
                  <a:pt x="8084" y="11873"/>
                  <a:pt x="8136" y="11782"/>
                </a:cubicBezTo>
                <a:cubicBezTo>
                  <a:pt x="8251" y="11579"/>
                  <a:pt x="8353" y="11369"/>
                  <a:pt x="8458" y="11162"/>
                </a:cubicBezTo>
                <a:cubicBezTo>
                  <a:pt x="8488" y="11102"/>
                  <a:pt x="8505" y="11050"/>
                  <a:pt x="8533" y="10988"/>
                </a:cubicBezTo>
                <a:cubicBezTo>
                  <a:pt x="8560" y="10930"/>
                  <a:pt x="8580" y="10875"/>
                  <a:pt x="8607" y="10815"/>
                </a:cubicBezTo>
                <a:cubicBezTo>
                  <a:pt x="8635" y="10753"/>
                  <a:pt x="8683" y="10703"/>
                  <a:pt x="8706" y="10641"/>
                </a:cubicBezTo>
                <a:cubicBezTo>
                  <a:pt x="8738" y="10555"/>
                  <a:pt x="8752" y="10458"/>
                  <a:pt x="8781" y="10368"/>
                </a:cubicBezTo>
                <a:cubicBezTo>
                  <a:pt x="8807" y="10287"/>
                  <a:pt x="8830" y="10196"/>
                  <a:pt x="8855" y="10120"/>
                </a:cubicBezTo>
                <a:cubicBezTo>
                  <a:pt x="8897" y="9991"/>
                  <a:pt x="8926" y="9878"/>
                  <a:pt x="8954" y="9748"/>
                </a:cubicBezTo>
                <a:cubicBezTo>
                  <a:pt x="8978" y="9638"/>
                  <a:pt x="9007" y="9536"/>
                  <a:pt x="9029" y="9426"/>
                </a:cubicBezTo>
                <a:cubicBezTo>
                  <a:pt x="9050" y="9321"/>
                  <a:pt x="9067" y="9212"/>
                  <a:pt x="9079" y="9103"/>
                </a:cubicBezTo>
                <a:cubicBezTo>
                  <a:pt x="9093" y="8978"/>
                  <a:pt x="9111" y="8854"/>
                  <a:pt x="9128" y="8731"/>
                </a:cubicBezTo>
                <a:cubicBezTo>
                  <a:pt x="9152" y="8552"/>
                  <a:pt x="9160" y="8367"/>
                  <a:pt x="9178" y="8186"/>
                </a:cubicBezTo>
                <a:cubicBezTo>
                  <a:pt x="9193" y="8037"/>
                  <a:pt x="9192" y="7889"/>
                  <a:pt x="9203" y="7739"/>
                </a:cubicBezTo>
                <a:cubicBezTo>
                  <a:pt x="9228" y="7397"/>
                  <a:pt x="9203" y="7036"/>
                  <a:pt x="9252" y="6697"/>
                </a:cubicBezTo>
                <a:cubicBezTo>
                  <a:pt x="9275" y="6542"/>
                  <a:pt x="9311" y="6376"/>
                  <a:pt x="9351" y="6226"/>
                </a:cubicBezTo>
                <a:cubicBezTo>
                  <a:pt x="9385" y="6099"/>
                  <a:pt x="9428" y="5946"/>
                  <a:pt x="9475" y="5829"/>
                </a:cubicBezTo>
                <a:cubicBezTo>
                  <a:pt x="9491" y="5789"/>
                  <a:pt x="9537" y="5745"/>
                  <a:pt x="9550" y="5705"/>
                </a:cubicBezTo>
                <a:cubicBezTo>
                  <a:pt x="9562" y="5670"/>
                  <a:pt x="9562" y="5640"/>
                  <a:pt x="9575" y="5606"/>
                </a:cubicBezTo>
                <a:cubicBezTo>
                  <a:pt x="9586" y="5576"/>
                  <a:pt x="9586" y="5536"/>
                  <a:pt x="9599" y="5507"/>
                </a:cubicBezTo>
                <a:cubicBezTo>
                  <a:pt x="9620" y="5460"/>
                  <a:pt x="9650" y="5407"/>
                  <a:pt x="9674" y="5358"/>
                </a:cubicBezTo>
                <a:cubicBezTo>
                  <a:pt x="9697" y="5312"/>
                  <a:pt x="9726" y="5262"/>
                  <a:pt x="9748" y="5209"/>
                </a:cubicBezTo>
                <a:cubicBezTo>
                  <a:pt x="9768" y="5160"/>
                  <a:pt x="9802" y="5113"/>
                  <a:pt x="9823" y="5060"/>
                </a:cubicBezTo>
                <a:cubicBezTo>
                  <a:pt x="9835" y="5029"/>
                  <a:pt x="9835" y="4992"/>
                  <a:pt x="9847" y="4961"/>
                </a:cubicBezTo>
                <a:cubicBezTo>
                  <a:pt x="9805" y="5030"/>
                  <a:pt x="9777" y="5109"/>
                  <a:pt x="9723" y="5184"/>
                </a:cubicBezTo>
                <a:cubicBezTo>
                  <a:pt x="9668" y="5261"/>
                  <a:pt x="9635" y="5294"/>
                  <a:pt x="9575" y="5358"/>
                </a:cubicBezTo>
                <a:cubicBezTo>
                  <a:pt x="9552" y="5381"/>
                  <a:pt x="9548" y="5389"/>
                  <a:pt x="9525" y="5383"/>
                </a:cubicBezTo>
                <a:cubicBezTo>
                  <a:pt x="9541" y="5337"/>
                  <a:pt x="9585" y="5288"/>
                  <a:pt x="9599" y="5234"/>
                </a:cubicBezTo>
                <a:cubicBezTo>
                  <a:pt x="9621" y="5153"/>
                  <a:pt x="9622" y="5068"/>
                  <a:pt x="9649" y="4986"/>
                </a:cubicBezTo>
                <a:cubicBezTo>
                  <a:pt x="9649" y="4958"/>
                  <a:pt x="9651" y="4947"/>
                  <a:pt x="9674" y="4936"/>
                </a:cubicBezTo>
                <a:cubicBezTo>
                  <a:pt x="9772" y="4986"/>
                  <a:pt x="9865" y="5064"/>
                  <a:pt x="9971" y="5110"/>
                </a:cubicBezTo>
                <a:cubicBezTo>
                  <a:pt x="10043" y="5142"/>
                  <a:pt x="10122" y="5155"/>
                  <a:pt x="10195" y="5184"/>
                </a:cubicBezTo>
              </a:path>
              <a:path w="8584" h="8236">
                <a:moveTo>
                  <a:pt x="9004" y="9327"/>
                </a:moveTo>
                <a:cubicBezTo>
                  <a:pt x="8941" y="9345"/>
                  <a:pt x="8949" y="9346"/>
                  <a:pt x="8905" y="9401"/>
                </a:cubicBezTo>
                <a:cubicBezTo>
                  <a:pt x="8935" y="9424"/>
                  <a:pt x="8987" y="9447"/>
                  <a:pt x="9029" y="9426"/>
                </a:cubicBezTo>
                <a:cubicBezTo>
                  <a:pt x="9054" y="9414"/>
                  <a:pt x="9143" y="9409"/>
                  <a:pt x="9153" y="9376"/>
                </a:cubicBezTo>
                <a:cubicBezTo>
                  <a:pt x="9171" y="9317"/>
                  <a:pt x="9178" y="9326"/>
                  <a:pt x="9178" y="9252"/>
                </a:cubicBezTo>
                <a:cubicBezTo>
                  <a:pt x="9148" y="9230"/>
                  <a:pt x="9097" y="9209"/>
                  <a:pt x="9054" y="9227"/>
                </a:cubicBezTo>
                <a:cubicBezTo>
                  <a:pt x="9010" y="9246"/>
                  <a:pt x="8979" y="9309"/>
                  <a:pt x="8954" y="9327"/>
                </a:cubicBezTo>
                <a:cubicBezTo>
                  <a:pt x="8922" y="9327"/>
                  <a:pt x="8914" y="9335"/>
                  <a:pt x="8930" y="9376"/>
                </a:cubicBezTo>
                <a:cubicBezTo>
                  <a:pt x="8973" y="9409"/>
                  <a:pt x="8996" y="9401"/>
                  <a:pt x="9054" y="9401"/>
                </a:cubicBezTo>
                <a:cubicBezTo>
                  <a:pt x="9093" y="9401"/>
                  <a:pt x="9128" y="9412"/>
                  <a:pt x="9153" y="9376"/>
                </a:cubicBezTo>
                <a:cubicBezTo>
                  <a:pt x="9181" y="9321"/>
                  <a:pt x="9189" y="9298"/>
                  <a:pt x="9178" y="9252"/>
                </a:cubicBezTo>
                <a:cubicBezTo>
                  <a:pt x="9096" y="9236"/>
                  <a:pt x="9108" y="9232"/>
                  <a:pt x="9029" y="9252"/>
                </a:cubicBezTo>
                <a:cubicBezTo>
                  <a:pt x="8946" y="9273"/>
                  <a:pt x="8974" y="9233"/>
                  <a:pt x="8930" y="9302"/>
                </a:cubicBezTo>
                <a:cubicBezTo>
                  <a:pt x="8922" y="9310"/>
                  <a:pt x="8913" y="9319"/>
                  <a:pt x="8905" y="9327"/>
                </a:cubicBezTo>
              </a:path>
              <a:path w="8584" h="8236">
                <a:moveTo>
                  <a:pt x="9351" y="9525"/>
                </a:moveTo>
                <a:cubicBezTo>
                  <a:pt x="9258" y="9612"/>
                  <a:pt x="9203" y="9662"/>
                  <a:pt x="9153" y="9773"/>
                </a:cubicBezTo>
                <a:cubicBezTo>
                  <a:pt x="9115" y="9856"/>
                  <a:pt x="9103" y="9907"/>
                  <a:pt x="9103" y="9996"/>
                </a:cubicBezTo>
                <a:cubicBezTo>
                  <a:pt x="9103" y="10053"/>
                  <a:pt x="9144" y="10120"/>
                  <a:pt x="9178" y="10170"/>
                </a:cubicBezTo>
                <a:cubicBezTo>
                  <a:pt x="9208" y="10213"/>
                  <a:pt x="9251" y="10239"/>
                  <a:pt x="9302" y="10244"/>
                </a:cubicBezTo>
                <a:cubicBezTo>
                  <a:pt x="9343" y="10248"/>
                  <a:pt x="9344" y="10243"/>
                  <a:pt x="9376" y="10220"/>
                </a:cubicBezTo>
              </a:path>
              <a:path w="8584" h="8236">
                <a:moveTo>
                  <a:pt x="9451" y="9624"/>
                </a:moveTo>
                <a:cubicBezTo>
                  <a:pt x="9483" y="9620"/>
                  <a:pt x="9573" y="9618"/>
                  <a:pt x="9599" y="9599"/>
                </a:cubicBezTo>
                <a:cubicBezTo>
                  <a:pt x="9680" y="9542"/>
                  <a:pt x="9668" y="9526"/>
                  <a:pt x="9748" y="9599"/>
                </a:cubicBezTo>
                <a:cubicBezTo>
                  <a:pt x="9792" y="9639"/>
                  <a:pt x="9779" y="9730"/>
                  <a:pt x="9748" y="9773"/>
                </a:cubicBezTo>
                <a:cubicBezTo>
                  <a:pt x="9714" y="9821"/>
                  <a:pt x="9650" y="9900"/>
                  <a:pt x="9599" y="9922"/>
                </a:cubicBezTo>
                <a:cubicBezTo>
                  <a:pt x="9508" y="9960"/>
                  <a:pt x="9505" y="9990"/>
                  <a:pt x="9475" y="10046"/>
                </a:cubicBezTo>
                <a:cubicBezTo>
                  <a:pt x="9467" y="10054"/>
                  <a:pt x="9459" y="10063"/>
                  <a:pt x="9451" y="10071"/>
                </a:cubicBezTo>
                <a:cubicBezTo>
                  <a:pt x="9569" y="10071"/>
                  <a:pt x="9615" y="10080"/>
                  <a:pt x="9723" y="10120"/>
                </a:cubicBezTo>
                <a:cubicBezTo>
                  <a:pt x="9748" y="10120"/>
                  <a:pt x="9756" y="10120"/>
                  <a:pt x="9773" y="10120"/>
                </a:cubicBezTo>
              </a:path>
              <a:path w="8584" h="8236">
                <a:moveTo>
                  <a:pt x="9947" y="9897"/>
                </a:moveTo>
                <a:cubicBezTo>
                  <a:pt x="9947" y="9988"/>
                  <a:pt x="9947" y="10079"/>
                  <a:pt x="9947" y="10170"/>
                </a:cubicBezTo>
                <a:cubicBezTo>
                  <a:pt x="9947" y="10123"/>
                  <a:pt x="9925" y="10091"/>
                  <a:pt x="9922" y="10046"/>
                </a:cubicBezTo>
                <a:cubicBezTo>
                  <a:pt x="9915" y="9941"/>
                  <a:pt x="9903" y="9794"/>
                  <a:pt x="9947" y="9699"/>
                </a:cubicBezTo>
                <a:cubicBezTo>
                  <a:pt x="9982" y="9624"/>
                  <a:pt x="10025" y="9648"/>
                  <a:pt x="10071" y="9599"/>
                </a:cubicBezTo>
                <a:cubicBezTo>
                  <a:pt x="10137" y="9528"/>
                  <a:pt x="10106" y="9580"/>
                  <a:pt x="10195" y="9550"/>
                </a:cubicBezTo>
                <a:cubicBezTo>
                  <a:pt x="10249" y="9532"/>
                  <a:pt x="10264" y="9525"/>
                  <a:pt x="10319" y="9525"/>
                </a:cubicBezTo>
              </a:path>
              <a:path w="8584" h="8236">
                <a:moveTo>
                  <a:pt x="10096" y="9699"/>
                </a:moveTo>
                <a:cubicBezTo>
                  <a:pt x="10166" y="9699"/>
                  <a:pt x="10210" y="9692"/>
                  <a:pt x="10269" y="9674"/>
                </a:cubicBezTo>
                <a:cubicBezTo>
                  <a:pt x="10289" y="9668"/>
                  <a:pt x="10323" y="9674"/>
                  <a:pt x="10344" y="9674"/>
                </a:cubicBezTo>
                <a:cubicBezTo>
                  <a:pt x="10344" y="9750"/>
                  <a:pt x="10314" y="9737"/>
                  <a:pt x="10294" y="9773"/>
                </a:cubicBezTo>
                <a:cubicBezTo>
                  <a:pt x="10268" y="9819"/>
                  <a:pt x="10249" y="9892"/>
                  <a:pt x="10195" y="9922"/>
                </a:cubicBezTo>
                <a:cubicBezTo>
                  <a:pt x="10170" y="9936"/>
                  <a:pt x="10110" y="9997"/>
                  <a:pt x="10145" y="10046"/>
                </a:cubicBezTo>
                <a:cubicBezTo>
                  <a:pt x="10163" y="10071"/>
                  <a:pt x="10197" y="10071"/>
                  <a:pt x="10244" y="10071"/>
                </a:cubicBezTo>
                <a:cubicBezTo>
                  <a:pt x="10289" y="10071"/>
                  <a:pt x="10305" y="10056"/>
                  <a:pt x="10344" y="10046"/>
                </a:cubicBezTo>
              </a:path>
              <a:path w="8584" h="8236">
                <a:moveTo>
                  <a:pt x="10468" y="9996"/>
                </a:moveTo>
                <a:cubicBezTo>
                  <a:pt x="10468" y="10038"/>
                  <a:pt x="10468" y="10046"/>
                  <a:pt x="10468" y="10071"/>
                </a:cubicBezTo>
                <a:cubicBezTo>
                  <a:pt x="10440" y="10098"/>
                  <a:pt x="10443" y="10140"/>
                  <a:pt x="10443" y="10195"/>
                </a:cubicBezTo>
                <a:cubicBezTo>
                  <a:pt x="10407" y="10207"/>
                  <a:pt x="10407" y="10208"/>
                  <a:pt x="10443" y="10220"/>
                </a:cubicBezTo>
              </a:path>
              <a:path w="8584" h="8236">
                <a:moveTo>
                  <a:pt x="10740" y="9748"/>
                </a:moveTo>
                <a:cubicBezTo>
                  <a:pt x="10675" y="9821"/>
                  <a:pt x="10621" y="9885"/>
                  <a:pt x="10641" y="9996"/>
                </a:cubicBezTo>
                <a:cubicBezTo>
                  <a:pt x="10648" y="10032"/>
                  <a:pt x="10688" y="10104"/>
                  <a:pt x="10716" y="10120"/>
                </a:cubicBezTo>
                <a:cubicBezTo>
                  <a:pt x="10739" y="10133"/>
                  <a:pt x="10863" y="10145"/>
                  <a:pt x="10889" y="10120"/>
                </a:cubicBezTo>
                <a:cubicBezTo>
                  <a:pt x="10930" y="10079"/>
                  <a:pt x="10960" y="10036"/>
                  <a:pt x="10964" y="9971"/>
                </a:cubicBezTo>
                <a:cubicBezTo>
                  <a:pt x="10967" y="9918"/>
                  <a:pt x="10958" y="9870"/>
                  <a:pt x="10939" y="9823"/>
                </a:cubicBezTo>
                <a:cubicBezTo>
                  <a:pt x="10922" y="9780"/>
                  <a:pt x="10879" y="9708"/>
                  <a:pt x="10840" y="9699"/>
                </a:cubicBezTo>
                <a:cubicBezTo>
                  <a:pt x="10804" y="9691"/>
                  <a:pt x="10810" y="9671"/>
                  <a:pt x="10790" y="9624"/>
                </a:cubicBezTo>
              </a:path>
              <a:path w="8584" h="8236">
                <a:moveTo>
                  <a:pt x="11038" y="9525"/>
                </a:moveTo>
                <a:cubicBezTo>
                  <a:pt x="11131" y="9653"/>
                  <a:pt x="11213" y="9760"/>
                  <a:pt x="11237" y="9922"/>
                </a:cubicBezTo>
                <a:cubicBezTo>
                  <a:pt x="11250" y="10008"/>
                  <a:pt x="11232" y="10098"/>
                  <a:pt x="11212" y="10170"/>
                </a:cubicBezTo>
                <a:cubicBezTo>
                  <a:pt x="11199" y="10216"/>
                  <a:pt x="11183" y="10255"/>
                  <a:pt x="11137" y="10220"/>
                </a:cubicBezTo>
                <a:cubicBezTo>
                  <a:pt x="11112" y="10195"/>
                  <a:pt x="11104" y="10187"/>
                  <a:pt x="11088" y="10170"/>
                </a:cubicBezTo>
              </a:path>
              <a:path w="8584" h="8236">
                <a:moveTo>
                  <a:pt x="4713" y="9302"/>
                </a:moveTo>
                <a:cubicBezTo>
                  <a:pt x="4663" y="9339"/>
                  <a:pt x="4663" y="9331"/>
                  <a:pt x="4663" y="9401"/>
                </a:cubicBezTo>
                <a:cubicBezTo>
                  <a:pt x="4729" y="9401"/>
                  <a:pt x="4796" y="9401"/>
                  <a:pt x="4862" y="9401"/>
                </a:cubicBezTo>
                <a:cubicBezTo>
                  <a:pt x="4862" y="9351"/>
                  <a:pt x="4857" y="9287"/>
                  <a:pt x="4812" y="9252"/>
                </a:cubicBezTo>
                <a:cubicBezTo>
                  <a:pt x="4801" y="9244"/>
                  <a:pt x="4697" y="9317"/>
                  <a:pt x="4688" y="9327"/>
                </a:cubicBezTo>
                <a:cubicBezTo>
                  <a:pt x="4668" y="9367"/>
                  <a:pt x="4659" y="9373"/>
                  <a:pt x="4663" y="9401"/>
                </a:cubicBezTo>
                <a:cubicBezTo>
                  <a:pt x="4713" y="9414"/>
                  <a:pt x="4727" y="9426"/>
                  <a:pt x="4787" y="9426"/>
                </a:cubicBezTo>
                <a:cubicBezTo>
                  <a:pt x="4791" y="9426"/>
                  <a:pt x="4886" y="9402"/>
                  <a:pt x="4887" y="9401"/>
                </a:cubicBezTo>
                <a:cubicBezTo>
                  <a:pt x="4914" y="9368"/>
                  <a:pt x="4874" y="9281"/>
                  <a:pt x="4862" y="9252"/>
                </a:cubicBezTo>
                <a:cubicBezTo>
                  <a:pt x="4765" y="9252"/>
                  <a:pt x="4697" y="9231"/>
                  <a:pt x="4638" y="9302"/>
                </a:cubicBezTo>
              </a:path>
              <a:path w="8584" h="8236">
                <a:moveTo>
                  <a:pt x="3101" y="9823"/>
                </a:moveTo>
                <a:cubicBezTo>
                  <a:pt x="3020" y="9911"/>
                  <a:pt x="2958" y="9978"/>
                  <a:pt x="2902" y="10071"/>
                </a:cubicBezTo>
                <a:cubicBezTo>
                  <a:pt x="2846" y="10166"/>
                  <a:pt x="2776" y="10221"/>
                  <a:pt x="2729" y="10319"/>
                </a:cubicBezTo>
                <a:cubicBezTo>
                  <a:pt x="2703" y="10374"/>
                  <a:pt x="2658" y="10431"/>
                  <a:pt x="2654" y="10492"/>
                </a:cubicBezTo>
                <a:cubicBezTo>
                  <a:pt x="2651" y="10542"/>
                  <a:pt x="2673" y="10581"/>
                  <a:pt x="2704" y="10616"/>
                </a:cubicBezTo>
                <a:cubicBezTo>
                  <a:pt x="2736" y="10652"/>
                  <a:pt x="2754" y="10641"/>
                  <a:pt x="2803" y="10641"/>
                </a:cubicBezTo>
              </a:path>
              <a:path w="8584" h="8236">
                <a:moveTo>
                  <a:pt x="3001" y="10220"/>
                </a:moveTo>
                <a:cubicBezTo>
                  <a:pt x="3092" y="10220"/>
                  <a:pt x="3183" y="10220"/>
                  <a:pt x="3274" y="10220"/>
                </a:cubicBezTo>
              </a:path>
              <a:path w="8584" h="8236">
                <a:moveTo>
                  <a:pt x="3373" y="10071"/>
                </a:moveTo>
                <a:cubicBezTo>
                  <a:pt x="3425" y="10049"/>
                  <a:pt x="3443" y="10046"/>
                  <a:pt x="3497" y="10046"/>
                </a:cubicBezTo>
                <a:cubicBezTo>
                  <a:pt x="3537" y="10046"/>
                  <a:pt x="3543" y="10080"/>
                  <a:pt x="3547" y="10120"/>
                </a:cubicBezTo>
                <a:cubicBezTo>
                  <a:pt x="3550" y="10154"/>
                  <a:pt x="3516" y="10237"/>
                  <a:pt x="3497" y="10269"/>
                </a:cubicBezTo>
                <a:cubicBezTo>
                  <a:pt x="3451" y="10345"/>
                  <a:pt x="3371" y="10395"/>
                  <a:pt x="3324" y="10468"/>
                </a:cubicBezTo>
                <a:cubicBezTo>
                  <a:pt x="3314" y="10484"/>
                  <a:pt x="3285" y="10541"/>
                  <a:pt x="3299" y="10567"/>
                </a:cubicBezTo>
                <a:cubicBezTo>
                  <a:pt x="3315" y="10595"/>
                  <a:pt x="3368" y="10603"/>
                  <a:pt x="3398" y="10592"/>
                </a:cubicBezTo>
                <a:cubicBezTo>
                  <a:pt x="3439" y="10572"/>
                  <a:pt x="3445" y="10563"/>
                  <a:pt x="3473" y="10567"/>
                </a:cubicBezTo>
              </a:path>
              <a:path w="8584" h="8236">
                <a:moveTo>
                  <a:pt x="3621" y="10443"/>
                </a:moveTo>
                <a:cubicBezTo>
                  <a:pt x="3621" y="10523"/>
                  <a:pt x="3624" y="10597"/>
                  <a:pt x="3646" y="10641"/>
                </a:cubicBezTo>
                <a:cubicBezTo>
                  <a:pt x="3667" y="10683"/>
                  <a:pt x="3646" y="10623"/>
                  <a:pt x="3646" y="10592"/>
                </a:cubicBezTo>
                <a:cubicBezTo>
                  <a:pt x="3646" y="10463"/>
                  <a:pt x="3649" y="10342"/>
                  <a:pt x="3671" y="10220"/>
                </a:cubicBezTo>
                <a:cubicBezTo>
                  <a:pt x="3682" y="10157"/>
                  <a:pt x="3657" y="10129"/>
                  <a:pt x="3696" y="10071"/>
                </a:cubicBezTo>
                <a:cubicBezTo>
                  <a:pt x="3751" y="9990"/>
                  <a:pt x="3747" y="10026"/>
                  <a:pt x="3820" y="9996"/>
                </a:cubicBezTo>
                <a:cubicBezTo>
                  <a:pt x="3897" y="9964"/>
                  <a:pt x="3904" y="9934"/>
                  <a:pt x="3994" y="9922"/>
                </a:cubicBezTo>
                <a:cubicBezTo>
                  <a:pt x="4002" y="9922"/>
                  <a:pt x="4010" y="9922"/>
                  <a:pt x="4018" y="9922"/>
                </a:cubicBezTo>
              </a:path>
              <a:path w="8584" h="8236">
                <a:moveTo>
                  <a:pt x="3795" y="10145"/>
                </a:moveTo>
                <a:cubicBezTo>
                  <a:pt x="3848" y="10145"/>
                  <a:pt x="3865" y="10125"/>
                  <a:pt x="3919" y="10120"/>
                </a:cubicBezTo>
                <a:cubicBezTo>
                  <a:pt x="3960" y="10117"/>
                  <a:pt x="4002" y="10120"/>
                  <a:pt x="4043" y="10120"/>
                </a:cubicBezTo>
                <a:cubicBezTo>
                  <a:pt x="4043" y="10174"/>
                  <a:pt x="4042" y="10193"/>
                  <a:pt x="4018" y="10244"/>
                </a:cubicBezTo>
                <a:cubicBezTo>
                  <a:pt x="3992" y="10300"/>
                  <a:pt x="3950" y="10342"/>
                  <a:pt x="3919" y="10393"/>
                </a:cubicBezTo>
                <a:cubicBezTo>
                  <a:pt x="3889" y="10443"/>
                  <a:pt x="3856" y="10485"/>
                  <a:pt x="3845" y="10542"/>
                </a:cubicBezTo>
                <a:cubicBezTo>
                  <a:pt x="3883" y="10571"/>
                  <a:pt x="3896" y="10567"/>
                  <a:pt x="3944" y="10567"/>
                </a:cubicBezTo>
                <a:cubicBezTo>
                  <a:pt x="4004" y="10567"/>
                  <a:pt x="4000" y="10574"/>
                  <a:pt x="4043" y="10542"/>
                </a:cubicBezTo>
              </a:path>
              <a:path w="8584" h="8236">
                <a:moveTo>
                  <a:pt x="4142" y="10517"/>
                </a:moveTo>
                <a:cubicBezTo>
                  <a:pt x="4129" y="10573"/>
                  <a:pt x="4099" y="10641"/>
                  <a:pt x="4093" y="10691"/>
                </a:cubicBezTo>
                <a:cubicBezTo>
                  <a:pt x="4088" y="10739"/>
                  <a:pt x="4074" y="10769"/>
                  <a:pt x="4118" y="10740"/>
                </a:cubicBezTo>
              </a:path>
              <a:path w="8584" h="8236">
                <a:moveTo>
                  <a:pt x="4291" y="10071"/>
                </a:moveTo>
                <a:cubicBezTo>
                  <a:pt x="4262" y="10174"/>
                  <a:pt x="4242" y="10238"/>
                  <a:pt x="4242" y="10344"/>
                </a:cubicBezTo>
                <a:cubicBezTo>
                  <a:pt x="4242" y="10389"/>
                  <a:pt x="4251" y="10465"/>
                  <a:pt x="4291" y="10492"/>
                </a:cubicBezTo>
                <a:cubicBezTo>
                  <a:pt x="4315" y="10508"/>
                  <a:pt x="4380" y="10562"/>
                  <a:pt x="4415" y="10542"/>
                </a:cubicBezTo>
                <a:cubicBezTo>
                  <a:pt x="4471" y="10511"/>
                  <a:pt x="4465" y="10445"/>
                  <a:pt x="4465" y="10393"/>
                </a:cubicBezTo>
                <a:cubicBezTo>
                  <a:pt x="4465" y="10316"/>
                  <a:pt x="4461" y="10261"/>
                  <a:pt x="4415" y="10195"/>
                </a:cubicBezTo>
                <a:cubicBezTo>
                  <a:pt x="4380" y="10144"/>
                  <a:pt x="4346" y="10099"/>
                  <a:pt x="4316" y="10046"/>
                </a:cubicBezTo>
                <a:cubicBezTo>
                  <a:pt x="4308" y="10029"/>
                  <a:pt x="4299" y="10013"/>
                  <a:pt x="4291" y="9996"/>
                </a:cubicBezTo>
              </a:path>
              <a:path w="8584" h="8236">
                <a:moveTo>
                  <a:pt x="4390" y="9773"/>
                </a:moveTo>
                <a:cubicBezTo>
                  <a:pt x="4498" y="9910"/>
                  <a:pt x="4540" y="9983"/>
                  <a:pt x="4589" y="10145"/>
                </a:cubicBezTo>
                <a:cubicBezTo>
                  <a:pt x="4619" y="10244"/>
                  <a:pt x="4657" y="10336"/>
                  <a:pt x="4638" y="10443"/>
                </a:cubicBezTo>
                <a:cubicBezTo>
                  <a:pt x="4625" y="10513"/>
                  <a:pt x="4581" y="10586"/>
                  <a:pt x="4539" y="10641"/>
                </a:cubicBezTo>
                <a:cubicBezTo>
                  <a:pt x="4506" y="10685"/>
                  <a:pt x="4457" y="10707"/>
                  <a:pt x="4415" y="107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89640" y="1401840"/>
            <a:ext cx="2162160" cy="1760400"/>
          </a:xfrm>
          <a:custGeom>
            <a:avLst/>
            <a:gdLst/>
            <a:ahLst/>
            <a:rect l="l" t="t" r="r" b="b"/>
            <a:pathLst>
              <a:path w="6003" h="4888">
                <a:moveTo>
                  <a:pt x="12824" y="6052"/>
                </a:moveTo>
                <a:cubicBezTo>
                  <a:pt x="12862" y="6065"/>
                  <a:pt x="12854" y="6074"/>
                  <a:pt x="12874" y="6102"/>
                </a:cubicBezTo>
                <a:cubicBezTo>
                  <a:pt x="12907" y="6148"/>
                  <a:pt x="12895" y="6209"/>
                  <a:pt x="12923" y="6251"/>
                </a:cubicBezTo>
                <a:cubicBezTo>
                  <a:pt x="12975" y="6330"/>
                  <a:pt x="13008" y="6384"/>
                  <a:pt x="13047" y="6474"/>
                </a:cubicBezTo>
                <a:cubicBezTo>
                  <a:pt x="13075" y="6538"/>
                  <a:pt x="13130" y="6613"/>
                  <a:pt x="13171" y="6672"/>
                </a:cubicBezTo>
                <a:cubicBezTo>
                  <a:pt x="13193" y="6704"/>
                  <a:pt x="13213" y="6714"/>
                  <a:pt x="13246" y="6722"/>
                </a:cubicBezTo>
              </a:path>
              <a:path w="6003" h="4888">
                <a:moveTo>
                  <a:pt x="13146" y="5978"/>
                </a:moveTo>
                <a:cubicBezTo>
                  <a:pt x="13099" y="6092"/>
                  <a:pt x="13063" y="6154"/>
                  <a:pt x="12998" y="6251"/>
                </a:cubicBezTo>
                <a:cubicBezTo>
                  <a:pt x="12955" y="6315"/>
                  <a:pt x="12911" y="6382"/>
                  <a:pt x="12874" y="6449"/>
                </a:cubicBezTo>
                <a:cubicBezTo>
                  <a:pt x="12841" y="6509"/>
                  <a:pt x="12819" y="6572"/>
                  <a:pt x="12774" y="6623"/>
                </a:cubicBezTo>
                <a:cubicBezTo>
                  <a:pt x="12753" y="6647"/>
                  <a:pt x="12750" y="6692"/>
                  <a:pt x="12750" y="6648"/>
                </a:cubicBezTo>
              </a:path>
              <a:path w="6003" h="4888">
                <a:moveTo>
                  <a:pt x="13320" y="6176"/>
                </a:moveTo>
                <a:cubicBezTo>
                  <a:pt x="13406" y="6176"/>
                  <a:pt x="13462" y="6170"/>
                  <a:pt x="13543" y="6152"/>
                </a:cubicBezTo>
                <a:cubicBezTo>
                  <a:pt x="13580" y="6144"/>
                  <a:pt x="13629" y="6152"/>
                  <a:pt x="13667" y="6152"/>
                </a:cubicBezTo>
              </a:path>
              <a:path w="6003" h="4888">
                <a:moveTo>
                  <a:pt x="13320" y="6400"/>
                </a:moveTo>
                <a:cubicBezTo>
                  <a:pt x="13397" y="6394"/>
                  <a:pt x="13465" y="6375"/>
                  <a:pt x="13543" y="6375"/>
                </a:cubicBezTo>
                <a:cubicBezTo>
                  <a:pt x="13576" y="6375"/>
                  <a:pt x="13593" y="6375"/>
                  <a:pt x="13618" y="6375"/>
                </a:cubicBezTo>
              </a:path>
              <a:path w="6003" h="4888">
                <a:moveTo>
                  <a:pt x="13791" y="6226"/>
                </a:moveTo>
                <a:cubicBezTo>
                  <a:pt x="13849" y="6226"/>
                  <a:pt x="13907" y="6226"/>
                  <a:pt x="13965" y="6226"/>
                </a:cubicBezTo>
              </a:path>
              <a:path w="6003" h="4888">
                <a:moveTo>
                  <a:pt x="14288" y="5755"/>
                </a:moveTo>
                <a:cubicBezTo>
                  <a:pt x="14288" y="5832"/>
                  <a:pt x="14267" y="5880"/>
                  <a:pt x="14263" y="5953"/>
                </a:cubicBezTo>
                <a:cubicBezTo>
                  <a:pt x="14255" y="6088"/>
                  <a:pt x="14236" y="6278"/>
                  <a:pt x="14288" y="6400"/>
                </a:cubicBezTo>
                <a:cubicBezTo>
                  <a:pt x="14288" y="6449"/>
                  <a:pt x="14279" y="6348"/>
                  <a:pt x="14288" y="6300"/>
                </a:cubicBezTo>
                <a:cubicBezTo>
                  <a:pt x="14295" y="6262"/>
                  <a:pt x="14317" y="6159"/>
                  <a:pt x="14337" y="6127"/>
                </a:cubicBezTo>
                <a:cubicBezTo>
                  <a:pt x="14358" y="6093"/>
                  <a:pt x="14448" y="6040"/>
                  <a:pt x="14486" y="6028"/>
                </a:cubicBezTo>
                <a:cubicBezTo>
                  <a:pt x="14515" y="6018"/>
                  <a:pt x="14593" y="6052"/>
                  <a:pt x="14610" y="6077"/>
                </a:cubicBezTo>
                <a:cubicBezTo>
                  <a:pt x="14655" y="6141"/>
                  <a:pt x="14660" y="6173"/>
                  <a:pt x="14660" y="6251"/>
                </a:cubicBezTo>
                <a:cubicBezTo>
                  <a:pt x="14660" y="6308"/>
                  <a:pt x="14622" y="6338"/>
                  <a:pt x="14585" y="6375"/>
                </a:cubicBezTo>
                <a:cubicBezTo>
                  <a:pt x="14555" y="6405"/>
                  <a:pt x="14505" y="6421"/>
                  <a:pt x="14461" y="6424"/>
                </a:cubicBezTo>
                <a:cubicBezTo>
                  <a:pt x="14412" y="6427"/>
                  <a:pt x="14361" y="6424"/>
                  <a:pt x="14312" y="6424"/>
                </a:cubicBezTo>
              </a:path>
              <a:path w="6003" h="4888">
                <a:moveTo>
                  <a:pt x="13915" y="6548"/>
                </a:moveTo>
                <a:cubicBezTo>
                  <a:pt x="14012" y="6528"/>
                  <a:pt x="14089" y="6524"/>
                  <a:pt x="14188" y="6524"/>
                </a:cubicBezTo>
                <a:cubicBezTo>
                  <a:pt x="14302" y="6524"/>
                  <a:pt x="14401" y="6511"/>
                  <a:pt x="14511" y="6499"/>
                </a:cubicBezTo>
                <a:cubicBezTo>
                  <a:pt x="14519" y="6498"/>
                  <a:pt x="14745" y="6501"/>
                  <a:pt x="14709" y="6474"/>
                </a:cubicBezTo>
                <a:cubicBezTo>
                  <a:pt x="14701" y="6474"/>
                  <a:pt x="14692" y="6474"/>
                  <a:pt x="14684" y="6474"/>
                </a:cubicBezTo>
              </a:path>
              <a:path w="6003" h="4888">
                <a:moveTo>
                  <a:pt x="13891" y="6871"/>
                </a:moveTo>
                <a:cubicBezTo>
                  <a:pt x="13912" y="6855"/>
                  <a:pt x="13965" y="6803"/>
                  <a:pt x="13990" y="6796"/>
                </a:cubicBezTo>
                <a:cubicBezTo>
                  <a:pt x="14040" y="6781"/>
                  <a:pt x="14083" y="6772"/>
                  <a:pt x="14139" y="6772"/>
                </a:cubicBezTo>
                <a:cubicBezTo>
                  <a:pt x="14202" y="6772"/>
                  <a:pt x="14223" y="6809"/>
                  <a:pt x="14213" y="6871"/>
                </a:cubicBezTo>
                <a:cubicBezTo>
                  <a:pt x="14199" y="6952"/>
                  <a:pt x="14175" y="7021"/>
                  <a:pt x="14139" y="7094"/>
                </a:cubicBezTo>
                <a:cubicBezTo>
                  <a:pt x="14112" y="7149"/>
                  <a:pt x="14074" y="7193"/>
                  <a:pt x="14039" y="7243"/>
                </a:cubicBezTo>
                <a:cubicBezTo>
                  <a:pt x="14023" y="7266"/>
                  <a:pt x="13978" y="7361"/>
                  <a:pt x="13965" y="7367"/>
                </a:cubicBezTo>
                <a:cubicBezTo>
                  <a:pt x="13957" y="7367"/>
                  <a:pt x="13948" y="7367"/>
                  <a:pt x="13940" y="7367"/>
                </a:cubicBezTo>
                <a:cubicBezTo>
                  <a:pt x="13978" y="7329"/>
                  <a:pt x="13986" y="7317"/>
                  <a:pt x="14039" y="7317"/>
                </a:cubicBezTo>
                <a:cubicBezTo>
                  <a:pt x="14094" y="7317"/>
                  <a:pt x="14122" y="7333"/>
                  <a:pt x="14163" y="7342"/>
                </a:cubicBezTo>
                <a:cubicBezTo>
                  <a:pt x="14205" y="7351"/>
                  <a:pt x="14269" y="7342"/>
                  <a:pt x="14312" y="7342"/>
                </a:cubicBezTo>
              </a:path>
              <a:path w="6003" h="4888">
                <a:moveTo>
                  <a:pt x="14610" y="6995"/>
                </a:moveTo>
                <a:cubicBezTo>
                  <a:pt x="14566" y="7027"/>
                  <a:pt x="14431" y="7108"/>
                  <a:pt x="14412" y="7169"/>
                </a:cubicBezTo>
                <a:cubicBezTo>
                  <a:pt x="14399" y="7209"/>
                  <a:pt x="14414" y="7282"/>
                  <a:pt x="14436" y="7293"/>
                </a:cubicBezTo>
                <a:cubicBezTo>
                  <a:pt x="14478" y="7314"/>
                  <a:pt x="14512" y="7268"/>
                  <a:pt x="14536" y="7243"/>
                </a:cubicBezTo>
                <a:cubicBezTo>
                  <a:pt x="14570" y="7208"/>
                  <a:pt x="14590" y="7180"/>
                  <a:pt x="14635" y="7169"/>
                </a:cubicBezTo>
                <a:cubicBezTo>
                  <a:pt x="14644" y="7180"/>
                  <a:pt x="14690" y="7253"/>
                  <a:pt x="14709" y="7243"/>
                </a:cubicBezTo>
                <a:cubicBezTo>
                  <a:pt x="14709" y="7218"/>
                  <a:pt x="14709" y="7210"/>
                  <a:pt x="14734" y="7218"/>
                </a:cubicBezTo>
              </a:path>
              <a:path w="6003" h="4888">
                <a:moveTo>
                  <a:pt x="15032" y="6375"/>
                </a:moveTo>
                <a:cubicBezTo>
                  <a:pt x="15077" y="6375"/>
                  <a:pt x="15091" y="6353"/>
                  <a:pt x="15131" y="6350"/>
                </a:cubicBezTo>
                <a:cubicBezTo>
                  <a:pt x="15172" y="6347"/>
                  <a:pt x="15214" y="6350"/>
                  <a:pt x="15255" y="6350"/>
                </a:cubicBezTo>
              </a:path>
              <a:path w="6003" h="4888">
                <a:moveTo>
                  <a:pt x="15032" y="6499"/>
                </a:moveTo>
                <a:cubicBezTo>
                  <a:pt x="15100" y="6499"/>
                  <a:pt x="15117" y="6490"/>
                  <a:pt x="15180" y="6474"/>
                </a:cubicBezTo>
                <a:cubicBezTo>
                  <a:pt x="15188" y="6474"/>
                  <a:pt x="15197" y="6474"/>
                  <a:pt x="15205" y="6474"/>
                </a:cubicBezTo>
              </a:path>
              <a:path w="6003" h="4888">
                <a:moveTo>
                  <a:pt x="15677" y="5928"/>
                </a:moveTo>
                <a:cubicBezTo>
                  <a:pt x="15648" y="5996"/>
                  <a:pt x="15590" y="6101"/>
                  <a:pt x="15577" y="6176"/>
                </a:cubicBezTo>
                <a:cubicBezTo>
                  <a:pt x="15562" y="6264"/>
                  <a:pt x="15586" y="6341"/>
                  <a:pt x="15602" y="6424"/>
                </a:cubicBezTo>
                <a:cubicBezTo>
                  <a:pt x="15614" y="6485"/>
                  <a:pt x="15643" y="6474"/>
                  <a:pt x="15701" y="6474"/>
                </a:cubicBezTo>
                <a:cubicBezTo>
                  <a:pt x="15767" y="6474"/>
                  <a:pt x="15820" y="6466"/>
                  <a:pt x="15875" y="6424"/>
                </a:cubicBezTo>
                <a:cubicBezTo>
                  <a:pt x="15947" y="6368"/>
                  <a:pt x="15983" y="6332"/>
                  <a:pt x="16024" y="6251"/>
                </a:cubicBezTo>
                <a:cubicBezTo>
                  <a:pt x="16057" y="6186"/>
                  <a:pt x="16093" y="6103"/>
                  <a:pt x="16073" y="6028"/>
                </a:cubicBezTo>
                <a:cubicBezTo>
                  <a:pt x="16058" y="5974"/>
                  <a:pt x="16020" y="5913"/>
                  <a:pt x="15974" y="5879"/>
                </a:cubicBezTo>
                <a:cubicBezTo>
                  <a:pt x="15902" y="5825"/>
                  <a:pt x="15862" y="5804"/>
                  <a:pt x="15776" y="5804"/>
                </a:cubicBezTo>
                <a:cubicBezTo>
                  <a:pt x="15729" y="5804"/>
                  <a:pt x="15696" y="5820"/>
                  <a:pt x="15652" y="5829"/>
                </a:cubicBezTo>
              </a:path>
              <a:path w="6003" h="4888">
                <a:moveTo>
                  <a:pt x="12998" y="7615"/>
                </a:moveTo>
                <a:cubicBezTo>
                  <a:pt x="13006" y="7675"/>
                  <a:pt x="13019" y="7713"/>
                  <a:pt x="13047" y="7764"/>
                </a:cubicBezTo>
                <a:cubicBezTo>
                  <a:pt x="13079" y="7823"/>
                  <a:pt x="13112" y="7882"/>
                  <a:pt x="13146" y="7938"/>
                </a:cubicBezTo>
                <a:cubicBezTo>
                  <a:pt x="13180" y="7995"/>
                  <a:pt x="13199" y="8039"/>
                  <a:pt x="13246" y="8086"/>
                </a:cubicBezTo>
                <a:cubicBezTo>
                  <a:pt x="13279" y="8119"/>
                  <a:pt x="13290" y="8151"/>
                  <a:pt x="13320" y="8161"/>
                </a:cubicBezTo>
              </a:path>
              <a:path w="6003" h="4888">
                <a:moveTo>
                  <a:pt x="13469" y="7640"/>
                </a:moveTo>
                <a:cubicBezTo>
                  <a:pt x="13430" y="7737"/>
                  <a:pt x="13383" y="7855"/>
                  <a:pt x="13370" y="7962"/>
                </a:cubicBezTo>
                <a:cubicBezTo>
                  <a:pt x="13356" y="8076"/>
                  <a:pt x="13344" y="8197"/>
                  <a:pt x="13320" y="8310"/>
                </a:cubicBezTo>
                <a:cubicBezTo>
                  <a:pt x="13298" y="8414"/>
                  <a:pt x="13276" y="8526"/>
                  <a:pt x="13271" y="8632"/>
                </a:cubicBezTo>
                <a:cubicBezTo>
                  <a:pt x="13268" y="8684"/>
                  <a:pt x="13246" y="8833"/>
                  <a:pt x="13246" y="8781"/>
                </a:cubicBezTo>
                <a:cubicBezTo>
                  <a:pt x="13246" y="8753"/>
                  <a:pt x="13248" y="8742"/>
                  <a:pt x="13271" y="8731"/>
                </a:cubicBezTo>
              </a:path>
              <a:path w="6003" h="4888">
                <a:moveTo>
                  <a:pt x="13667" y="7962"/>
                </a:moveTo>
                <a:cubicBezTo>
                  <a:pt x="13766" y="7962"/>
                  <a:pt x="13866" y="7962"/>
                  <a:pt x="13965" y="7962"/>
                </a:cubicBezTo>
              </a:path>
              <a:path w="6003" h="4888">
                <a:moveTo>
                  <a:pt x="13767" y="8111"/>
                </a:moveTo>
                <a:cubicBezTo>
                  <a:pt x="13839" y="8111"/>
                  <a:pt x="13877" y="8097"/>
                  <a:pt x="13940" y="8086"/>
                </a:cubicBezTo>
                <a:cubicBezTo>
                  <a:pt x="13957" y="8086"/>
                  <a:pt x="13973" y="8086"/>
                  <a:pt x="13990" y="8086"/>
                </a:cubicBezTo>
              </a:path>
              <a:path w="6003" h="4888">
                <a:moveTo>
                  <a:pt x="14362" y="7789"/>
                </a:moveTo>
                <a:cubicBezTo>
                  <a:pt x="14343" y="7852"/>
                  <a:pt x="14302" y="7924"/>
                  <a:pt x="14288" y="7987"/>
                </a:cubicBezTo>
                <a:cubicBezTo>
                  <a:pt x="14270" y="8070"/>
                  <a:pt x="14263" y="8149"/>
                  <a:pt x="14263" y="8235"/>
                </a:cubicBezTo>
                <a:cubicBezTo>
                  <a:pt x="14263" y="8285"/>
                  <a:pt x="14274" y="8391"/>
                  <a:pt x="14337" y="8409"/>
                </a:cubicBezTo>
                <a:cubicBezTo>
                  <a:pt x="14374" y="8420"/>
                  <a:pt x="14511" y="8405"/>
                  <a:pt x="14536" y="8384"/>
                </a:cubicBezTo>
                <a:cubicBezTo>
                  <a:pt x="14568" y="8357"/>
                  <a:pt x="14626" y="8250"/>
                  <a:pt x="14635" y="8210"/>
                </a:cubicBezTo>
                <a:cubicBezTo>
                  <a:pt x="14654" y="8126"/>
                  <a:pt x="14648" y="8093"/>
                  <a:pt x="14635" y="8012"/>
                </a:cubicBezTo>
                <a:cubicBezTo>
                  <a:pt x="14627" y="7965"/>
                  <a:pt x="14614" y="7912"/>
                  <a:pt x="14560" y="7888"/>
                </a:cubicBezTo>
                <a:cubicBezTo>
                  <a:pt x="14531" y="7875"/>
                  <a:pt x="14491" y="7848"/>
                  <a:pt x="14461" y="7838"/>
                </a:cubicBezTo>
                <a:cubicBezTo>
                  <a:pt x="14436" y="7838"/>
                  <a:pt x="14428" y="7838"/>
                  <a:pt x="14461" y="7838"/>
                </a:cubicBezTo>
              </a:path>
              <a:path w="6003" h="4888">
                <a:moveTo>
                  <a:pt x="14660" y="7541"/>
                </a:moveTo>
                <a:cubicBezTo>
                  <a:pt x="14748" y="7488"/>
                  <a:pt x="14759" y="7491"/>
                  <a:pt x="14858" y="7491"/>
                </a:cubicBezTo>
                <a:cubicBezTo>
                  <a:pt x="14912" y="7491"/>
                  <a:pt x="14950" y="7479"/>
                  <a:pt x="14957" y="7541"/>
                </a:cubicBezTo>
                <a:cubicBezTo>
                  <a:pt x="14965" y="7612"/>
                  <a:pt x="14931" y="7625"/>
                  <a:pt x="14883" y="7665"/>
                </a:cubicBezTo>
                <a:cubicBezTo>
                  <a:pt x="14852" y="7691"/>
                  <a:pt x="14842" y="7704"/>
                  <a:pt x="14833" y="7739"/>
                </a:cubicBezTo>
                <a:cubicBezTo>
                  <a:pt x="14880" y="7774"/>
                  <a:pt x="14920" y="7764"/>
                  <a:pt x="14982" y="7764"/>
                </a:cubicBezTo>
                <a:cubicBezTo>
                  <a:pt x="15049" y="7764"/>
                  <a:pt x="15101" y="7763"/>
                  <a:pt x="15156" y="7739"/>
                </a:cubicBezTo>
              </a:path>
              <a:path w="6003" h="4888">
                <a:moveTo>
                  <a:pt x="14064" y="7541"/>
                </a:moveTo>
                <a:cubicBezTo>
                  <a:pt x="14124" y="7556"/>
                  <a:pt x="14114" y="7580"/>
                  <a:pt x="14114" y="7640"/>
                </a:cubicBezTo>
                <a:cubicBezTo>
                  <a:pt x="14114" y="7713"/>
                  <a:pt x="14071" y="7731"/>
                  <a:pt x="14114" y="7789"/>
                </a:cubicBezTo>
              </a:path>
              <a:path w="6003" h="4888">
                <a:moveTo>
                  <a:pt x="14263" y="7615"/>
                </a:moveTo>
                <a:cubicBezTo>
                  <a:pt x="14211" y="7736"/>
                  <a:pt x="14181" y="7859"/>
                  <a:pt x="14139" y="7987"/>
                </a:cubicBezTo>
                <a:cubicBezTo>
                  <a:pt x="14108" y="8082"/>
                  <a:pt x="14089" y="8202"/>
                  <a:pt x="14039" y="8285"/>
                </a:cubicBezTo>
                <a:cubicBezTo>
                  <a:pt x="14016" y="8323"/>
                  <a:pt x="14015" y="8337"/>
                  <a:pt x="14015" y="8384"/>
                </a:cubicBezTo>
              </a:path>
              <a:path w="6003" h="4888">
                <a:moveTo>
                  <a:pt x="14139" y="8161"/>
                </a:moveTo>
                <a:cubicBezTo>
                  <a:pt x="14178" y="8200"/>
                  <a:pt x="14194" y="8201"/>
                  <a:pt x="14188" y="8235"/>
                </a:cubicBezTo>
                <a:cubicBezTo>
                  <a:pt x="14157" y="8275"/>
                  <a:pt x="14116" y="8317"/>
                  <a:pt x="14089" y="8359"/>
                </a:cubicBezTo>
                <a:cubicBezTo>
                  <a:pt x="14062" y="8401"/>
                  <a:pt x="14064" y="8415"/>
                  <a:pt x="14064" y="8458"/>
                </a:cubicBezTo>
                <a:cubicBezTo>
                  <a:pt x="14104" y="8448"/>
                  <a:pt x="14130" y="8434"/>
                  <a:pt x="14163" y="8409"/>
                </a:cubicBezTo>
              </a:path>
              <a:path w="6003" h="4888">
                <a:moveTo>
                  <a:pt x="14213" y="8186"/>
                </a:moveTo>
                <a:cubicBezTo>
                  <a:pt x="14241" y="8186"/>
                  <a:pt x="14252" y="8184"/>
                  <a:pt x="14263" y="8161"/>
                </a:cubicBezTo>
              </a:path>
              <a:path w="6003" h="4888">
                <a:moveTo>
                  <a:pt x="15156" y="7938"/>
                </a:moveTo>
                <a:cubicBezTo>
                  <a:pt x="15231" y="7960"/>
                  <a:pt x="15276" y="7962"/>
                  <a:pt x="15354" y="7962"/>
                </a:cubicBezTo>
                <a:cubicBezTo>
                  <a:pt x="15395" y="7962"/>
                  <a:pt x="15437" y="7962"/>
                  <a:pt x="15478" y="7962"/>
                </a:cubicBezTo>
              </a:path>
              <a:path w="6003" h="4888">
                <a:moveTo>
                  <a:pt x="15701" y="7714"/>
                </a:moveTo>
                <a:cubicBezTo>
                  <a:pt x="15698" y="7725"/>
                  <a:pt x="15636" y="7859"/>
                  <a:pt x="15652" y="7888"/>
                </a:cubicBezTo>
                <a:cubicBezTo>
                  <a:pt x="15689" y="7955"/>
                  <a:pt x="15702" y="7962"/>
                  <a:pt x="15776" y="7962"/>
                </a:cubicBezTo>
                <a:cubicBezTo>
                  <a:pt x="15823" y="7962"/>
                  <a:pt x="15837" y="7960"/>
                  <a:pt x="15875" y="7938"/>
                </a:cubicBezTo>
              </a:path>
              <a:path w="6003" h="4888">
                <a:moveTo>
                  <a:pt x="15949" y="7565"/>
                </a:moveTo>
                <a:cubicBezTo>
                  <a:pt x="15895" y="7769"/>
                  <a:pt x="15850" y="7949"/>
                  <a:pt x="15850" y="8161"/>
                </a:cubicBezTo>
                <a:cubicBezTo>
                  <a:pt x="15850" y="8170"/>
                  <a:pt x="15837" y="8323"/>
                  <a:pt x="15875" y="8310"/>
                </a:cubicBezTo>
                <a:cubicBezTo>
                  <a:pt x="15875" y="8302"/>
                  <a:pt x="15875" y="8293"/>
                  <a:pt x="15875" y="8285"/>
                </a:cubicBezTo>
              </a:path>
              <a:path w="6003" h="4888">
                <a:moveTo>
                  <a:pt x="16148" y="7913"/>
                </a:moveTo>
                <a:cubicBezTo>
                  <a:pt x="16222" y="7913"/>
                  <a:pt x="16297" y="7913"/>
                  <a:pt x="16371" y="7913"/>
                </a:cubicBezTo>
              </a:path>
              <a:path w="6003" h="4888">
                <a:moveTo>
                  <a:pt x="16123" y="8062"/>
                </a:moveTo>
                <a:cubicBezTo>
                  <a:pt x="16190" y="8075"/>
                  <a:pt x="16223" y="8086"/>
                  <a:pt x="16297" y="8086"/>
                </a:cubicBezTo>
                <a:cubicBezTo>
                  <a:pt x="16348" y="8086"/>
                  <a:pt x="16366" y="8085"/>
                  <a:pt x="16396" y="8062"/>
                </a:cubicBezTo>
              </a:path>
              <a:path w="6003" h="4888">
                <a:moveTo>
                  <a:pt x="16694" y="7739"/>
                </a:moveTo>
                <a:cubicBezTo>
                  <a:pt x="16768" y="7739"/>
                  <a:pt x="16843" y="7739"/>
                  <a:pt x="16917" y="7739"/>
                </a:cubicBezTo>
              </a:path>
              <a:path w="6003" h="4888">
                <a:moveTo>
                  <a:pt x="17066" y="7590"/>
                </a:moveTo>
                <a:cubicBezTo>
                  <a:pt x="17037" y="7634"/>
                  <a:pt x="16944" y="7747"/>
                  <a:pt x="16966" y="7813"/>
                </a:cubicBezTo>
                <a:cubicBezTo>
                  <a:pt x="16987" y="7876"/>
                  <a:pt x="17071" y="7897"/>
                  <a:pt x="17115" y="7913"/>
                </a:cubicBezTo>
                <a:cubicBezTo>
                  <a:pt x="17187" y="7939"/>
                  <a:pt x="17170" y="7928"/>
                  <a:pt x="17239" y="7888"/>
                </a:cubicBezTo>
              </a:path>
              <a:path w="6003" h="4888">
                <a:moveTo>
                  <a:pt x="17289" y="7392"/>
                </a:moveTo>
                <a:cubicBezTo>
                  <a:pt x="17232" y="7545"/>
                  <a:pt x="17182" y="7679"/>
                  <a:pt x="17165" y="7838"/>
                </a:cubicBezTo>
                <a:cubicBezTo>
                  <a:pt x="17148" y="7991"/>
                  <a:pt x="17165" y="8155"/>
                  <a:pt x="17165" y="8310"/>
                </a:cubicBezTo>
              </a:path>
              <a:path w="6003" h="4888">
                <a:moveTo>
                  <a:pt x="16570" y="4118"/>
                </a:moveTo>
                <a:cubicBezTo>
                  <a:pt x="16558" y="4152"/>
                  <a:pt x="16544" y="4150"/>
                  <a:pt x="16520" y="4192"/>
                </a:cubicBezTo>
                <a:cubicBezTo>
                  <a:pt x="16461" y="4296"/>
                  <a:pt x="16445" y="4409"/>
                  <a:pt x="16396" y="4514"/>
                </a:cubicBezTo>
                <a:cubicBezTo>
                  <a:pt x="16331" y="4652"/>
                  <a:pt x="16297" y="4757"/>
                  <a:pt x="16297" y="4911"/>
                </a:cubicBezTo>
                <a:cubicBezTo>
                  <a:pt x="16297" y="4987"/>
                  <a:pt x="16289" y="5091"/>
                  <a:pt x="16321" y="5159"/>
                </a:cubicBezTo>
                <a:cubicBezTo>
                  <a:pt x="16336" y="5192"/>
                  <a:pt x="16418" y="5198"/>
                  <a:pt x="16446" y="5184"/>
                </a:cubicBezTo>
                <a:cubicBezTo>
                  <a:pt x="16454" y="5176"/>
                  <a:pt x="16462" y="5167"/>
                  <a:pt x="16470" y="5159"/>
                </a:cubicBezTo>
              </a:path>
              <a:path w="6003" h="4888">
                <a:moveTo>
                  <a:pt x="16818" y="4390"/>
                </a:moveTo>
                <a:cubicBezTo>
                  <a:pt x="16782" y="4539"/>
                  <a:pt x="16734" y="4687"/>
                  <a:pt x="16718" y="4837"/>
                </a:cubicBezTo>
                <a:cubicBezTo>
                  <a:pt x="16712" y="4895"/>
                  <a:pt x="16713" y="4986"/>
                  <a:pt x="16743" y="5035"/>
                </a:cubicBezTo>
                <a:cubicBezTo>
                  <a:pt x="16767" y="5074"/>
                  <a:pt x="16820" y="5105"/>
                  <a:pt x="16867" y="5085"/>
                </a:cubicBezTo>
                <a:cubicBezTo>
                  <a:pt x="16939" y="5055"/>
                  <a:pt x="17057" y="4896"/>
                  <a:pt x="17090" y="4837"/>
                </a:cubicBezTo>
                <a:cubicBezTo>
                  <a:pt x="17137" y="4751"/>
                  <a:pt x="17140" y="4659"/>
                  <a:pt x="17140" y="4564"/>
                </a:cubicBezTo>
                <a:cubicBezTo>
                  <a:pt x="17140" y="4497"/>
                  <a:pt x="17104" y="4422"/>
                  <a:pt x="17066" y="4366"/>
                </a:cubicBezTo>
                <a:cubicBezTo>
                  <a:pt x="17044" y="4334"/>
                  <a:pt x="16979" y="4320"/>
                  <a:pt x="16942" y="4316"/>
                </a:cubicBezTo>
                <a:cubicBezTo>
                  <a:pt x="16896" y="4311"/>
                  <a:pt x="16872" y="4318"/>
                  <a:pt x="16867" y="4366"/>
                </a:cubicBezTo>
                <a:cubicBezTo>
                  <a:pt x="16867" y="4374"/>
                  <a:pt x="16867" y="4382"/>
                  <a:pt x="16867" y="4390"/>
                </a:cubicBezTo>
              </a:path>
              <a:path w="6003" h="4888">
                <a:moveTo>
                  <a:pt x="17338" y="5011"/>
                </a:moveTo>
                <a:cubicBezTo>
                  <a:pt x="17316" y="5085"/>
                  <a:pt x="17298" y="5236"/>
                  <a:pt x="17264" y="5308"/>
                </a:cubicBezTo>
                <a:cubicBezTo>
                  <a:pt x="17248" y="5342"/>
                  <a:pt x="17239" y="5350"/>
                  <a:pt x="17214" y="5358"/>
                </a:cubicBezTo>
              </a:path>
              <a:path w="6003" h="4888">
                <a:moveTo>
                  <a:pt x="17512" y="4614"/>
                </a:moveTo>
                <a:cubicBezTo>
                  <a:pt x="17597" y="4614"/>
                  <a:pt x="17657" y="4602"/>
                  <a:pt x="17735" y="4589"/>
                </a:cubicBezTo>
                <a:cubicBezTo>
                  <a:pt x="17780" y="4589"/>
                  <a:pt x="17793" y="4592"/>
                  <a:pt x="17810" y="4564"/>
                </a:cubicBezTo>
              </a:path>
              <a:path w="6003" h="4888">
                <a:moveTo>
                  <a:pt x="18008" y="4291"/>
                </a:moveTo>
                <a:cubicBezTo>
                  <a:pt x="17992" y="4346"/>
                  <a:pt x="17964" y="4409"/>
                  <a:pt x="17959" y="4465"/>
                </a:cubicBezTo>
                <a:cubicBezTo>
                  <a:pt x="17955" y="4504"/>
                  <a:pt x="17967" y="4546"/>
                  <a:pt x="18008" y="4564"/>
                </a:cubicBezTo>
                <a:cubicBezTo>
                  <a:pt x="18049" y="4582"/>
                  <a:pt x="18081" y="4589"/>
                  <a:pt x="18132" y="4589"/>
                </a:cubicBezTo>
                <a:cubicBezTo>
                  <a:pt x="18190" y="4589"/>
                  <a:pt x="18256" y="4548"/>
                  <a:pt x="18306" y="4514"/>
                </a:cubicBezTo>
                <a:cubicBezTo>
                  <a:pt x="18314" y="4506"/>
                  <a:pt x="18323" y="4498"/>
                  <a:pt x="18331" y="4490"/>
                </a:cubicBezTo>
              </a:path>
              <a:path w="6003" h="4888">
                <a:moveTo>
                  <a:pt x="18281" y="4167"/>
                </a:moveTo>
                <a:cubicBezTo>
                  <a:pt x="18215" y="4343"/>
                  <a:pt x="18207" y="4410"/>
                  <a:pt x="18207" y="4589"/>
                </a:cubicBezTo>
                <a:cubicBezTo>
                  <a:pt x="18207" y="4681"/>
                  <a:pt x="18212" y="4752"/>
                  <a:pt x="18231" y="4837"/>
                </a:cubicBezTo>
                <a:cubicBezTo>
                  <a:pt x="18234" y="4849"/>
                  <a:pt x="18252" y="4960"/>
                  <a:pt x="18256" y="4887"/>
                </a:cubicBezTo>
                <a:cubicBezTo>
                  <a:pt x="18256" y="4862"/>
                  <a:pt x="18256" y="4837"/>
                  <a:pt x="18256" y="4812"/>
                </a:cubicBezTo>
              </a:path>
              <a:path w="6003" h="4888">
                <a:moveTo>
                  <a:pt x="18380" y="3894"/>
                </a:moveTo>
                <a:cubicBezTo>
                  <a:pt x="18497" y="3966"/>
                  <a:pt x="18608" y="4063"/>
                  <a:pt x="18678" y="4192"/>
                </a:cubicBezTo>
                <a:cubicBezTo>
                  <a:pt x="18749" y="4322"/>
                  <a:pt x="18757" y="4497"/>
                  <a:pt x="18728" y="4638"/>
                </a:cubicBezTo>
                <a:cubicBezTo>
                  <a:pt x="18711" y="4722"/>
                  <a:pt x="18705" y="4814"/>
                  <a:pt x="18653" y="4887"/>
                </a:cubicBezTo>
                <a:cubicBezTo>
                  <a:pt x="18633" y="4915"/>
                  <a:pt x="18576" y="4993"/>
                  <a:pt x="18554" y="5011"/>
                </a:cubicBezTo>
                <a:cubicBezTo>
                  <a:pt x="18537" y="5019"/>
                  <a:pt x="18521" y="5027"/>
                  <a:pt x="18504" y="50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73720" y="1660680"/>
            <a:ext cx="1081080" cy="331560"/>
          </a:xfrm>
          <a:custGeom>
            <a:avLst/>
            <a:gdLst/>
            <a:ahLst/>
            <a:rect l="l" t="t" r="r" b="b"/>
            <a:pathLst>
              <a:path w="3003" h="918">
                <a:moveTo>
                  <a:pt x="12427" y="4887"/>
                </a:moveTo>
                <a:cubicBezTo>
                  <a:pt x="12440" y="4924"/>
                  <a:pt x="12452" y="4908"/>
                  <a:pt x="12452" y="4961"/>
                </a:cubicBezTo>
                <a:cubicBezTo>
                  <a:pt x="12452" y="5015"/>
                  <a:pt x="12493" y="5067"/>
                  <a:pt x="12502" y="5110"/>
                </a:cubicBezTo>
                <a:cubicBezTo>
                  <a:pt x="12517" y="5184"/>
                  <a:pt x="12541" y="5238"/>
                  <a:pt x="12576" y="5308"/>
                </a:cubicBezTo>
                <a:cubicBezTo>
                  <a:pt x="12608" y="5372"/>
                  <a:pt x="12609" y="5401"/>
                  <a:pt x="12650" y="5457"/>
                </a:cubicBezTo>
                <a:cubicBezTo>
                  <a:pt x="12688" y="5513"/>
                  <a:pt x="12683" y="5538"/>
                  <a:pt x="12725" y="5531"/>
                </a:cubicBezTo>
                <a:cubicBezTo>
                  <a:pt x="12754" y="5494"/>
                  <a:pt x="12750" y="5480"/>
                  <a:pt x="12750" y="5432"/>
                </a:cubicBezTo>
                <a:cubicBezTo>
                  <a:pt x="12750" y="5360"/>
                  <a:pt x="12783" y="5302"/>
                  <a:pt x="12799" y="5234"/>
                </a:cubicBezTo>
                <a:cubicBezTo>
                  <a:pt x="12812" y="5179"/>
                  <a:pt x="12839" y="5115"/>
                  <a:pt x="12849" y="5060"/>
                </a:cubicBezTo>
                <a:cubicBezTo>
                  <a:pt x="12858" y="5007"/>
                  <a:pt x="12870" y="4933"/>
                  <a:pt x="12898" y="4887"/>
                </a:cubicBezTo>
                <a:cubicBezTo>
                  <a:pt x="12919" y="4853"/>
                  <a:pt x="12917" y="4812"/>
                  <a:pt x="12948" y="4787"/>
                </a:cubicBezTo>
                <a:cubicBezTo>
                  <a:pt x="12956" y="4787"/>
                  <a:pt x="12965" y="4787"/>
                  <a:pt x="12973" y="4787"/>
                </a:cubicBezTo>
              </a:path>
              <a:path w="3003" h="918">
                <a:moveTo>
                  <a:pt x="13022" y="5234"/>
                </a:moveTo>
                <a:cubicBezTo>
                  <a:pt x="13085" y="5225"/>
                  <a:pt x="13120" y="5204"/>
                  <a:pt x="13171" y="5159"/>
                </a:cubicBezTo>
                <a:cubicBezTo>
                  <a:pt x="13196" y="5137"/>
                  <a:pt x="13233" y="5049"/>
                  <a:pt x="13246" y="5011"/>
                </a:cubicBezTo>
                <a:cubicBezTo>
                  <a:pt x="13263" y="4962"/>
                  <a:pt x="13248" y="4898"/>
                  <a:pt x="13221" y="4862"/>
                </a:cubicBezTo>
                <a:cubicBezTo>
                  <a:pt x="13158" y="4862"/>
                  <a:pt x="13178" y="4890"/>
                  <a:pt x="13146" y="4911"/>
                </a:cubicBezTo>
                <a:cubicBezTo>
                  <a:pt x="13115" y="4932"/>
                  <a:pt x="13067" y="4990"/>
                  <a:pt x="13047" y="5035"/>
                </a:cubicBezTo>
                <a:cubicBezTo>
                  <a:pt x="13018" y="5098"/>
                  <a:pt x="12986" y="5239"/>
                  <a:pt x="12998" y="5308"/>
                </a:cubicBezTo>
                <a:cubicBezTo>
                  <a:pt x="13010" y="5378"/>
                  <a:pt x="13034" y="5465"/>
                  <a:pt x="13097" y="5507"/>
                </a:cubicBezTo>
                <a:cubicBezTo>
                  <a:pt x="13130" y="5529"/>
                  <a:pt x="13198" y="5500"/>
                  <a:pt x="13221" y="5482"/>
                </a:cubicBezTo>
                <a:cubicBezTo>
                  <a:pt x="13248" y="5461"/>
                  <a:pt x="13271" y="5432"/>
                  <a:pt x="13295" y="5407"/>
                </a:cubicBezTo>
              </a:path>
              <a:path w="3003" h="918">
                <a:moveTo>
                  <a:pt x="13419" y="5011"/>
                </a:moveTo>
                <a:cubicBezTo>
                  <a:pt x="13425" y="5100"/>
                  <a:pt x="13444" y="5170"/>
                  <a:pt x="13444" y="5259"/>
                </a:cubicBezTo>
                <a:cubicBezTo>
                  <a:pt x="13444" y="5318"/>
                  <a:pt x="13463" y="5352"/>
                  <a:pt x="13469" y="5407"/>
                </a:cubicBezTo>
                <a:cubicBezTo>
                  <a:pt x="13475" y="5470"/>
                  <a:pt x="13445" y="5348"/>
                  <a:pt x="13444" y="5333"/>
                </a:cubicBezTo>
                <a:cubicBezTo>
                  <a:pt x="13439" y="5268"/>
                  <a:pt x="13459" y="5242"/>
                  <a:pt x="13469" y="5184"/>
                </a:cubicBezTo>
                <a:cubicBezTo>
                  <a:pt x="13484" y="5097"/>
                  <a:pt x="13544" y="5059"/>
                  <a:pt x="13593" y="4986"/>
                </a:cubicBezTo>
                <a:cubicBezTo>
                  <a:pt x="13635" y="4923"/>
                  <a:pt x="13671" y="4918"/>
                  <a:pt x="13742" y="4887"/>
                </a:cubicBezTo>
              </a:path>
              <a:path w="3003" h="918">
                <a:moveTo>
                  <a:pt x="14039" y="4614"/>
                </a:moveTo>
                <a:cubicBezTo>
                  <a:pt x="14044" y="4703"/>
                  <a:pt x="14040" y="4824"/>
                  <a:pt x="14064" y="4911"/>
                </a:cubicBezTo>
                <a:cubicBezTo>
                  <a:pt x="14084" y="4983"/>
                  <a:pt x="14102" y="5062"/>
                  <a:pt x="14114" y="5135"/>
                </a:cubicBezTo>
                <a:cubicBezTo>
                  <a:pt x="14123" y="5188"/>
                  <a:pt x="14117" y="5237"/>
                  <a:pt x="14139" y="5283"/>
                </a:cubicBezTo>
                <a:cubicBezTo>
                  <a:pt x="14139" y="5275"/>
                  <a:pt x="14139" y="5267"/>
                  <a:pt x="14139" y="5259"/>
                </a:cubicBezTo>
              </a:path>
              <a:path w="3003" h="918">
                <a:moveTo>
                  <a:pt x="13816" y="5011"/>
                </a:moveTo>
                <a:cubicBezTo>
                  <a:pt x="13882" y="5011"/>
                  <a:pt x="13926" y="4990"/>
                  <a:pt x="13990" y="4986"/>
                </a:cubicBezTo>
                <a:cubicBezTo>
                  <a:pt x="14056" y="4986"/>
                  <a:pt x="14089" y="4986"/>
                  <a:pt x="14139" y="4986"/>
                </a:cubicBezTo>
              </a:path>
              <a:path w="3003" h="918">
                <a:moveTo>
                  <a:pt x="14387" y="5110"/>
                </a:moveTo>
                <a:cubicBezTo>
                  <a:pt x="14453" y="5110"/>
                  <a:pt x="14485" y="5107"/>
                  <a:pt x="14536" y="5060"/>
                </a:cubicBezTo>
                <a:cubicBezTo>
                  <a:pt x="14571" y="5028"/>
                  <a:pt x="14589" y="4993"/>
                  <a:pt x="14610" y="4961"/>
                </a:cubicBezTo>
                <a:cubicBezTo>
                  <a:pt x="14641" y="4915"/>
                  <a:pt x="14598" y="4874"/>
                  <a:pt x="14536" y="4862"/>
                </a:cubicBezTo>
                <a:cubicBezTo>
                  <a:pt x="14489" y="4853"/>
                  <a:pt x="14447" y="4878"/>
                  <a:pt x="14412" y="4911"/>
                </a:cubicBezTo>
                <a:cubicBezTo>
                  <a:pt x="14372" y="4948"/>
                  <a:pt x="14345" y="5061"/>
                  <a:pt x="14337" y="5110"/>
                </a:cubicBezTo>
                <a:cubicBezTo>
                  <a:pt x="14326" y="5174"/>
                  <a:pt x="14375" y="5262"/>
                  <a:pt x="14412" y="5308"/>
                </a:cubicBezTo>
                <a:cubicBezTo>
                  <a:pt x="14444" y="5348"/>
                  <a:pt x="14488" y="5333"/>
                  <a:pt x="14536" y="5333"/>
                </a:cubicBezTo>
                <a:cubicBezTo>
                  <a:pt x="14581" y="5333"/>
                  <a:pt x="14603" y="5309"/>
                  <a:pt x="14635" y="5283"/>
                </a:cubicBezTo>
              </a:path>
              <a:path w="3003" h="918">
                <a:moveTo>
                  <a:pt x="14734" y="4961"/>
                </a:moveTo>
                <a:cubicBezTo>
                  <a:pt x="14758" y="5020"/>
                  <a:pt x="14796" y="5165"/>
                  <a:pt x="14858" y="5209"/>
                </a:cubicBezTo>
                <a:cubicBezTo>
                  <a:pt x="14914" y="5249"/>
                  <a:pt x="14992" y="5269"/>
                  <a:pt x="15056" y="5283"/>
                </a:cubicBezTo>
                <a:cubicBezTo>
                  <a:pt x="15117" y="5297"/>
                  <a:pt x="15141" y="5274"/>
                  <a:pt x="15180" y="5234"/>
                </a:cubicBezTo>
              </a:path>
              <a:path w="3003" h="918">
                <a:moveTo>
                  <a:pt x="15007" y="4911"/>
                </a:moveTo>
                <a:cubicBezTo>
                  <a:pt x="14926" y="5028"/>
                  <a:pt x="14866" y="5111"/>
                  <a:pt x="14808" y="5234"/>
                </a:cubicBezTo>
                <a:cubicBezTo>
                  <a:pt x="14793" y="5265"/>
                  <a:pt x="14735" y="5360"/>
                  <a:pt x="14709" y="5383"/>
                </a:cubicBezTo>
                <a:cubicBezTo>
                  <a:pt x="14690" y="5400"/>
                  <a:pt x="14660" y="5391"/>
                  <a:pt x="14709" y="5407"/>
                </a:cubicBezTo>
              </a:path>
              <a:path w="3003" h="918">
                <a:moveTo>
                  <a:pt x="15404" y="4787"/>
                </a:moveTo>
                <a:cubicBezTo>
                  <a:pt x="15412" y="4795"/>
                  <a:pt x="15421" y="4804"/>
                  <a:pt x="15429" y="4812"/>
                </a:cubicBezTo>
              </a:path>
              <a:path w="3003" h="918">
                <a:moveTo>
                  <a:pt x="15404" y="5110"/>
                </a:moveTo>
                <a:lnTo>
                  <a:pt x="15404" y="5110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49800" y="3054240"/>
            <a:ext cx="3376440" cy="223920"/>
          </a:xfrm>
          <a:custGeom>
            <a:avLst/>
            <a:gdLst/>
            <a:ahLst/>
            <a:rect l="l" t="t" r="r" b="b"/>
            <a:pathLst>
              <a:path w="9377" h="621">
                <a:moveTo>
                  <a:pt x="11956" y="8706"/>
                </a:moveTo>
                <a:cubicBezTo>
                  <a:pt x="11921" y="8685"/>
                  <a:pt x="11898" y="8654"/>
                  <a:pt x="11857" y="8632"/>
                </a:cubicBezTo>
                <a:cubicBezTo>
                  <a:pt x="11835" y="8620"/>
                  <a:pt x="11855" y="8641"/>
                  <a:pt x="11832" y="8632"/>
                </a:cubicBezTo>
                <a:cubicBezTo>
                  <a:pt x="11897" y="8613"/>
                  <a:pt x="11964" y="8599"/>
                  <a:pt x="12030" y="8582"/>
                </a:cubicBezTo>
                <a:cubicBezTo>
                  <a:pt x="12144" y="8553"/>
                  <a:pt x="12261" y="8516"/>
                  <a:pt x="12378" y="8508"/>
                </a:cubicBezTo>
                <a:cubicBezTo>
                  <a:pt x="12516" y="8499"/>
                  <a:pt x="12662" y="8479"/>
                  <a:pt x="12799" y="8483"/>
                </a:cubicBezTo>
                <a:cubicBezTo>
                  <a:pt x="12981" y="8488"/>
                  <a:pt x="13170" y="8504"/>
                  <a:pt x="13345" y="8558"/>
                </a:cubicBezTo>
                <a:cubicBezTo>
                  <a:pt x="13551" y="8622"/>
                  <a:pt x="13724" y="8719"/>
                  <a:pt x="13915" y="8806"/>
                </a:cubicBezTo>
                <a:cubicBezTo>
                  <a:pt x="14027" y="8857"/>
                  <a:pt x="14138" y="8935"/>
                  <a:pt x="14263" y="8954"/>
                </a:cubicBezTo>
                <a:cubicBezTo>
                  <a:pt x="14425" y="8979"/>
                  <a:pt x="14598" y="8994"/>
                  <a:pt x="14759" y="9004"/>
                </a:cubicBezTo>
                <a:cubicBezTo>
                  <a:pt x="14958" y="9017"/>
                  <a:pt x="15136" y="8974"/>
                  <a:pt x="15329" y="8954"/>
                </a:cubicBezTo>
                <a:cubicBezTo>
                  <a:pt x="15528" y="8934"/>
                  <a:pt x="15706" y="8920"/>
                  <a:pt x="15900" y="8880"/>
                </a:cubicBezTo>
                <a:cubicBezTo>
                  <a:pt x="16059" y="8848"/>
                  <a:pt x="16216" y="8822"/>
                  <a:pt x="16371" y="8781"/>
                </a:cubicBezTo>
                <a:cubicBezTo>
                  <a:pt x="16539" y="8737"/>
                  <a:pt x="16700" y="8646"/>
                  <a:pt x="16867" y="8607"/>
                </a:cubicBezTo>
                <a:cubicBezTo>
                  <a:pt x="17025" y="8570"/>
                  <a:pt x="17200" y="8552"/>
                  <a:pt x="17363" y="8558"/>
                </a:cubicBezTo>
                <a:cubicBezTo>
                  <a:pt x="17521" y="8564"/>
                  <a:pt x="17704" y="8594"/>
                  <a:pt x="17859" y="8632"/>
                </a:cubicBezTo>
                <a:cubicBezTo>
                  <a:pt x="18052" y="8679"/>
                  <a:pt x="18232" y="8724"/>
                  <a:pt x="18430" y="8756"/>
                </a:cubicBezTo>
                <a:cubicBezTo>
                  <a:pt x="18630" y="8788"/>
                  <a:pt x="18849" y="8827"/>
                  <a:pt x="19050" y="8880"/>
                </a:cubicBezTo>
                <a:cubicBezTo>
                  <a:pt x="19257" y="8935"/>
                  <a:pt x="19494" y="8999"/>
                  <a:pt x="19695" y="9029"/>
                </a:cubicBezTo>
                <a:cubicBezTo>
                  <a:pt x="19908" y="9061"/>
                  <a:pt x="20122" y="9092"/>
                  <a:pt x="20340" y="9103"/>
                </a:cubicBezTo>
                <a:cubicBezTo>
                  <a:pt x="20498" y="9111"/>
                  <a:pt x="20657" y="9109"/>
                  <a:pt x="20811" y="9079"/>
                </a:cubicBezTo>
                <a:cubicBezTo>
                  <a:pt x="20916" y="9059"/>
                  <a:pt x="21001" y="9029"/>
                  <a:pt x="21084" y="8954"/>
                </a:cubicBezTo>
                <a:cubicBezTo>
                  <a:pt x="21177" y="8870"/>
                  <a:pt x="21152" y="8850"/>
                  <a:pt x="21183" y="8756"/>
                </a:cubicBezTo>
                <a:cubicBezTo>
                  <a:pt x="21175" y="8748"/>
                  <a:pt x="21166" y="8739"/>
                  <a:pt x="21158" y="87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18000" y="4259160"/>
            <a:ext cx="2162160" cy="1947960"/>
          </a:xfrm>
          <a:custGeom>
            <a:avLst/>
            <a:gdLst/>
            <a:ahLst/>
            <a:rect l="l" t="t" r="r" b="b"/>
            <a:pathLst>
              <a:path w="6004" h="5408">
                <a:moveTo>
                  <a:pt x="17537" y="13568"/>
                </a:moveTo>
                <a:cubicBezTo>
                  <a:pt x="17537" y="13642"/>
                  <a:pt x="17553" y="13700"/>
                  <a:pt x="17562" y="13767"/>
                </a:cubicBezTo>
                <a:cubicBezTo>
                  <a:pt x="17575" y="13863"/>
                  <a:pt x="17594" y="13944"/>
                  <a:pt x="17611" y="14039"/>
                </a:cubicBezTo>
                <a:cubicBezTo>
                  <a:pt x="17626" y="14122"/>
                  <a:pt x="17655" y="14206"/>
                  <a:pt x="17661" y="14288"/>
                </a:cubicBezTo>
                <a:cubicBezTo>
                  <a:pt x="17661" y="14316"/>
                  <a:pt x="17664" y="14326"/>
                  <a:pt x="17686" y="14337"/>
                </a:cubicBezTo>
              </a:path>
              <a:path w="6004" h="5408">
                <a:moveTo>
                  <a:pt x="17264" y="13791"/>
                </a:moveTo>
                <a:cubicBezTo>
                  <a:pt x="17361" y="13791"/>
                  <a:pt x="17435" y="13829"/>
                  <a:pt x="17537" y="13841"/>
                </a:cubicBezTo>
                <a:cubicBezTo>
                  <a:pt x="17562" y="13841"/>
                  <a:pt x="17586" y="13841"/>
                  <a:pt x="17611" y="13841"/>
                </a:cubicBezTo>
              </a:path>
              <a:path w="6004" h="5408">
                <a:moveTo>
                  <a:pt x="18107" y="13643"/>
                </a:moveTo>
                <a:cubicBezTo>
                  <a:pt x="18087" y="13691"/>
                  <a:pt x="18078" y="13751"/>
                  <a:pt x="18058" y="13791"/>
                </a:cubicBezTo>
                <a:cubicBezTo>
                  <a:pt x="18036" y="13834"/>
                  <a:pt x="18027" y="13846"/>
                  <a:pt x="18058" y="13891"/>
                </a:cubicBezTo>
                <a:cubicBezTo>
                  <a:pt x="18082" y="13927"/>
                  <a:pt x="18124" y="13946"/>
                  <a:pt x="18157" y="13965"/>
                </a:cubicBezTo>
                <a:cubicBezTo>
                  <a:pt x="18210" y="13995"/>
                  <a:pt x="18271" y="14012"/>
                  <a:pt x="18331" y="14015"/>
                </a:cubicBezTo>
                <a:cubicBezTo>
                  <a:pt x="18347" y="14015"/>
                  <a:pt x="18364" y="14015"/>
                  <a:pt x="18380" y="14015"/>
                </a:cubicBezTo>
              </a:path>
              <a:path w="6004" h="5408">
                <a:moveTo>
                  <a:pt x="18479" y="13444"/>
                </a:moveTo>
                <a:cubicBezTo>
                  <a:pt x="18436" y="13576"/>
                  <a:pt x="18430" y="13654"/>
                  <a:pt x="18430" y="13791"/>
                </a:cubicBezTo>
                <a:cubicBezTo>
                  <a:pt x="18430" y="13928"/>
                  <a:pt x="18460" y="14077"/>
                  <a:pt x="18479" y="14213"/>
                </a:cubicBezTo>
                <a:cubicBezTo>
                  <a:pt x="18493" y="14315"/>
                  <a:pt x="18524" y="14413"/>
                  <a:pt x="18554" y="14511"/>
                </a:cubicBezTo>
              </a:path>
              <a:path w="6004" h="5408">
                <a:moveTo>
                  <a:pt x="12923" y="13370"/>
                </a:moveTo>
                <a:cubicBezTo>
                  <a:pt x="12923" y="13516"/>
                  <a:pt x="12925" y="13653"/>
                  <a:pt x="12948" y="13791"/>
                </a:cubicBezTo>
                <a:cubicBezTo>
                  <a:pt x="12959" y="13856"/>
                  <a:pt x="12936" y="13842"/>
                  <a:pt x="12973" y="13891"/>
                </a:cubicBezTo>
              </a:path>
              <a:path w="6004" h="5408">
                <a:moveTo>
                  <a:pt x="12551" y="13543"/>
                </a:moveTo>
                <a:cubicBezTo>
                  <a:pt x="12597" y="13579"/>
                  <a:pt x="12666" y="13630"/>
                  <a:pt x="12725" y="13643"/>
                </a:cubicBezTo>
                <a:cubicBezTo>
                  <a:pt x="12815" y="13663"/>
                  <a:pt x="12904" y="13667"/>
                  <a:pt x="12998" y="13667"/>
                </a:cubicBezTo>
                <a:cubicBezTo>
                  <a:pt x="13039" y="13667"/>
                  <a:pt x="13081" y="13667"/>
                  <a:pt x="13122" y="13667"/>
                </a:cubicBezTo>
              </a:path>
              <a:path w="6004" h="5408">
                <a:moveTo>
                  <a:pt x="13419" y="13444"/>
                </a:moveTo>
                <a:cubicBezTo>
                  <a:pt x="13400" y="13490"/>
                  <a:pt x="13401" y="13533"/>
                  <a:pt x="13370" y="13568"/>
                </a:cubicBezTo>
                <a:cubicBezTo>
                  <a:pt x="13355" y="13585"/>
                  <a:pt x="13309" y="13644"/>
                  <a:pt x="13320" y="13667"/>
                </a:cubicBezTo>
                <a:cubicBezTo>
                  <a:pt x="13345" y="13724"/>
                  <a:pt x="13372" y="13753"/>
                  <a:pt x="13444" y="13767"/>
                </a:cubicBezTo>
                <a:cubicBezTo>
                  <a:pt x="13511" y="13780"/>
                  <a:pt x="13596" y="13809"/>
                  <a:pt x="13667" y="13791"/>
                </a:cubicBezTo>
                <a:cubicBezTo>
                  <a:pt x="13684" y="13783"/>
                  <a:pt x="13700" y="13775"/>
                  <a:pt x="13717" y="13767"/>
                </a:cubicBezTo>
              </a:path>
              <a:path w="6004" h="5408">
                <a:moveTo>
                  <a:pt x="13816" y="13320"/>
                </a:moveTo>
                <a:cubicBezTo>
                  <a:pt x="13779" y="13385"/>
                  <a:pt x="13751" y="13446"/>
                  <a:pt x="13742" y="13519"/>
                </a:cubicBezTo>
                <a:cubicBezTo>
                  <a:pt x="13717" y="13717"/>
                  <a:pt x="13723" y="13973"/>
                  <a:pt x="13767" y="14163"/>
                </a:cubicBezTo>
              </a:path>
              <a:path w="6004" h="5408">
                <a:moveTo>
                  <a:pt x="18306" y="11832"/>
                </a:moveTo>
                <a:cubicBezTo>
                  <a:pt x="18264" y="11916"/>
                  <a:pt x="18221" y="11996"/>
                  <a:pt x="18182" y="12080"/>
                </a:cubicBezTo>
                <a:cubicBezTo>
                  <a:pt x="18118" y="12217"/>
                  <a:pt x="18054" y="12332"/>
                  <a:pt x="18008" y="12477"/>
                </a:cubicBezTo>
                <a:cubicBezTo>
                  <a:pt x="17934" y="12710"/>
                  <a:pt x="17844" y="12941"/>
                  <a:pt x="17760" y="13171"/>
                </a:cubicBezTo>
                <a:cubicBezTo>
                  <a:pt x="17679" y="13393"/>
                  <a:pt x="17611" y="13619"/>
                  <a:pt x="17537" y="13841"/>
                </a:cubicBezTo>
                <a:cubicBezTo>
                  <a:pt x="17488" y="13963"/>
                  <a:pt x="17472" y="14002"/>
                  <a:pt x="17462" y="14089"/>
                </a:cubicBezTo>
              </a:path>
              <a:path w="6004" h="5408">
                <a:moveTo>
                  <a:pt x="14139" y="14883"/>
                </a:moveTo>
                <a:cubicBezTo>
                  <a:pt x="14139" y="14941"/>
                  <a:pt x="14123" y="14986"/>
                  <a:pt x="14114" y="15032"/>
                </a:cubicBezTo>
                <a:cubicBezTo>
                  <a:pt x="14103" y="15089"/>
                  <a:pt x="14081" y="15107"/>
                  <a:pt x="14064" y="15156"/>
                </a:cubicBezTo>
                <a:cubicBezTo>
                  <a:pt x="14043" y="15217"/>
                  <a:pt x="14063" y="15183"/>
                  <a:pt x="14089" y="15180"/>
                </a:cubicBezTo>
                <a:cubicBezTo>
                  <a:pt x="14140" y="15174"/>
                  <a:pt x="14175" y="15197"/>
                  <a:pt x="14213" y="15205"/>
                </a:cubicBezTo>
                <a:cubicBezTo>
                  <a:pt x="14284" y="15219"/>
                  <a:pt x="14342" y="15264"/>
                  <a:pt x="14412" y="15280"/>
                </a:cubicBezTo>
                <a:cubicBezTo>
                  <a:pt x="14465" y="15292"/>
                  <a:pt x="14531" y="15280"/>
                  <a:pt x="14585" y="15280"/>
                </a:cubicBezTo>
              </a:path>
              <a:path w="6004" h="5408">
                <a:moveTo>
                  <a:pt x="14560" y="14536"/>
                </a:moveTo>
                <a:cubicBezTo>
                  <a:pt x="14560" y="14617"/>
                  <a:pt x="14539" y="14679"/>
                  <a:pt x="14536" y="14759"/>
                </a:cubicBezTo>
                <a:cubicBezTo>
                  <a:pt x="14531" y="14886"/>
                  <a:pt x="14515" y="15005"/>
                  <a:pt x="14511" y="15131"/>
                </a:cubicBezTo>
                <a:cubicBezTo>
                  <a:pt x="14505" y="15362"/>
                  <a:pt x="14501" y="15604"/>
                  <a:pt x="14536" y="15825"/>
                </a:cubicBezTo>
                <a:cubicBezTo>
                  <a:pt x="14536" y="15870"/>
                  <a:pt x="14532" y="15890"/>
                  <a:pt x="14560" y="15850"/>
                </a:cubicBezTo>
              </a:path>
              <a:path w="6004" h="5408">
                <a:moveTo>
                  <a:pt x="14883" y="15056"/>
                </a:moveTo>
                <a:cubicBezTo>
                  <a:pt x="14982" y="15056"/>
                  <a:pt x="15081" y="15056"/>
                  <a:pt x="15180" y="15056"/>
                </a:cubicBezTo>
              </a:path>
              <a:path w="6004" h="5408">
                <a:moveTo>
                  <a:pt x="14932" y="15280"/>
                </a:moveTo>
                <a:cubicBezTo>
                  <a:pt x="15007" y="15354"/>
                  <a:pt x="15024" y="15354"/>
                  <a:pt x="15131" y="15354"/>
                </a:cubicBezTo>
                <a:cubicBezTo>
                  <a:pt x="15207" y="15354"/>
                  <a:pt x="15233" y="15353"/>
                  <a:pt x="15280" y="15329"/>
                </a:cubicBezTo>
              </a:path>
              <a:path w="6004" h="5408">
                <a:moveTo>
                  <a:pt x="15751" y="14585"/>
                </a:moveTo>
                <a:cubicBezTo>
                  <a:pt x="15779" y="14650"/>
                  <a:pt x="15798" y="14712"/>
                  <a:pt x="15801" y="14784"/>
                </a:cubicBezTo>
                <a:cubicBezTo>
                  <a:pt x="15805" y="14885"/>
                  <a:pt x="15830" y="14980"/>
                  <a:pt x="15850" y="15081"/>
                </a:cubicBezTo>
              </a:path>
              <a:path w="6004" h="5408">
                <a:moveTo>
                  <a:pt x="15553" y="15205"/>
                </a:moveTo>
                <a:cubicBezTo>
                  <a:pt x="15630" y="15176"/>
                  <a:pt x="15691" y="15180"/>
                  <a:pt x="15776" y="15180"/>
                </a:cubicBezTo>
                <a:cubicBezTo>
                  <a:pt x="15858" y="15180"/>
                  <a:pt x="15923" y="15168"/>
                  <a:pt x="15999" y="15156"/>
                </a:cubicBezTo>
                <a:cubicBezTo>
                  <a:pt x="16016" y="15156"/>
                  <a:pt x="16032" y="15156"/>
                  <a:pt x="16049" y="15156"/>
                </a:cubicBezTo>
              </a:path>
              <a:path w="6004" h="5408">
                <a:moveTo>
                  <a:pt x="15701" y="15453"/>
                </a:moveTo>
                <a:cubicBezTo>
                  <a:pt x="15744" y="15475"/>
                  <a:pt x="15767" y="15456"/>
                  <a:pt x="15825" y="15429"/>
                </a:cubicBezTo>
                <a:cubicBezTo>
                  <a:pt x="15903" y="15392"/>
                  <a:pt x="15886" y="15408"/>
                  <a:pt x="15949" y="15429"/>
                </a:cubicBezTo>
                <a:cubicBezTo>
                  <a:pt x="16005" y="15448"/>
                  <a:pt x="15991" y="15429"/>
                  <a:pt x="16024" y="15478"/>
                </a:cubicBezTo>
                <a:cubicBezTo>
                  <a:pt x="16048" y="15514"/>
                  <a:pt x="16064" y="15578"/>
                  <a:pt x="16049" y="15627"/>
                </a:cubicBezTo>
                <a:cubicBezTo>
                  <a:pt x="16033" y="15682"/>
                  <a:pt x="16007" y="15754"/>
                  <a:pt x="15974" y="15801"/>
                </a:cubicBezTo>
                <a:cubicBezTo>
                  <a:pt x="15954" y="15829"/>
                  <a:pt x="15876" y="15914"/>
                  <a:pt x="15850" y="15925"/>
                </a:cubicBezTo>
                <a:cubicBezTo>
                  <a:pt x="15814" y="15940"/>
                  <a:pt x="15758" y="15915"/>
                  <a:pt x="15751" y="15900"/>
                </a:cubicBezTo>
                <a:cubicBezTo>
                  <a:pt x="15739" y="15876"/>
                  <a:pt x="15787" y="15817"/>
                  <a:pt x="15801" y="15801"/>
                </a:cubicBezTo>
                <a:cubicBezTo>
                  <a:pt x="15838" y="15758"/>
                  <a:pt x="15903" y="15777"/>
                  <a:pt x="15949" y="15801"/>
                </a:cubicBezTo>
                <a:cubicBezTo>
                  <a:pt x="16006" y="15831"/>
                  <a:pt x="16063" y="15870"/>
                  <a:pt x="16123" y="15900"/>
                </a:cubicBezTo>
                <a:cubicBezTo>
                  <a:pt x="16171" y="15924"/>
                  <a:pt x="16185" y="15932"/>
                  <a:pt x="16222" y="15925"/>
                </a:cubicBezTo>
              </a:path>
              <a:path w="6004" h="5408">
                <a:moveTo>
                  <a:pt x="16396" y="14833"/>
                </a:moveTo>
                <a:cubicBezTo>
                  <a:pt x="16456" y="14982"/>
                  <a:pt x="16502" y="15056"/>
                  <a:pt x="16594" y="15180"/>
                </a:cubicBezTo>
                <a:cubicBezTo>
                  <a:pt x="16673" y="15287"/>
                  <a:pt x="16754" y="15402"/>
                  <a:pt x="16842" y="15503"/>
                </a:cubicBezTo>
                <a:cubicBezTo>
                  <a:pt x="16908" y="15578"/>
                  <a:pt x="16982" y="15650"/>
                  <a:pt x="17066" y="15701"/>
                </a:cubicBezTo>
              </a:path>
              <a:path w="6004" h="5408">
                <a:moveTo>
                  <a:pt x="16966" y="14833"/>
                </a:moveTo>
                <a:cubicBezTo>
                  <a:pt x="16869" y="14904"/>
                  <a:pt x="16839" y="14966"/>
                  <a:pt x="16768" y="15056"/>
                </a:cubicBezTo>
                <a:cubicBezTo>
                  <a:pt x="16700" y="15142"/>
                  <a:pt x="16639" y="15228"/>
                  <a:pt x="16594" y="15329"/>
                </a:cubicBezTo>
                <a:cubicBezTo>
                  <a:pt x="16557" y="15414"/>
                  <a:pt x="16523" y="15494"/>
                  <a:pt x="16495" y="15577"/>
                </a:cubicBezTo>
                <a:cubicBezTo>
                  <a:pt x="16487" y="15601"/>
                  <a:pt x="16470" y="15731"/>
                  <a:pt x="16470" y="15677"/>
                </a:cubicBezTo>
              </a:path>
              <a:path w="6004" h="5408">
                <a:moveTo>
                  <a:pt x="17066" y="14461"/>
                </a:moveTo>
                <a:cubicBezTo>
                  <a:pt x="17173" y="14461"/>
                  <a:pt x="17193" y="14442"/>
                  <a:pt x="17239" y="14511"/>
                </a:cubicBezTo>
                <a:cubicBezTo>
                  <a:pt x="17247" y="14519"/>
                  <a:pt x="17256" y="14528"/>
                  <a:pt x="17264" y="14536"/>
                </a:cubicBezTo>
                <a:cubicBezTo>
                  <a:pt x="17236" y="14572"/>
                  <a:pt x="17225" y="14600"/>
                  <a:pt x="17190" y="14635"/>
                </a:cubicBezTo>
                <a:cubicBezTo>
                  <a:pt x="17172" y="14654"/>
                  <a:pt x="17124" y="14728"/>
                  <a:pt x="17115" y="14734"/>
                </a:cubicBezTo>
                <a:cubicBezTo>
                  <a:pt x="17090" y="14734"/>
                  <a:pt x="17082" y="14734"/>
                  <a:pt x="17090" y="14759"/>
                </a:cubicBezTo>
                <a:cubicBezTo>
                  <a:pt x="17103" y="14797"/>
                  <a:pt x="17112" y="14787"/>
                  <a:pt x="17140" y="14808"/>
                </a:cubicBezTo>
                <a:cubicBezTo>
                  <a:pt x="17182" y="14839"/>
                  <a:pt x="17232" y="14854"/>
                  <a:pt x="17289" y="14858"/>
                </a:cubicBezTo>
                <a:cubicBezTo>
                  <a:pt x="17370" y="14863"/>
                  <a:pt x="17334" y="14881"/>
                  <a:pt x="17413" y="14858"/>
                </a:cubicBezTo>
              </a:path>
              <a:path w="6004" h="5408">
                <a:moveTo>
                  <a:pt x="15627" y="15974"/>
                </a:moveTo>
                <a:cubicBezTo>
                  <a:pt x="15695" y="15940"/>
                  <a:pt x="15769" y="15949"/>
                  <a:pt x="15850" y="15949"/>
                </a:cubicBezTo>
                <a:cubicBezTo>
                  <a:pt x="15966" y="15949"/>
                  <a:pt x="16077" y="15925"/>
                  <a:pt x="16197" y="15925"/>
                </a:cubicBezTo>
                <a:cubicBezTo>
                  <a:pt x="16323" y="15925"/>
                  <a:pt x="16448" y="15922"/>
                  <a:pt x="16570" y="15900"/>
                </a:cubicBezTo>
                <a:cubicBezTo>
                  <a:pt x="16673" y="15881"/>
                  <a:pt x="16793" y="15877"/>
                  <a:pt x="16892" y="15850"/>
                </a:cubicBezTo>
                <a:cubicBezTo>
                  <a:pt x="16961" y="15831"/>
                  <a:pt x="17023" y="15809"/>
                  <a:pt x="17090" y="15776"/>
                </a:cubicBezTo>
              </a:path>
              <a:path w="6004" h="5408">
                <a:moveTo>
                  <a:pt x="16123" y="16148"/>
                </a:moveTo>
                <a:cubicBezTo>
                  <a:pt x="16142" y="16277"/>
                  <a:pt x="16153" y="16356"/>
                  <a:pt x="16197" y="16470"/>
                </a:cubicBezTo>
                <a:cubicBezTo>
                  <a:pt x="16223" y="16536"/>
                  <a:pt x="16226" y="16601"/>
                  <a:pt x="16297" y="16619"/>
                </a:cubicBezTo>
              </a:path>
              <a:path w="6004" h="5408">
                <a:moveTo>
                  <a:pt x="16446" y="16073"/>
                </a:moveTo>
                <a:cubicBezTo>
                  <a:pt x="16432" y="16144"/>
                  <a:pt x="16402" y="16255"/>
                  <a:pt x="16371" y="16321"/>
                </a:cubicBezTo>
                <a:cubicBezTo>
                  <a:pt x="16313" y="16445"/>
                  <a:pt x="16244" y="16565"/>
                  <a:pt x="16197" y="16694"/>
                </a:cubicBezTo>
                <a:cubicBezTo>
                  <a:pt x="16171" y="16766"/>
                  <a:pt x="16137" y="16845"/>
                  <a:pt x="16123" y="16917"/>
                </a:cubicBezTo>
              </a:path>
              <a:path w="6004" h="5408">
                <a:moveTo>
                  <a:pt x="16371" y="16570"/>
                </a:moveTo>
                <a:cubicBezTo>
                  <a:pt x="16441" y="16570"/>
                  <a:pt x="16531" y="16552"/>
                  <a:pt x="16594" y="16594"/>
                </a:cubicBezTo>
                <a:cubicBezTo>
                  <a:pt x="16602" y="16602"/>
                  <a:pt x="16611" y="16611"/>
                  <a:pt x="16619" y="16619"/>
                </a:cubicBezTo>
                <a:cubicBezTo>
                  <a:pt x="16607" y="16667"/>
                  <a:pt x="16572" y="16677"/>
                  <a:pt x="16545" y="16718"/>
                </a:cubicBezTo>
                <a:cubicBezTo>
                  <a:pt x="16500" y="16787"/>
                  <a:pt x="16451" y="16832"/>
                  <a:pt x="16446" y="16917"/>
                </a:cubicBezTo>
                <a:cubicBezTo>
                  <a:pt x="16443" y="16981"/>
                  <a:pt x="16500" y="17094"/>
                  <a:pt x="16545" y="17140"/>
                </a:cubicBezTo>
                <a:cubicBezTo>
                  <a:pt x="16561" y="17148"/>
                  <a:pt x="16578" y="17157"/>
                  <a:pt x="16594" y="17165"/>
                </a:cubicBezTo>
              </a:path>
              <a:path w="6004" h="5408">
                <a:moveTo>
                  <a:pt x="14213" y="15850"/>
                </a:moveTo>
                <a:cubicBezTo>
                  <a:pt x="14396" y="15850"/>
                  <a:pt x="14580" y="15863"/>
                  <a:pt x="14759" y="15825"/>
                </a:cubicBezTo>
                <a:cubicBezTo>
                  <a:pt x="14823" y="15811"/>
                  <a:pt x="14950" y="15807"/>
                  <a:pt x="15007" y="15776"/>
                </a:cubicBezTo>
                <a:cubicBezTo>
                  <a:pt x="15029" y="15754"/>
                  <a:pt x="15034" y="15745"/>
                  <a:pt x="15056" y="15751"/>
                </a:cubicBezTo>
              </a:path>
              <a:path w="6004" h="5408">
                <a:moveTo>
                  <a:pt x="14436" y="16098"/>
                </a:moveTo>
                <a:cubicBezTo>
                  <a:pt x="14452" y="16240"/>
                  <a:pt x="14452" y="16346"/>
                  <a:pt x="14511" y="16470"/>
                </a:cubicBezTo>
                <a:cubicBezTo>
                  <a:pt x="14532" y="16513"/>
                  <a:pt x="14551" y="16548"/>
                  <a:pt x="14560" y="16594"/>
                </a:cubicBezTo>
              </a:path>
              <a:path w="6004" h="5408">
                <a:moveTo>
                  <a:pt x="14784" y="16073"/>
                </a:moveTo>
                <a:cubicBezTo>
                  <a:pt x="14762" y="16190"/>
                  <a:pt x="14748" y="16285"/>
                  <a:pt x="14709" y="16396"/>
                </a:cubicBezTo>
                <a:cubicBezTo>
                  <a:pt x="14675" y="16494"/>
                  <a:pt x="14650" y="16598"/>
                  <a:pt x="14610" y="16694"/>
                </a:cubicBezTo>
                <a:cubicBezTo>
                  <a:pt x="14583" y="16760"/>
                  <a:pt x="14563" y="16827"/>
                  <a:pt x="14536" y="16892"/>
                </a:cubicBezTo>
              </a:path>
              <a:path w="6004" h="5408">
                <a:moveTo>
                  <a:pt x="14709" y="16694"/>
                </a:moveTo>
                <a:cubicBezTo>
                  <a:pt x="14751" y="16662"/>
                  <a:pt x="14777" y="16647"/>
                  <a:pt x="14833" y="16644"/>
                </a:cubicBezTo>
                <a:cubicBezTo>
                  <a:pt x="14912" y="16639"/>
                  <a:pt x="14898" y="16645"/>
                  <a:pt x="14932" y="16694"/>
                </a:cubicBezTo>
                <a:cubicBezTo>
                  <a:pt x="14971" y="16751"/>
                  <a:pt x="14917" y="16771"/>
                  <a:pt x="14883" y="16818"/>
                </a:cubicBezTo>
                <a:cubicBezTo>
                  <a:pt x="14855" y="16856"/>
                  <a:pt x="14801" y="16924"/>
                  <a:pt x="14784" y="16966"/>
                </a:cubicBezTo>
                <a:cubicBezTo>
                  <a:pt x="14769" y="17004"/>
                  <a:pt x="14777" y="17116"/>
                  <a:pt x="14808" y="17140"/>
                </a:cubicBezTo>
                <a:cubicBezTo>
                  <a:pt x="14878" y="17194"/>
                  <a:pt x="14908" y="17236"/>
                  <a:pt x="15007" y="17239"/>
                </a:cubicBezTo>
                <a:cubicBezTo>
                  <a:pt x="15048" y="17239"/>
                  <a:pt x="15090" y="17239"/>
                  <a:pt x="15131" y="17239"/>
                </a:cubicBezTo>
              </a:path>
              <a:path w="6004" h="5408">
                <a:moveTo>
                  <a:pt x="15677" y="14734"/>
                </a:moveTo>
                <a:cubicBezTo>
                  <a:pt x="15697" y="14759"/>
                  <a:pt x="15753" y="14834"/>
                  <a:pt x="15776" y="14883"/>
                </a:cubicBezTo>
                <a:cubicBezTo>
                  <a:pt x="15864" y="15070"/>
                  <a:pt x="15958" y="15256"/>
                  <a:pt x="16024" y="15453"/>
                </a:cubicBezTo>
                <a:cubicBezTo>
                  <a:pt x="16120" y="15738"/>
                  <a:pt x="16172" y="16002"/>
                  <a:pt x="16222" y="16297"/>
                </a:cubicBezTo>
                <a:cubicBezTo>
                  <a:pt x="16276" y="16614"/>
                  <a:pt x="16312" y="16917"/>
                  <a:pt x="16321" y="172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45000" y="3357720"/>
            <a:ext cx="196920" cy="420480"/>
          </a:xfrm>
          <a:custGeom>
            <a:avLst/>
            <a:gdLst/>
            <a:ahLst/>
            <a:rect l="l" t="t" r="r" b="b"/>
            <a:pathLst>
              <a:path w="546" h="1166">
                <a:moveTo>
                  <a:pt x="12626" y="9401"/>
                </a:moveTo>
                <a:cubicBezTo>
                  <a:pt x="12649" y="9433"/>
                  <a:pt x="12665" y="9484"/>
                  <a:pt x="12675" y="9525"/>
                </a:cubicBezTo>
                <a:cubicBezTo>
                  <a:pt x="12696" y="9608"/>
                  <a:pt x="12762" y="9640"/>
                  <a:pt x="12799" y="9699"/>
                </a:cubicBezTo>
                <a:cubicBezTo>
                  <a:pt x="12847" y="9777"/>
                  <a:pt x="12866" y="9829"/>
                  <a:pt x="12923" y="9897"/>
                </a:cubicBezTo>
                <a:cubicBezTo>
                  <a:pt x="12956" y="9936"/>
                  <a:pt x="13001" y="9922"/>
                  <a:pt x="13047" y="9922"/>
                </a:cubicBezTo>
                <a:cubicBezTo>
                  <a:pt x="13055" y="9922"/>
                  <a:pt x="13064" y="9922"/>
                  <a:pt x="13072" y="9922"/>
                </a:cubicBezTo>
              </a:path>
              <a:path w="546" h="1166">
                <a:moveTo>
                  <a:pt x="13171" y="9327"/>
                </a:moveTo>
                <a:cubicBezTo>
                  <a:pt x="13163" y="9432"/>
                  <a:pt x="13133" y="9521"/>
                  <a:pt x="13122" y="9624"/>
                </a:cubicBezTo>
                <a:cubicBezTo>
                  <a:pt x="13111" y="9725"/>
                  <a:pt x="13083" y="9822"/>
                  <a:pt x="13072" y="9922"/>
                </a:cubicBezTo>
                <a:cubicBezTo>
                  <a:pt x="13060" y="10030"/>
                  <a:pt x="13034" y="10137"/>
                  <a:pt x="13022" y="10244"/>
                </a:cubicBezTo>
                <a:cubicBezTo>
                  <a:pt x="13013" y="10327"/>
                  <a:pt x="12992" y="10389"/>
                  <a:pt x="12973" y="10468"/>
                </a:cubicBezTo>
                <a:cubicBezTo>
                  <a:pt x="12973" y="10492"/>
                  <a:pt x="12973" y="10500"/>
                  <a:pt x="12973" y="104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84840" y="3268800"/>
            <a:ext cx="384120" cy="303120"/>
          </a:xfrm>
          <a:custGeom>
            <a:avLst/>
            <a:gdLst/>
            <a:ahLst/>
            <a:rect l="l" t="t" r="r" b="b"/>
            <a:pathLst>
              <a:path w="1068" h="844">
                <a:moveTo>
                  <a:pt x="13593" y="9401"/>
                </a:moveTo>
                <a:cubicBezTo>
                  <a:pt x="13593" y="9538"/>
                  <a:pt x="13586" y="9643"/>
                  <a:pt x="13568" y="9773"/>
                </a:cubicBezTo>
                <a:cubicBezTo>
                  <a:pt x="13565" y="9793"/>
                  <a:pt x="13568" y="9962"/>
                  <a:pt x="13568" y="9897"/>
                </a:cubicBezTo>
              </a:path>
              <a:path w="1068" h="844">
                <a:moveTo>
                  <a:pt x="13643" y="9079"/>
                </a:moveTo>
                <a:cubicBezTo>
                  <a:pt x="13651" y="9079"/>
                  <a:pt x="13659" y="9079"/>
                  <a:pt x="13667" y="9079"/>
                </a:cubicBezTo>
              </a:path>
              <a:path w="1068" h="844">
                <a:moveTo>
                  <a:pt x="13816" y="9699"/>
                </a:moveTo>
                <a:cubicBezTo>
                  <a:pt x="13816" y="9790"/>
                  <a:pt x="13816" y="9798"/>
                  <a:pt x="13816" y="9847"/>
                </a:cubicBezTo>
                <a:cubicBezTo>
                  <a:pt x="13867" y="9831"/>
                  <a:pt x="13824" y="9799"/>
                  <a:pt x="13841" y="9748"/>
                </a:cubicBezTo>
                <a:cubicBezTo>
                  <a:pt x="13862" y="9685"/>
                  <a:pt x="13870" y="9608"/>
                  <a:pt x="13891" y="9550"/>
                </a:cubicBezTo>
                <a:cubicBezTo>
                  <a:pt x="13902" y="9521"/>
                  <a:pt x="13942" y="9415"/>
                  <a:pt x="13965" y="9401"/>
                </a:cubicBezTo>
                <a:cubicBezTo>
                  <a:pt x="13990" y="9401"/>
                  <a:pt x="13998" y="9401"/>
                  <a:pt x="14015" y="9401"/>
                </a:cubicBezTo>
                <a:cubicBezTo>
                  <a:pt x="14015" y="9471"/>
                  <a:pt x="14022" y="9558"/>
                  <a:pt x="14039" y="9624"/>
                </a:cubicBezTo>
                <a:cubicBezTo>
                  <a:pt x="14052" y="9674"/>
                  <a:pt x="14103" y="9751"/>
                  <a:pt x="14114" y="9773"/>
                </a:cubicBezTo>
                <a:cubicBezTo>
                  <a:pt x="14162" y="9867"/>
                  <a:pt x="14163" y="9847"/>
                  <a:pt x="14263" y="9847"/>
                </a:cubicBezTo>
                <a:cubicBezTo>
                  <a:pt x="14316" y="9847"/>
                  <a:pt x="14337" y="9841"/>
                  <a:pt x="14387" y="9823"/>
                </a:cubicBezTo>
              </a:path>
              <a:path w="1068" h="844">
                <a:moveTo>
                  <a:pt x="14536" y="9103"/>
                </a:moveTo>
                <a:cubicBezTo>
                  <a:pt x="14536" y="9294"/>
                  <a:pt x="14522" y="9492"/>
                  <a:pt x="14560" y="9674"/>
                </a:cubicBezTo>
                <a:cubicBezTo>
                  <a:pt x="14573" y="9737"/>
                  <a:pt x="14582" y="9796"/>
                  <a:pt x="14610" y="9847"/>
                </a:cubicBezTo>
                <a:cubicBezTo>
                  <a:pt x="14618" y="9864"/>
                  <a:pt x="14627" y="9880"/>
                  <a:pt x="14635" y="9897"/>
                </a:cubicBezTo>
              </a:path>
              <a:path w="1068" h="844">
                <a:moveTo>
                  <a:pt x="14263" y="9327"/>
                </a:moveTo>
                <a:cubicBezTo>
                  <a:pt x="14407" y="9356"/>
                  <a:pt x="14416" y="9353"/>
                  <a:pt x="14560" y="93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19800" y="3330720"/>
            <a:ext cx="19080" cy="206280"/>
          </a:xfrm>
          <a:custGeom>
            <a:avLst/>
            <a:gdLst/>
            <a:ahLst/>
            <a:rect l="l" t="t" r="r" b="b"/>
            <a:pathLst>
              <a:path w="51" h="572">
                <a:moveTo>
                  <a:pt x="15056" y="9252"/>
                </a:moveTo>
                <a:cubicBezTo>
                  <a:pt x="15090" y="9329"/>
                  <a:pt x="15106" y="9322"/>
                  <a:pt x="15106" y="9401"/>
                </a:cubicBezTo>
              </a:path>
              <a:path w="51" h="572">
                <a:moveTo>
                  <a:pt x="15081" y="9773"/>
                </a:moveTo>
                <a:cubicBezTo>
                  <a:pt x="15116" y="9773"/>
                  <a:pt x="15120" y="9782"/>
                  <a:pt x="15081" y="98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69000" y="3224160"/>
            <a:ext cx="1071360" cy="473040"/>
          </a:xfrm>
          <a:custGeom>
            <a:avLst/>
            <a:gdLst/>
            <a:ahLst/>
            <a:rect l="l" t="t" r="r" b="b"/>
            <a:pathLst>
              <a:path w="2977" h="1316">
                <a:moveTo>
                  <a:pt x="16123" y="9178"/>
                </a:moveTo>
                <a:cubicBezTo>
                  <a:pt x="16113" y="9266"/>
                  <a:pt x="16062" y="9318"/>
                  <a:pt x="16049" y="9401"/>
                </a:cubicBezTo>
                <a:cubicBezTo>
                  <a:pt x="16033" y="9501"/>
                  <a:pt x="16024" y="9596"/>
                  <a:pt x="16024" y="9699"/>
                </a:cubicBezTo>
                <a:cubicBezTo>
                  <a:pt x="16024" y="9774"/>
                  <a:pt x="16054" y="9838"/>
                  <a:pt x="16098" y="9897"/>
                </a:cubicBezTo>
                <a:cubicBezTo>
                  <a:pt x="16123" y="9930"/>
                  <a:pt x="16137" y="9922"/>
                  <a:pt x="16173" y="9922"/>
                </a:cubicBezTo>
              </a:path>
              <a:path w="2977" h="1316">
                <a:moveTo>
                  <a:pt x="16520" y="9178"/>
                </a:moveTo>
                <a:cubicBezTo>
                  <a:pt x="16503" y="9266"/>
                  <a:pt x="16473" y="9362"/>
                  <a:pt x="16470" y="9451"/>
                </a:cubicBezTo>
                <a:cubicBezTo>
                  <a:pt x="16466" y="9559"/>
                  <a:pt x="16458" y="9671"/>
                  <a:pt x="16495" y="9773"/>
                </a:cubicBezTo>
                <a:cubicBezTo>
                  <a:pt x="16514" y="9824"/>
                  <a:pt x="16574" y="9913"/>
                  <a:pt x="16619" y="9922"/>
                </a:cubicBezTo>
                <a:cubicBezTo>
                  <a:pt x="16691" y="9936"/>
                  <a:pt x="16831" y="9941"/>
                  <a:pt x="16892" y="9897"/>
                </a:cubicBezTo>
                <a:cubicBezTo>
                  <a:pt x="16953" y="9853"/>
                  <a:pt x="17029" y="9750"/>
                  <a:pt x="17041" y="9674"/>
                </a:cubicBezTo>
                <a:cubicBezTo>
                  <a:pt x="17058" y="9570"/>
                  <a:pt x="17026" y="9494"/>
                  <a:pt x="16991" y="9401"/>
                </a:cubicBezTo>
                <a:cubicBezTo>
                  <a:pt x="16946" y="9283"/>
                  <a:pt x="16845" y="9220"/>
                  <a:pt x="16743" y="9153"/>
                </a:cubicBezTo>
                <a:cubicBezTo>
                  <a:pt x="16654" y="9094"/>
                  <a:pt x="16597" y="9103"/>
                  <a:pt x="16495" y="9103"/>
                </a:cubicBezTo>
                <a:cubicBezTo>
                  <a:pt x="16429" y="9103"/>
                  <a:pt x="16432" y="9085"/>
                  <a:pt x="16421" y="9153"/>
                </a:cubicBezTo>
              </a:path>
              <a:path w="2977" h="1316">
                <a:moveTo>
                  <a:pt x="17289" y="9773"/>
                </a:moveTo>
                <a:cubicBezTo>
                  <a:pt x="17257" y="9927"/>
                  <a:pt x="17247" y="10018"/>
                  <a:pt x="17190" y="10145"/>
                </a:cubicBezTo>
                <a:cubicBezTo>
                  <a:pt x="17170" y="10190"/>
                  <a:pt x="17151" y="10226"/>
                  <a:pt x="17140" y="10269"/>
                </a:cubicBezTo>
              </a:path>
              <a:path w="2977" h="1316">
                <a:moveTo>
                  <a:pt x="17562" y="9401"/>
                </a:moveTo>
                <a:cubicBezTo>
                  <a:pt x="17699" y="9401"/>
                  <a:pt x="17856" y="9424"/>
                  <a:pt x="17983" y="9376"/>
                </a:cubicBezTo>
              </a:path>
              <a:path w="2977" h="1316">
                <a:moveTo>
                  <a:pt x="18256" y="9178"/>
                </a:moveTo>
                <a:cubicBezTo>
                  <a:pt x="18237" y="9280"/>
                  <a:pt x="18264" y="9327"/>
                  <a:pt x="18182" y="9327"/>
                </a:cubicBezTo>
                <a:cubicBezTo>
                  <a:pt x="18182" y="9368"/>
                  <a:pt x="18182" y="9376"/>
                  <a:pt x="18182" y="9401"/>
                </a:cubicBezTo>
                <a:cubicBezTo>
                  <a:pt x="18273" y="9401"/>
                  <a:pt x="18364" y="9401"/>
                  <a:pt x="18455" y="9401"/>
                </a:cubicBezTo>
              </a:path>
              <a:path w="2977" h="1316">
                <a:moveTo>
                  <a:pt x="18479" y="9029"/>
                </a:moveTo>
                <a:cubicBezTo>
                  <a:pt x="18456" y="9217"/>
                  <a:pt x="18436" y="9347"/>
                  <a:pt x="18455" y="9525"/>
                </a:cubicBezTo>
                <a:cubicBezTo>
                  <a:pt x="18466" y="9626"/>
                  <a:pt x="18510" y="9680"/>
                  <a:pt x="18529" y="9773"/>
                </a:cubicBezTo>
                <a:cubicBezTo>
                  <a:pt x="18540" y="9828"/>
                  <a:pt x="18543" y="9873"/>
                  <a:pt x="18579" y="9897"/>
                </a:cubicBezTo>
              </a:path>
              <a:path w="2977" h="1316">
                <a:moveTo>
                  <a:pt x="18703" y="8954"/>
                </a:moveTo>
                <a:cubicBezTo>
                  <a:pt x="18817" y="9069"/>
                  <a:pt x="18870" y="9170"/>
                  <a:pt x="18926" y="9327"/>
                </a:cubicBezTo>
                <a:cubicBezTo>
                  <a:pt x="18969" y="9448"/>
                  <a:pt x="18996" y="9572"/>
                  <a:pt x="19000" y="9699"/>
                </a:cubicBezTo>
                <a:cubicBezTo>
                  <a:pt x="19002" y="9763"/>
                  <a:pt x="18997" y="9922"/>
                  <a:pt x="18951" y="9971"/>
                </a:cubicBezTo>
                <a:cubicBezTo>
                  <a:pt x="18885" y="10004"/>
                  <a:pt x="18852" y="10021"/>
                  <a:pt x="18802" y="100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21080" y="3660840"/>
            <a:ext cx="3529080" cy="689040"/>
          </a:xfrm>
          <a:custGeom>
            <a:avLst/>
            <a:gdLst/>
            <a:ahLst/>
            <a:rect l="l" t="t" r="r" b="b"/>
            <a:pathLst>
              <a:path w="9799" h="1911">
                <a:moveTo>
                  <a:pt x="12055" y="10641"/>
                </a:moveTo>
                <a:cubicBezTo>
                  <a:pt x="12058" y="10608"/>
                  <a:pt x="11998" y="10624"/>
                  <a:pt x="12005" y="10592"/>
                </a:cubicBezTo>
                <a:cubicBezTo>
                  <a:pt x="12019" y="10528"/>
                  <a:pt x="12033" y="10470"/>
                  <a:pt x="12080" y="10418"/>
                </a:cubicBezTo>
                <a:cubicBezTo>
                  <a:pt x="12134" y="10359"/>
                  <a:pt x="12210" y="10304"/>
                  <a:pt x="12278" y="10269"/>
                </a:cubicBezTo>
                <a:cubicBezTo>
                  <a:pt x="12447" y="10182"/>
                  <a:pt x="12692" y="10170"/>
                  <a:pt x="12874" y="10170"/>
                </a:cubicBezTo>
                <a:cubicBezTo>
                  <a:pt x="13037" y="10170"/>
                  <a:pt x="13191" y="10226"/>
                  <a:pt x="13345" y="10269"/>
                </a:cubicBezTo>
                <a:cubicBezTo>
                  <a:pt x="13507" y="10315"/>
                  <a:pt x="13669" y="10371"/>
                  <a:pt x="13816" y="10443"/>
                </a:cubicBezTo>
                <a:cubicBezTo>
                  <a:pt x="13965" y="10516"/>
                  <a:pt x="14106" y="10600"/>
                  <a:pt x="14263" y="10666"/>
                </a:cubicBezTo>
                <a:cubicBezTo>
                  <a:pt x="14436" y="10739"/>
                  <a:pt x="14620" y="10785"/>
                  <a:pt x="14808" y="10815"/>
                </a:cubicBezTo>
                <a:cubicBezTo>
                  <a:pt x="14983" y="10843"/>
                  <a:pt x="15129" y="10828"/>
                  <a:pt x="15304" y="10815"/>
                </a:cubicBezTo>
                <a:cubicBezTo>
                  <a:pt x="15534" y="10798"/>
                  <a:pt x="15728" y="10745"/>
                  <a:pt x="15949" y="10691"/>
                </a:cubicBezTo>
                <a:cubicBezTo>
                  <a:pt x="16173" y="10636"/>
                  <a:pt x="16393" y="10597"/>
                  <a:pt x="16619" y="10567"/>
                </a:cubicBezTo>
                <a:cubicBezTo>
                  <a:pt x="16789" y="10545"/>
                  <a:pt x="16966" y="10521"/>
                  <a:pt x="17140" y="10542"/>
                </a:cubicBezTo>
                <a:cubicBezTo>
                  <a:pt x="17553" y="10591"/>
                  <a:pt x="17978" y="10694"/>
                  <a:pt x="18380" y="10790"/>
                </a:cubicBezTo>
                <a:cubicBezTo>
                  <a:pt x="18578" y="10837"/>
                  <a:pt x="18775" y="10877"/>
                  <a:pt x="18976" y="10914"/>
                </a:cubicBezTo>
                <a:cubicBezTo>
                  <a:pt x="19148" y="10946"/>
                  <a:pt x="19323" y="10978"/>
                  <a:pt x="19496" y="10988"/>
                </a:cubicBezTo>
                <a:cubicBezTo>
                  <a:pt x="19639" y="10996"/>
                  <a:pt x="19803" y="10988"/>
                  <a:pt x="19943" y="10964"/>
                </a:cubicBezTo>
                <a:cubicBezTo>
                  <a:pt x="20069" y="10943"/>
                  <a:pt x="20191" y="10907"/>
                  <a:pt x="20315" y="10889"/>
                </a:cubicBezTo>
                <a:cubicBezTo>
                  <a:pt x="20449" y="10869"/>
                  <a:pt x="20577" y="10847"/>
                  <a:pt x="20712" y="10840"/>
                </a:cubicBezTo>
                <a:cubicBezTo>
                  <a:pt x="21030" y="10823"/>
                  <a:pt x="21341" y="10894"/>
                  <a:pt x="21654" y="10889"/>
                </a:cubicBezTo>
                <a:cubicBezTo>
                  <a:pt x="21710" y="10888"/>
                  <a:pt x="21760" y="10891"/>
                  <a:pt x="21803" y="10864"/>
                </a:cubicBezTo>
                <a:cubicBezTo>
                  <a:pt x="21803" y="10831"/>
                  <a:pt x="21803" y="10815"/>
                  <a:pt x="21803" y="10790"/>
                </a:cubicBezTo>
              </a:path>
              <a:path w="9799" h="1911">
                <a:moveTo>
                  <a:pt x="12229" y="11311"/>
                </a:moveTo>
                <a:cubicBezTo>
                  <a:pt x="12253" y="11366"/>
                  <a:pt x="12265" y="11436"/>
                  <a:pt x="12303" y="11485"/>
                </a:cubicBezTo>
                <a:cubicBezTo>
                  <a:pt x="12365" y="11564"/>
                  <a:pt x="12415" y="11650"/>
                  <a:pt x="12477" y="11733"/>
                </a:cubicBezTo>
                <a:cubicBezTo>
                  <a:pt x="12548" y="11828"/>
                  <a:pt x="12613" y="11903"/>
                  <a:pt x="12700" y="11981"/>
                </a:cubicBezTo>
                <a:cubicBezTo>
                  <a:pt x="12756" y="12031"/>
                  <a:pt x="12800" y="12065"/>
                  <a:pt x="12874" y="12080"/>
                </a:cubicBezTo>
              </a:path>
              <a:path w="9799" h="1911">
                <a:moveTo>
                  <a:pt x="12725" y="11212"/>
                </a:moveTo>
                <a:cubicBezTo>
                  <a:pt x="12660" y="11303"/>
                  <a:pt x="12575" y="11407"/>
                  <a:pt x="12526" y="11509"/>
                </a:cubicBezTo>
                <a:cubicBezTo>
                  <a:pt x="12494" y="11577"/>
                  <a:pt x="12456" y="11703"/>
                  <a:pt x="12402" y="11757"/>
                </a:cubicBezTo>
                <a:cubicBezTo>
                  <a:pt x="12363" y="11796"/>
                  <a:pt x="12321" y="11826"/>
                  <a:pt x="12303" y="11881"/>
                </a:cubicBezTo>
                <a:cubicBezTo>
                  <a:pt x="12303" y="11906"/>
                  <a:pt x="12303" y="11914"/>
                  <a:pt x="12303" y="11881"/>
                </a:cubicBezTo>
              </a:path>
              <a:path w="9799" h="1911">
                <a:moveTo>
                  <a:pt x="12998" y="11559"/>
                </a:moveTo>
                <a:cubicBezTo>
                  <a:pt x="12998" y="11589"/>
                  <a:pt x="12998" y="11953"/>
                  <a:pt x="12998" y="11832"/>
                </a:cubicBezTo>
              </a:path>
              <a:path w="9799" h="1911">
                <a:moveTo>
                  <a:pt x="12973" y="11088"/>
                </a:moveTo>
                <a:cubicBezTo>
                  <a:pt x="12995" y="11066"/>
                  <a:pt x="13000" y="11057"/>
                  <a:pt x="13022" y="11063"/>
                </a:cubicBezTo>
              </a:path>
              <a:path w="9799" h="1911">
                <a:moveTo>
                  <a:pt x="13246" y="11683"/>
                </a:moveTo>
                <a:cubicBezTo>
                  <a:pt x="13246" y="11749"/>
                  <a:pt x="13246" y="11815"/>
                  <a:pt x="13246" y="11881"/>
                </a:cubicBezTo>
                <a:cubicBezTo>
                  <a:pt x="13246" y="11799"/>
                  <a:pt x="13258" y="11734"/>
                  <a:pt x="13271" y="11658"/>
                </a:cubicBezTo>
                <a:cubicBezTo>
                  <a:pt x="13279" y="11613"/>
                  <a:pt x="13277" y="11527"/>
                  <a:pt x="13295" y="11485"/>
                </a:cubicBezTo>
                <a:cubicBezTo>
                  <a:pt x="13311" y="11446"/>
                  <a:pt x="13330" y="11420"/>
                  <a:pt x="13370" y="11410"/>
                </a:cubicBezTo>
                <a:cubicBezTo>
                  <a:pt x="13370" y="11464"/>
                  <a:pt x="13379" y="11511"/>
                  <a:pt x="13395" y="11559"/>
                </a:cubicBezTo>
                <a:cubicBezTo>
                  <a:pt x="13418" y="11626"/>
                  <a:pt x="13425" y="11675"/>
                  <a:pt x="13469" y="11733"/>
                </a:cubicBezTo>
                <a:cubicBezTo>
                  <a:pt x="13520" y="11801"/>
                  <a:pt x="13581" y="11877"/>
                  <a:pt x="13667" y="11906"/>
                </a:cubicBezTo>
                <a:cubicBezTo>
                  <a:pt x="13718" y="11923"/>
                  <a:pt x="13772" y="11900"/>
                  <a:pt x="13816" y="11881"/>
                </a:cubicBezTo>
              </a:path>
              <a:path w="9799" h="1911">
                <a:moveTo>
                  <a:pt x="13891" y="11361"/>
                </a:moveTo>
                <a:cubicBezTo>
                  <a:pt x="13891" y="11286"/>
                  <a:pt x="13916" y="11253"/>
                  <a:pt x="13866" y="11261"/>
                </a:cubicBezTo>
                <a:cubicBezTo>
                  <a:pt x="13832" y="11306"/>
                  <a:pt x="13819" y="11350"/>
                  <a:pt x="13816" y="11410"/>
                </a:cubicBezTo>
                <a:cubicBezTo>
                  <a:pt x="13811" y="11502"/>
                  <a:pt x="13829" y="11571"/>
                  <a:pt x="13841" y="11658"/>
                </a:cubicBezTo>
                <a:cubicBezTo>
                  <a:pt x="13851" y="11729"/>
                  <a:pt x="13875" y="11771"/>
                  <a:pt x="13891" y="11832"/>
                </a:cubicBezTo>
                <a:cubicBezTo>
                  <a:pt x="13891" y="11876"/>
                  <a:pt x="13888" y="11889"/>
                  <a:pt x="13915" y="11906"/>
                </a:cubicBezTo>
              </a:path>
              <a:path w="9799" h="1911">
                <a:moveTo>
                  <a:pt x="13593" y="11286"/>
                </a:moveTo>
                <a:cubicBezTo>
                  <a:pt x="13670" y="11257"/>
                  <a:pt x="13731" y="11261"/>
                  <a:pt x="13816" y="11261"/>
                </a:cubicBezTo>
                <a:cubicBezTo>
                  <a:pt x="13874" y="11261"/>
                  <a:pt x="13932" y="11261"/>
                  <a:pt x="13990" y="11261"/>
                </a:cubicBezTo>
              </a:path>
              <a:path w="9799" h="1911">
                <a:moveTo>
                  <a:pt x="14436" y="11137"/>
                </a:moveTo>
                <a:cubicBezTo>
                  <a:pt x="14522" y="11137"/>
                  <a:pt x="14474" y="11159"/>
                  <a:pt x="14461" y="11212"/>
                </a:cubicBezTo>
              </a:path>
              <a:path w="9799" h="1911">
                <a:moveTo>
                  <a:pt x="14362" y="11633"/>
                </a:moveTo>
                <a:cubicBezTo>
                  <a:pt x="14384" y="11677"/>
                  <a:pt x="14387" y="11689"/>
                  <a:pt x="14412" y="117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97280" y="4089240"/>
            <a:ext cx="3473640" cy="696960"/>
          </a:xfrm>
          <a:custGeom>
            <a:avLst/>
            <a:gdLst/>
            <a:ahLst/>
            <a:rect l="l" t="t" r="r" b="b"/>
            <a:pathLst>
              <a:path w="9650" h="1935">
                <a:moveTo>
                  <a:pt x="13196" y="12154"/>
                </a:moveTo>
                <a:cubicBezTo>
                  <a:pt x="13190" y="12194"/>
                  <a:pt x="13187" y="12219"/>
                  <a:pt x="13171" y="12254"/>
                </a:cubicBezTo>
                <a:cubicBezTo>
                  <a:pt x="13138" y="12327"/>
                  <a:pt x="13127" y="12375"/>
                  <a:pt x="13097" y="12452"/>
                </a:cubicBezTo>
                <a:cubicBezTo>
                  <a:pt x="13068" y="12528"/>
                  <a:pt x="13058" y="12619"/>
                  <a:pt x="13047" y="12700"/>
                </a:cubicBezTo>
                <a:cubicBezTo>
                  <a:pt x="13029" y="12830"/>
                  <a:pt x="13097" y="12879"/>
                  <a:pt x="13146" y="12973"/>
                </a:cubicBezTo>
                <a:cubicBezTo>
                  <a:pt x="13199" y="13074"/>
                  <a:pt x="13246" y="13120"/>
                  <a:pt x="13370" y="13146"/>
                </a:cubicBezTo>
                <a:cubicBezTo>
                  <a:pt x="13414" y="13155"/>
                  <a:pt x="13510" y="13155"/>
                  <a:pt x="13543" y="13122"/>
                </a:cubicBezTo>
                <a:cubicBezTo>
                  <a:pt x="13601" y="13064"/>
                  <a:pt x="13624" y="12997"/>
                  <a:pt x="13643" y="12923"/>
                </a:cubicBezTo>
                <a:cubicBezTo>
                  <a:pt x="13666" y="12831"/>
                  <a:pt x="13684" y="12722"/>
                  <a:pt x="13667" y="12626"/>
                </a:cubicBezTo>
                <a:cubicBezTo>
                  <a:pt x="13648" y="12517"/>
                  <a:pt x="13606" y="12349"/>
                  <a:pt x="13543" y="12254"/>
                </a:cubicBezTo>
                <a:cubicBezTo>
                  <a:pt x="13508" y="12201"/>
                  <a:pt x="13431" y="12104"/>
                  <a:pt x="13370" y="12080"/>
                </a:cubicBezTo>
                <a:cubicBezTo>
                  <a:pt x="13303" y="12054"/>
                  <a:pt x="13260" y="12056"/>
                  <a:pt x="13196" y="12080"/>
                </a:cubicBezTo>
                <a:cubicBezTo>
                  <a:pt x="13160" y="12093"/>
                  <a:pt x="13119" y="12126"/>
                  <a:pt x="13122" y="12179"/>
                </a:cubicBezTo>
                <a:cubicBezTo>
                  <a:pt x="13122" y="12207"/>
                  <a:pt x="13124" y="12218"/>
                  <a:pt x="13146" y="12229"/>
                </a:cubicBezTo>
              </a:path>
              <a:path w="9650" h="1935">
                <a:moveTo>
                  <a:pt x="13965" y="12551"/>
                </a:moveTo>
                <a:cubicBezTo>
                  <a:pt x="14051" y="12535"/>
                  <a:pt x="14098" y="12551"/>
                  <a:pt x="14188" y="12551"/>
                </a:cubicBezTo>
                <a:cubicBezTo>
                  <a:pt x="14240" y="12551"/>
                  <a:pt x="14258" y="12550"/>
                  <a:pt x="14288" y="12526"/>
                </a:cubicBezTo>
              </a:path>
              <a:path w="9650" h="1935">
                <a:moveTo>
                  <a:pt x="14015" y="12700"/>
                </a:moveTo>
                <a:cubicBezTo>
                  <a:pt x="14137" y="12744"/>
                  <a:pt x="14187" y="12750"/>
                  <a:pt x="14312" y="12750"/>
                </a:cubicBezTo>
              </a:path>
              <a:path w="9650" h="1935">
                <a:moveTo>
                  <a:pt x="15180" y="12005"/>
                </a:moveTo>
                <a:cubicBezTo>
                  <a:pt x="15180" y="12126"/>
                  <a:pt x="15186" y="12238"/>
                  <a:pt x="15205" y="12353"/>
                </a:cubicBezTo>
                <a:cubicBezTo>
                  <a:pt x="15211" y="12388"/>
                  <a:pt x="15205" y="12442"/>
                  <a:pt x="15205" y="12477"/>
                </a:cubicBezTo>
              </a:path>
              <a:path w="9650" h="1935">
                <a:moveTo>
                  <a:pt x="14883" y="12576"/>
                </a:moveTo>
                <a:cubicBezTo>
                  <a:pt x="15104" y="12576"/>
                  <a:pt x="15343" y="12552"/>
                  <a:pt x="15553" y="12601"/>
                </a:cubicBezTo>
                <a:cubicBezTo>
                  <a:pt x="15561" y="12601"/>
                  <a:pt x="15569" y="12601"/>
                  <a:pt x="15577" y="12601"/>
                </a:cubicBezTo>
              </a:path>
              <a:path w="9650" h="1935">
                <a:moveTo>
                  <a:pt x="15056" y="12849"/>
                </a:moveTo>
                <a:cubicBezTo>
                  <a:pt x="15095" y="12810"/>
                  <a:pt x="15126" y="12788"/>
                  <a:pt x="15180" y="12774"/>
                </a:cubicBezTo>
                <a:cubicBezTo>
                  <a:pt x="15218" y="12764"/>
                  <a:pt x="15269" y="12752"/>
                  <a:pt x="15304" y="12750"/>
                </a:cubicBezTo>
                <a:cubicBezTo>
                  <a:pt x="15332" y="12748"/>
                  <a:pt x="15413" y="12751"/>
                  <a:pt x="15429" y="12774"/>
                </a:cubicBezTo>
                <a:cubicBezTo>
                  <a:pt x="15443" y="12795"/>
                  <a:pt x="15472" y="12827"/>
                  <a:pt x="15453" y="12874"/>
                </a:cubicBezTo>
                <a:cubicBezTo>
                  <a:pt x="15442" y="12900"/>
                  <a:pt x="15400" y="12980"/>
                  <a:pt x="15379" y="12998"/>
                </a:cubicBezTo>
                <a:cubicBezTo>
                  <a:pt x="15327" y="13042"/>
                  <a:pt x="15287" y="13080"/>
                  <a:pt x="15230" y="13122"/>
                </a:cubicBezTo>
                <a:cubicBezTo>
                  <a:pt x="15182" y="13157"/>
                  <a:pt x="15157" y="13206"/>
                  <a:pt x="15131" y="13246"/>
                </a:cubicBezTo>
                <a:cubicBezTo>
                  <a:pt x="15108" y="13269"/>
                  <a:pt x="15097" y="13277"/>
                  <a:pt x="15131" y="13271"/>
                </a:cubicBezTo>
                <a:cubicBezTo>
                  <a:pt x="15170" y="13261"/>
                  <a:pt x="15193" y="13233"/>
                  <a:pt x="15230" y="13221"/>
                </a:cubicBezTo>
                <a:cubicBezTo>
                  <a:pt x="15309" y="13195"/>
                  <a:pt x="15313" y="13176"/>
                  <a:pt x="15429" y="13221"/>
                </a:cubicBezTo>
                <a:cubicBezTo>
                  <a:pt x="15477" y="13239"/>
                  <a:pt x="15553" y="13249"/>
                  <a:pt x="15602" y="13271"/>
                </a:cubicBezTo>
                <a:cubicBezTo>
                  <a:pt x="15656" y="13295"/>
                  <a:pt x="15675" y="13308"/>
                  <a:pt x="15726" y="13271"/>
                </a:cubicBezTo>
              </a:path>
              <a:path w="9650" h="1935">
                <a:moveTo>
                  <a:pt x="16049" y="12353"/>
                </a:moveTo>
                <a:cubicBezTo>
                  <a:pt x="16059" y="12403"/>
                  <a:pt x="16082" y="12457"/>
                  <a:pt x="16098" y="12502"/>
                </a:cubicBezTo>
                <a:cubicBezTo>
                  <a:pt x="16128" y="12585"/>
                  <a:pt x="16177" y="12654"/>
                  <a:pt x="16222" y="12725"/>
                </a:cubicBezTo>
                <a:cubicBezTo>
                  <a:pt x="16275" y="12808"/>
                  <a:pt x="16320" y="12933"/>
                  <a:pt x="16396" y="12998"/>
                </a:cubicBezTo>
                <a:cubicBezTo>
                  <a:pt x="16440" y="13036"/>
                  <a:pt x="16487" y="13072"/>
                  <a:pt x="16545" y="13072"/>
                </a:cubicBezTo>
              </a:path>
              <a:path w="9650" h="1935">
                <a:moveTo>
                  <a:pt x="16421" y="12303"/>
                </a:moveTo>
                <a:cubicBezTo>
                  <a:pt x="16336" y="12400"/>
                  <a:pt x="16307" y="12514"/>
                  <a:pt x="16247" y="12626"/>
                </a:cubicBezTo>
                <a:cubicBezTo>
                  <a:pt x="16202" y="12710"/>
                  <a:pt x="16190" y="12786"/>
                  <a:pt x="16148" y="12874"/>
                </a:cubicBezTo>
                <a:cubicBezTo>
                  <a:pt x="16121" y="12931"/>
                  <a:pt x="16089" y="12994"/>
                  <a:pt x="16073" y="13047"/>
                </a:cubicBezTo>
                <a:cubicBezTo>
                  <a:pt x="16073" y="13072"/>
                  <a:pt x="16073" y="13080"/>
                  <a:pt x="16098" y="13072"/>
                </a:cubicBezTo>
              </a:path>
              <a:path w="9650" h="1935">
                <a:moveTo>
                  <a:pt x="16570" y="11931"/>
                </a:moveTo>
                <a:cubicBezTo>
                  <a:pt x="16633" y="11891"/>
                  <a:pt x="16696" y="11850"/>
                  <a:pt x="16768" y="11832"/>
                </a:cubicBezTo>
                <a:cubicBezTo>
                  <a:pt x="16788" y="11827"/>
                  <a:pt x="16857" y="11862"/>
                  <a:pt x="16867" y="11881"/>
                </a:cubicBezTo>
                <a:cubicBezTo>
                  <a:pt x="16889" y="11924"/>
                  <a:pt x="16843" y="11977"/>
                  <a:pt x="16818" y="12005"/>
                </a:cubicBezTo>
                <a:cubicBezTo>
                  <a:pt x="16797" y="12028"/>
                  <a:pt x="16756" y="12076"/>
                  <a:pt x="16743" y="12105"/>
                </a:cubicBezTo>
                <a:cubicBezTo>
                  <a:pt x="16731" y="12132"/>
                  <a:pt x="16741" y="12190"/>
                  <a:pt x="16768" y="12204"/>
                </a:cubicBezTo>
                <a:cubicBezTo>
                  <a:pt x="16824" y="12232"/>
                  <a:pt x="16885" y="12213"/>
                  <a:pt x="16942" y="12229"/>
                </a:cubicBezTo>
                <a:cubicBezTo>
                  <a:pt x="16991" y="12254"/>
                  <a:pt x="17008" y="12262"/>
                  <a:pt x="17041" y="12229"/>
                </a:cubicBezTo>
              </a:path>
              <a:path w="9650" h="1935">
                <a:moveTo>
                  <a:pt x="17041" y="12650"/>
                </a:moveTo>
                <a:cubicBezTo>
                  <a:pt x="17100" y="12650"/>
                  <a:pt x="17190" y="12680"/>
                  <a:pt x="17239" y="12675"/>
                </a:cubicBezTo>
                <a:cubicBezTo>
                  <a:pt x="17295" y="12670"/>
                  <a:pt x="17350" y="12650"/>
                  <a:pt x="17413" y="12650"/>
                </a:cubicBezTo>
              </a:path>
              <a:path w="9650" h="1935">
                <a:moveTo>
                  <a:pt x="17959" y="12154"/>
                </a:moveTo>
                <a:cubicBezTo>
                  <a:pt x="17919" y="12194"/>
                  <a:pt x="17852" y="12249"/>
                  <a:pt x="17835" y="12303"/>
                </a:cubicBezTo>
                <a:cubicBezTo>
                  <a:pt x="17823" y="12340"/>
                  <a:pt x="17836" y="12376"/>
                  <a:pt x="17859" y="12402"/>
                </a:cubicBezTo>
                <a:cubicBezTo>
                  <a:pt x="17892" y="12439"/>
                  <a:pt x="17934" y="12468"/>
                  <a:pt x="17983" y="12477"/>
                </a:cubicBezTo>
                <a:cubicBezTo>
                  <a:pt x="18059" y="12491"/>
                  <a:pt x="18126" y="12502"/>
                  <a:pt x="18207" y="12502"/>
                </a:cubicBezTo>
              </a:path>
              <a:path w="9650" h="1935">
                <a:moveTo>
                  <a:pt x="18355" y="11857"/>
                </a:moveTo>
                <a:cubicBezTo>
                  <a:pt x="18295" y="11987"/>
                  <a:pt x="18260" y="12085"/>
                  <a:pt x="18256" y="12229"/>
                </a:cubicBezTo>
                <a:cubicBezTo>
                  <a:pt x="18250" y="12445"/>
                  <a:pt x="18311" y="12660"/>
                  <a:pt x="18331" y="12874"/>
                </a:cubicBezTo>
                <a:cubicBezTo>
                  <a:pt x="18331" y="13006"/>
                  <a:pt x="18331" y="13055"/>
                  <a:pt x="18331" y="13146"/>
                </a:cubicBezTo>
              </a:path>
              <a:path w="9650" h="1935">
                <a:moveTo>
                  <a:pt x="20836" y="11906"/>
                </a:moveTo>
                <a:cubicBezTo>
                  <a:pt x="20798" y="11831"/>
                  <a:pt x="20771" y="11791"/>
                  <a:pt x="20687" y="11757"/>
                </a:cubicBezTo>
                <a:cubicBezTo>
                  <a:pt x="20581" y="11714"/>
                  <a:pt x="20503" y="11708"/>
                  <a:pt x="20389" y="11708"/>
                </a:cubicBezTo>
                <a:cubicBezTo>
                  <a:pt x="20299" y="11708"/>
                  <a:pt x="20220" y="11706"/>
                  <a:pt x="20141" y="11757"/>
                </a:cubicBezTo>
                <a:cubicBezTo>
                  <a:pt x="20077" y="11798"/>
                  <a:pt x="20086" y="11873"/>
                  <a:pt x="20117" y="11931"/>
                </a:cubicBezTo>
                <a:cubicBezTo>
                  <a:pt x="20171" y="12032"/>
                  <a:pt x="20285" y="12124"/>
                  <a:pt x="20365" y="12204"/>
                </a:cubicBezTo>
                <a:cubicBezTo>
                  <a:pt x="20481" y="12320"/>
                  <a:pt x="20601" y="12435"/>
                  <a:pt x="20687" y="12576"/>
                </a:cubicBezTo>
                <a:cubicBezTo>
                  <a:pt x="20718" y="12627"/>
                  <a:pt x="20802" y="12778"/>
                  <a:pt x="20762" y="12849"/>
                </a:cubicBezTo>
                <a:cubicBezTo>
                  <a:pt x="20727" y="12911"/>
                  <a:pt x="20656" y="12942"/>
                  <a:pt x="20588" y="12923"/>
                </a:cubicBezTo>
                <a:cubicBezTo>
                  <a:pt x="20528" y="12906"/>
                  <a:pt x="20427" y="12843"/>
                  <a:pt x="20389" y="12799"/>
                </a:cubicBezTo>
                <a:cubicBezTo>
                  <a:pt x="20346" y="12749"/>
                  <a:pt x="20342" y="12614"/>
                  <a:pt x="20340" y="12551"/>
                </a:cubicBezTo>
                <a:cubicBezTo>
                  <a:pt x="20335" y="12410"/>
                  <a:pt x="20398" y="12246"/>
                  <a:pt x="20464" y="12129"/>
                </a:cubicBezTo>
                <a:cubicBezTo>
                  <a:pt x="20509" y="12048"/>
                  <a:pt x="20593" y="11986"/>
                  <a:pt x="20638" y="11906"/>
                </a:cubicBezTo>
                <a:cubicBezTo>
                  <a:pt x="20677" y="11836"/>
                  <a:pt x="20721" y="11803"/>
                  <a:pt x="20762" y="11733"/>
                </a:cubicBezTo>
                <a:cubicBezTo>
                  <a:pt x="20762" y="11705"/>
                  <a:pt x="20764" y="11694"/>
                  <a:pt x="20786" y="11683"/>
                </a:cubicBezTo>
              </a:path>
              <a:path w="9650" h="1935">
                <a:moveTo>
                  <a:pt x="20910" y="12204"/>
                </a:moveTo>
                <a:cubicBezTo>
                  <a:pt x="21001" y="12174"/>
                  <a:pt x="21085" y="12179"/>
                  <a:pt x="21183" y="12179"/>
                </a:cubicBezTo>
                <a:cubicBezTo>
                  <a:pt x="21208" y="12179"/>
                  <a:pt x="21233" y="12179"/>
                  <a:pt x="21258" y="12179"/>
                </a:cubicBezTo>
              </a:path>
              <a:path w="9650" h="1935">
                <a:moveTo>
                  <a:pt x="20960" y="12402"/>
                </a:moveTo>
                <a:cubicBezTo>
                  <a:pt x="21165" y="12448"/>
                  <a:pt x="21221" y="12465"/>
                  <a:pt x="21357" y="12452"/>
                </a:cubicBezTo>
              </a:path>
              <a:path w="9650" h="1935">
                <a:moveTo>
                  <a:pt x="21654" y="12179"/>
                </a:moveTo>
                <a:cubicBezTo>
                  <a:pt x="21756" y="12381"/>
                  <a:pt x="21864" y="12516"/>
                  <a:pt x="22027" y="12675"/>
                </a:cubicBezTo>
                <a:cubicBezTo>
                  <a:pt x="22112" y="12757"/>
                  <a:pt x="22220" y="12867"/>
                  <a:pt x="22324" y="12923"/>
                </a:cubicBezTo>
                <a:cubicBezTo>
                  <a:pt x="22349" y="12931"/>
                  <a:pt x="22374" y="12940"/>
                  <a:pt x="22399" y="12948"/>
                </a:cubicBezTo>
              </a:path>
              <a:path w="9650" h="1935">
                <a:moveTo>
                  <a:pt x="22027" y="12030"/>
                </a:moveTo>
                <a:cubicBezTo>
                  <a:pt x="21922" y="12203"/>
                  <a:pt x="21874" y="12324"/>
                  <a:pt x="21803" y="12502"/>
                </a:cubicBezTo>
                <a:cubicBezTo>
                  <a:pt x="21759" y="12612"/>
                  <a:pt x="21701" y="12730"/>
                  <a:pt x="21679" y="12849"/>
                </a:cubicBezTo>
                <a:cubicBezTo>
                  <a:pt x="21668" y="12911"/>
                  <a:pt x="21619" y="12993"/>
                  <a:pt x="21679" y="12973"/>
                </a:cubicBezTo>
              </a:path>
              <a:path w="9650" h="1935">
                <a:moveTo>
                  <a:pt x="22299" y="11509"/>
                </a:moveTo>
                <a:cubicBezTo>
                  <a:pt x="22379" y="11509"/>
                  <a:pt x="22505" y="11479"/>
                  <a:pt x="22498" y="11609"/>
                </a:cubicBezTo>
                <a:cubicBezTo>
                  <a:pt x="22495" y="11659"/>
                  <a:pt x="22389" y="11754"/>
                  <a:pt x="22349" y="11782"/>
                </a:cubicBezTo>
                <a:cubicBezTo>
                  <a:pt x="22320" y="11802"/>
                  <a:pt x="22245" y="11826"/>
                  <a:pt x="22275" y="11881"/>
                </a:cubicBezTo>
                <a:cubicBezTo>
                  <a:pt x="22302" y="11930"/>
                  <a:pt x="22375" y="11962"/>
                  <a:pt x="22423" y="11981"/>
                </a:cubicBezTo>
                <a:cubicBezTo>
                  <a:pt x="22509" y="12014"/>
                  <a:pt x="22606" y="12022"/>
                  <a:pt x="22696" y="12030"/>
                </a:cubicBezTo>
              </a:path>
              <a:path w="9650" h="1935">
                <a:moveTo>
                  <a:pt x="19571" y="12204"/>
                </a:moveTo>
                <a:cubicBezTo>
                  <a:pt x="19571" y="12359"/>
                  <a:pt x="19580" y="12501"/>
                  <a:pt x="19596" y="12650"/>
                </a:cubicBezTo>
                <a:cubicBezTo>
                  <a:pt x="19603" y="12715"/>
                  <a:pt x="19613" y="12761"/>
                  <a:pt x="19621" y="12824"/>
                </a:cubicBezTo>
                <a:cubicBezTo>
                  <a:pt x="19591" y="12743"/>
                  <a:pt x="19574" y="12664"/>
                  <a:pt x="19571" y="12576"/>
                </a:cubicBezTo>
                <a:cubicBezTo>
                  <a:pt x="19566" y="12433"/>
                  <a:pt x="19549" y="12296"/>
                  <a:pt x="19546" y="12154"/>
                </a:cubicBezTo>
                <a:cubicBezTo>
                  <a:pt x="19543" y="12022"/>
                  <a:pt x="19557" y="11860"/>
                  <a:pt x="19596" y="11733"/>
                </a:cubicBezTo>
                <a:cubicBezTo>
                  <a:pt x="19632" y="11618"/>
                  <a:pt x="19704" y="11534"/>
                  <a:pt x="19819" y="11485"/>
                </a:cubicBezTo>
                <a:cubicBezTo>
                  <a:pt x="19944" y="11432"/>
                  <a:pt x="20086" y="11429"/>
                  <a:pt x="20216" y="11410"/>
                </a:cubicBezTo>
                <a:cubicBezTo>
                  <a:pt x="20323" y="11388"/>
                  <a:pt x="20347" y="11380"/>
                  <a:pt x="20414" y="11385"/>
                </a:cubicBezTo>
              </a:path>
              <a:path w="9650" h="1935">
                <a:moveTo>
                  <a:pt x="21481" y="12576"/>
                </a:moveTo>
                <a:cubicBezTo>
                  <a:pt x="21455" y="12713"/>
                  <a:pt x="21475" y="12811"/>
                  <a:pt x="21481" y="12948"/>
                </a:cubicBezTo>
                <a:cubicBezTo>
                  <a:pt x="21484" y="13008"/>
                  <a:pt x="21499" y="13062"/>
                  <a:pt x="21506" y="13122"/>
                </a:cubicBezTo>
                <a:cubicBezTo>
                  <a:pt x="21519" y="13081"/>
                  <a:pt x="21525" y="13089"/>
                  <a:pt x="21530" y="13047"/>
                </a:cubicBezTo>
                <a:cubicBezTo>
                  <a:pt x="21557" y="12836"/>
                  <a:pt x="21522" y="12609"/>
                  <a:pt x="21506" y="12402"/>
                </a:cubicBezTo>
                <a:cubicBezTo>
                  <a:pt x="21495" y="12261"/>
                  <a:pt x="21489" y="12090"/>
                  <a:pt x="21530" y="11956"/>
                </a:cubicBezTo>
                <a:cubicBezTo>
                  <a:pt x="21571" y="11821"/>
                  <a:pt x="21624" y="11723"/>
                  <a:pt x="21754" y="11658"/>
                </a:cubicBezTo>
                <a:cubicBezTo>
                  <a:pt x="21881" y="11594"/>
                  <a:pt x="21991" y="11582"/>
                  <a:pt x="22126" y="11559"/>
                </a:cubicBezTo>
                <a:cubicBezTo>
                  <a:pt x="22236" y="11541"/>
                  <a:pt x="22368" y="11534"/>
                  <a:pt x="22473" y="11509"/>
                </a:cubicBezTo>
                <a:cubicBezTo>
                  <a:pt x="22514" y="11489"/>
                  <a:pt x="22531" y="11492"/>
                  <a:pt x="22523" y="11460"/>
                </a:cubicBezTo>
              </a:path>
              <a:path w="9650" h="1935">
                <a:moveTo>
                  <a:pt x="18777" y="11361"/>
                </a:moveTo>
                <a:cubicBezTo>
                  <a:pt x="18787" y="11438"/>
                  <a:pt x="18816" y="11506"/>
                  <a:pt x="18827" y="11584"/>
                </a:cubicBezTo>
                <a:cubicBezTo>
                  <a:pt x="18837" y="11653"/>
                  <a:pt x="18859" y="11722"/>
                  <a:pt x="18901" y="11782"/>
                </a:cubicBezTo>
                <a:cubicBezTo>
                  <a:pt x="18909" y="11790"/>
                  <a:pt x="18918" y="11799"/>
                  <a:pt x="18926" y="11807"/>
                </a:cubicBezTo>
              </a:path>
              <a:path w="9650" h="1935">
                <a:moveTo>
                  <a:pt x="18728" y="11633"/>
                </a:moveTo>
                <a:cubicBezTo>
                  <a:pt x="18859" y="11599"/>
                  <a:pt x="18921" y="11603"/>
                  <a:pt x="19050" y="11609"/>
                </a:cubicBezTo>
                <a:cubicBezTo>
                  <a:pt x="19067" y="11609"/>
                  <a:pt x="19083" y="11609"/>
                  <a:pt x="19100" y="11609"/>
                </a:cubicBezTo>
              </a:path>
              <a:path w="9650" h="1935">
                <a:moveTo>
                  <a:pt x="18777" y="12080"/>
                </a:moveTo>
                <a:cubicBezTo>
                  <a:pt x="18909" y="12080"/>
                  <a:pt x="19042" y="12080"/>
                  <a:pt x="19174" y="120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85920" y="1785960"/>
            <a:ext cx="330120" cy="241200"/>
          </a:xfrm>
          <a:custGeom>
            <a:avLst/>
            <a:gdLst/>
            <a:ahLst/>
            <a:rect l="l" t="t" r="r" b="b"/>
            <a:pathLst>
              <a:path w="919" h="671">
                <a:moveTo>
                  <a:pt x="3572" y="5631"/>
                </a:moveTo>
                <a:cubicBezTo>
                  <a:pt x="3616" y="5586"/>
                  <a:pt x="3648" y="5541"/>
                  <a:pt x="3671" y="5482"/>
                </a:cubicBezTo>
                <a:cubicBezTo>
                  <a:pt x="3719" y="5360"/>
                  <a:pt x="3733" y="5166"/>
                  <a:pt x="3795" y="5060"/>
                </a:cubicBezTo>
                <a:cubicBezTo>
                  <a:pt x="3836" y="4989"/>
                  <a:pt x="3868" y="4961"/>
                  <a:pt x="3944" y="4961"/>
                </a:cubicBezTo>
                <a:cubicBezTo>
                  <a:pt x="4038" y="4961"/>
                  <a:pt x="4121" y="5022"/>
                  <a:pt x="4217" y="5035"/>
                </a:cubicBezTo>
                <a:cubicBezTo>
                  <a:pt x="4308" y="5047"/>
                  <a:pt x="4398" y="5054"/>
                  <a:pt x="4490" y="50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19920" y="4813200"/>
            <a:ext cx="1332000" cy="455760"/>
          </a:xfrm>
          <a:custGeom>
            <a:avLst/>
            <a:gdLst/>
            <a:ahLst/>
            <a:rect l="l" t="t" r="r" b="b"/>
            <a:pathLst>
              <a:path w="3697" h="1266">
                <a:moveTo>
                  <a:pt x="21406" y="14039"/>
                </a:moveTo>
                <a:cubicBezTo>
                  <a:pt x="21510" y="13999"/>
                  <a:pt x="21622" y="13953"/>
                  <a:pt x="21729" y="13940"/>
                </a:cubicBezTo>
                <a:cubicBezTo>
                  <a:pt x="21812" y="13940"/>
                  <a:pt x="21845" y="13940"/>
                  <a:pt x="21903" y="13940"/>
                </a:cubicBezTo>
              </a:path>
              <a:path w="3697" h="1266">
                <a:moveTo>
                  <a:pt x="21506" y="14263"/>
                </a:moveTo>
                <a:cubicBezTo>
                  <a:pt x="21587" y="14294"/>
                  <a:pt x="21666" y="14309"/>
                  <a:pt x="21754" y="14312"/>
                </a:cubicBezTo>
                <a:cubicBezTo>
                  <a:pt x="21779" y="14312"/>
                  <a:pt x="21803" y="14312"/>
                  <a:pt x="21828" y="14312"/>
                </a:cubicBezTo>
              </a:path>
              <a:path w="3697" h="1266">
                <a:moveTo>
                  <a:pt x="22151" y="13866"/>
                </a:moveTo>
                <a:cubicBezTo>
                  <a:pt x="22246" y="13995"/>
                  <a:pt x="22343" y="14098"/>
                  <a:pt x="22448" y="14213"/>
                </a:cubicBezTo>
                <a:cubicBezTo>
                  <a:pt x="22553" y="14328"/>
                  <a:pt x="22648" y="14439"/>
                  <a:pt x="22771" y="14536"/>
                </a:cubicBezTo>
                <a:cubicBezTo>
                  <a:pt x="22845" y="14585"/>
                  <a:pt x="22870" y="14602"/>
                  <a:pt x="22920" y="14635"/>
                </a:cubicBezTo>
              </a:path>
              <a:path w="3697" h="1266">
                <a:moveTo>
                  <a:pt x="22523" y="13891"/>
                </a:moveTo>
                <a:cubicBezTo>
                  <a:pt x="22369" y="14014"/>
                  <a:pt x="22212" y="14145"/>
                  <a:pt x="22101" y="14312"/>
                </a:cubicBezTo>
                <a:cubicBezTo>
                  <a:pt x="22048" y="14391"/>
                  <a:pt x="22006" y="14480"/>
                  <a:pt x="21952" y="14560"/>
                </a:cubicBezTo>
              </a:path>
              <a:path w="3697" h="1266">
                <a:moveTo>
                  <a:pt x="19348" y="13370"/>
                </a:moveTo>
                <a:cubicBezTo>
                  <a:pt x="19348" y="13440"/>
                  <a:pt x="19354" y="13528"/>
                  <a:pt x="19372" y="13593"/>
                </a:cubicBezTo>
                <a:cubicBezTo>
                  <a:pt x="19391" y="13662"/>
                  <a:pt x="19435" y="13721"/>
                  <a:pt x="19447" y="13791"/>
                </a:cubicBezTo>
                <a:cubicBezTo>
                  <a:pt x="19447" y="13843"/>
                  <a:pt x="19448" y="13861"/>
                  <a:pt x="19472" y="13891"/>
                </a:cubicBezTo>
              </a:path>
              <a:path w="3697" h="1266">
                <a:moveTo>
                  <a:pt x="19224" y="13692"/>
                </a:moveTo>
                <a:cubicBezTo>
                  <a:pt x="19354" y="13708"/>
                  <a:pt x="19467" y="13717"/>
                  <a:pt x="19596" y="13717"/>
                </a:cubicBezTo>
              </a:path>
              <a:path w="3697" h="1266">
                <a:moveTo>
                  <a:pt x="19372" y="14089"/>
                </a:moveTo>
                <a:cubicBezTo>
                  <a:pt x="19438" y="14089"/>
                  <a:pt x="19505" y="14089"/>
                  <a:pt x="19571" y="14089"/>
                </a:cubicBezTo>
              </a:path>
              <a:path w="3697" h="1266">
                <a:moveTo>
                  <a:pt x="19943" y="13692"/>
                </a:moveTo>
                <a:cubicBezTo>
                  <a:pt x="20007" y="13692"/>
                  <a:pt x="20016" y="13701"/>
                  <a:pt x="20042" y="13667"/>
                </a:cubicBezTo>
                <a:cubicBezTo>
                  <a:pt x="20067" y="13635"/>
                  <a:pt x="20103" y="13597"/>
                  <a:pt x="20141" y="13593"/>
                </a:cubicBezTo>
                <a:cubicBezTo>
                  <a:pt x="20197" y="13587"/>
                  <a:pt x="20213" y="13610"/>
                  <a:pt x="20216" y="13667"/>
                </a:cubicBezTo>
                <a:cubicBezTo>
                  <a:pt x="20221" y="13765"/>
                  <a:pt x="20201" y="13847"/>
                  <a:pt x="20191" y="13940"/>
                </a:cubicBezTo>
                <a:cubicBezTo>
                  <a:pt x="20178" y="14057"/>
                  <a:pt x="20159" y="14118"/>
                  <a:pt x="20092" y="14213"/>
                </a:cubicBezTo>
                <a:cubicBezTo>
                  <a:pt x="20052" y="14273"/>
                  <a:pt x="20049" y="14285"/>
                  <a:pt x="20017" y="14312"/>
                </a:cubicBezTo>
                <a:cubicBezTo>
                  <a:pt x="20003" y="14307"/>
                  <a:pt x="19951" y="14265"/>
                  <a:pt x="19943" y="14238"/>
                </a:cubicBezTo>
                <a:cubicBezTo>
                  <a:pt x="19928" y="14184"/>
                  <a:pt x="19943" y="14094"/>
                  <a:pt x="19943" y="14039"/>
                </a:cubicBezTo>
                <a:cubicBezTo>
                  <a:pt x="19988" y="14039"/>
                  <a:pt x="20045" y="14062"/>
                  <a:pt x="20067" y="14089"/>
                </a:cubicBezTo>
                <a:cubicBezTo>
                  <a:pt x="20119" y="14152"/>
                  <a:pt x="20174" y="14186"/>
                  <a:pt x="20241" y="14238"/>
                </a:cubicBezTo>
                <a:cubicBezTo>
                  <a:pt x="20249" y="14246"/>
                  <a:pt x="20257" y="14255"/>
                  <a:pt x="20265" y="14263"/>
                </a:cubicBezTo>
              </a:path>
              <a:path w="3697" h="1266">
                <a:moveTo>
                  <a:pt x="20439" y="13742"/>
                </a:moveTo>
                <a:cubicBezTo>
                  <a:pt x="20439" y="13866"/>
                  <a:pt x="20447" y="13970"/>
                  <a:pt x="20464" y="14089"/>
                </a:cubicBezTo>
                <a:cubicBezTo>
                  <a:pt x="20473" y="14151"/>
                  <a:pt x="20452" y="14164"/>
                  <a:pt x="20489" y="14213"/>
                </a:cubicBezTo>
                <a:cubicBezTo>
                  <a:pt x="20489" y="14084"/>
                  <a:pt x="20476" y="13968"/>
                  <a:pt x="20464" y="13841"/>
                </a:cubicBezTo>
                <a:cubicBezTo>
                  <a:pt x="20452" y="13712"/>
                  <a:pt x="20455" y="13557"/>
                  <a:pt x="20489" y="13444"/>
                </a:cubicBezTo>
                <a:cubicBezTo>
                  <a:pt x="20508" y="13380"/>
                  <a:pt x="20546" y="13375"/>
                  <a:pt x="20613" y="13370"/>
                </a:cubicBezTo>
                <a:cubicBezTo>
                  <a:pt x="20678" y="13365"/>
                  <a:pt x="20746" y="13370"/>
                  <a:pt x="20811" y="13370"/>
                </a:cubicBezTo>
              </a:path>
              <a:path w="3697" h="1266">
                <a:moveTo>
                  <a:pt x="20613" y="13643"/>
                </a:moveTo>
                <a:cubicBezTo>
                  <a:pt x="20657" y="13633"/>
                  <a:pt x="20770" y="13618"/>
                  <a:pt x="20811" y="13593"/>
                </a:cubicBezTo>
                <a:cubicBezTo>
                  <a:pt x="20823" y="13586"/>
                  <a:pt x="20889" y="13541"/>
                  <a:pt x="20910" y="13568"/>
                </a:cubicBezTo>
                <a:cubicBezTo>
                  <a:pt x="20951" y="13621"/>
                  <a:pt x="20920" y="13658"/>
                  <a:pt x="20910" y="13717"/>
                </a:cubicBezTo>
                <a:cubicBezTo>
                  <a:pt x="20897" y="13792"/>
                  <a:pt x="20871" y="13845"/>
                  <a:pt x="20836" y="13915"/>
                </a:cubicBezTo>
                <a:cubicBezTo>
                  <a:pt x="20807" y="13973"/>
                  <a:pt x="20761" y="14054"/>
                  <a:pt x="20737" y="14089"/>
                </a:cubicBezTo>
                <a:cubicBezTo>
                  <a:pt x="20707" y="14133"/>
                  <a:pt x="20716" y="14150"/>
                  <a:pt x="20687" y="14188"/>
                </a:cubicBezTo>
                <a:cubicBezTo>
                  <a:pt x="20743" y="14177"/>
                  <a:pt x="20777" y="14163"/>
                  <a:pt x="20836" y="14163"/>
                </a:cubicBezTo>
                <a:cubicBezTo>
                  <a:pt x="20936" y="14163"/>
                  <a:pt x="20993" y="14243"/>
                  <a:pt x="21084" y="14263"/>
                </a:cubicBezTo>
                <a:cubicBezTo>
                  <a:pt x="21152" y="14278"/>
                  <a:pt x="21164" y="14277"/>
                  <a:pt x="21233" y="142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27720" y="5116680"/>
            <a:ext cx="2276280" cy="63360"/>
          </a:xfrm>
          <a:custGeom>
            <a:avLst/>
            <a:gdLst/>
            <a:ahLst/>
            <a:rect l="l" t="t" r="r" b="b"/>
            <a:pathLst>
              <a:path w="6326" h="175">
                <a:moveTo>
                  <a:pt x="12576" y="14312"/>
                </a:moveTo>
                <a:cubicBezTo>
                  <a:pt x="13173" y="14312"/>
                  <a:pt x="13770" y="14322"/>
                  <a:pt x="14362" y="14337"/>
                </a:cubicBezTo>
                <a:cubicBezTo>
                  <a:pt x="15007" y="14354"/>
                  <a:pt x="15653" y="14339"/>
                  <a:pt x="16297" y="14362"/>
                </a:cubicBezTo>
                <a:cubicBezTo>
                  <a:pt x="16785" y="14379"/>
                  <a:pt x="17274" y="14364"/>
                  <a:pt x="17760" y="14387"/>
                </a:cubicBezTo>
                <a:cubicBezTo>
                  <a:pt x="17962" y="14397"/>
                  <a:pt x="18157" y="14375"/>
                  <a:pt x="18355" y="14362"/>
                </a:cubicBezTo>
                <a:cubicBezTo>
                  <a:pt x="18475" y="14354"/>
                  <a:pt x="18586" y="14361"/>
                  <a:pt x="18703" y="14337"/>
                </a:cubicBezTo>
                <a:cubicBezTo>
                  <a:pt x="18751" y="14327"/>
                  <a:pt x="18814" y="14316"/>
                  <a:pt x="18852" y="14288"/>
                </a:cubicBezTo>
                <a:cubicBezTo>
                  <a:pt x="18887" y="14262"/>
                  <a:pt x="18879" y="14235"/>
                  <a:pt x="18901" y="142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Y=(x+4)</a:t>
            </a:r>
            <a:r>
              <a:rPr b="1" lang="en-US" sz="4400" spc="-1" strike="noStrike" baseline="30000">
                <a:solidFill>
                  <a:srgbClr val="dddddd"/>
                </a:solidFill>
                <a:latin typeface="Garamond"/>
              </a:rPr>
              <a:t>2</a:t>
            </a: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-3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62" name="handygraph1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4010040" cy="4114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58880" y="973080"/>
            <a:ext cx="277920" cy="411120"/>
          </a:xfrm>
          <a:custGeom>
            <a:avLst/>
            <a:gdLst/>
            <a:ahLst/>
            <a:rect l="l" t="t" r="r" b="b"/>
            <a:pathLst>
              <a:path w="770" h="1142">
                <a:moveTo>
                  <a:pt x="2108" y="2778"/>
                </a:moveTo>
                <a:cubicBezTo>
                  <a:pt x="2151" y="2835"/>
                  <a:pt x="2141" y="2881"/>
                  <a:pt x="2158" y="2952"/>
                </a:cubicBezTo>
                <a:cubicBezTo>
                  <a:pt x="2183" y="3061"/>
                  <a:pt x="2204" y="3161"/>
                  <a:pt x="2208" y="3274"/>
                </a:cubicBezTo>
                <a:cubicBezTo>
                  <a:pt x="2212" y="3384"/>
                  <a:pt x="2232" y="3486"/>
                  <a:pt x="2232" y="3597"/>
                </a:cubicBezTo>
                <a:cubicBezTo>
                  <a:pt x="2232" y="3681"/>
                  <a:pt x="2239" y="3743"/>
                  <a:pt x="2257" y="3820"/>
                </a:cubicBezTo>
                <a:cubicBezTo>
                  <a:pt x="2269" y="3871"/>
                  <a:pt x="2278" y="3773"/>
                  <a:pt x="2282" y="3746"/>
                </a:cubicBezTo>
              </a:path>
              <a:path w="770" h="1142">
                <a:moveTo>
                  <a:pt x="2332" y="2828"/>
                </a:moveTo>
                <a:cubicBezTo>
                  <a:pt x="2392" y="2793"/>
                  <a:pt x="2410" y="2778"/>
                  <a:pt x="2480" y="2778"/>
                </a:cubicBezTo>
                <a:cubicBezTo>
                  <a:pt x="2535" y="2778"/>
                  <a:pt x="2579" y="2772"/>
                  <a:pt x="2629" y="2753"/>
                </a:cubicBezTo>
                <a:cubicBezTo>
                  <a:pt x="2685" y="2731"/>
                  <a:pt x="2718" y="2704"/>
                  <a:pt x="2778" y="2704"/>
                </a:cubicBezTo>
                <a:cubicBezTo>
                  <a:pt x="2778" y="2755"/>
                  <a:pt x="2770" y="2761"/>
                  <a:pt x="2753" y="2803"/>
                </a:cubicBezTo>
                <a:cubicBezTo>
                  <a:pt x="2717" y="2891"/>
                  <a:pt x="2724" y="2986"/>
                  <a:pt x="2704" y="3076"/>
                </a:cubicBezTo>
                <a:cubicBezTo>
                  <a:pt x="2680" y="3182"/>
                  <a:pt x="2677" y="3295"/>
                  <a:pt x="2654" y="3398"/>
                </a:cubicBezTo>
                <a:cubicBezTo>
                  <a:pt x="2642" y="3450"/>
                  <a:pt x="2604" y="3539"/>
                  <a:pt x="2629" y="3597"/>
                </a:cubicBezTo>
                <a:cubicBezTo>
                  <a:pt x="2645" y="3634"/>
                  <a:pt x="2654" y="3648"/>
                  <a:pt x="2654" y="3696"/>
                </a:cubicBezTo>
              </a:path>
              <a:path w="770" h="1142">
                <a:moveTo>
                  <a:pt x="2877" y="3597"/>
                </a:moveTo>
                <a:cubicBezTo>
                  <a:pt x="2877" y="3621"/>
                  <a:pt x="2877" y="3629"/>
                  <a:pt x="2853" y="36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13160" y="1633680"/>
            <a:ext cx="1054080" cy="358560"/>
          </a:xfrm>
          <a:custGeom>
            <a:avLst/>
            <a:gdLst/>
            <a:ahLst/>
            <a:rect l="l" t="t" r="r" b="b"/>
            <a:pathLst>
              <a:path w="2928" h="993">
                <a:moveTo>
                  <a:pt x="11981" y="4812"/>
                </a:moveTo>
                <a:cubicBezTo>
                  <a:pt x="11981" y="4869"/>
                  <a:pt x="11991" y="4910"/>
                  <a:pt x="12005" y="4961"/>
                </a:cubicBezTo>
                <a:cubicBezTo>
                  <a:pt x="12029" y="5050"/>
                  <a:pt x="12063" y="5143"/>
                  <a:pt x="12080" y="5234"/>
                </a:cubicBezTo>
                <a:cubicBezTo>
                  <a:pt x="12093" y="5302"/>
                  <a:pt x="12113" y="5366"/>
                  <a:pt x="12129" y="5432"/>
                </a:cubicBezTo>
                <a:cubicBezTo>
                  <a:pt x="12140" y="5477"/>
                  <a:pt x="12123" y="5466"/>
                  <a:pt x="12154" y="5507"/>
                </a:cubicBezTo>
                <a:cubicBezTo>
                  <a:pt x="12202" y="5491"/>
                  <a:pt x="12186" y="5458"/>
                  <a:pt x="12204" y="5407"/>
                </a:cubicBezTo>
                <a:cubicBezTo>
                  <a:pt x="12229" y="5337"/>
                  <a:pt x="12261" y="5257"/>
                  <a:pt x="12278" y="5184"/>
                </a:cubicBezTo>
                <a:cubicBezTo>
                  <a:pt x="12305" y="5064"/>
                  <a:pt x="12352" y="4947"/>
                  <a:pt x="12378" y="4837"/>
                </a:cubicBezTo>
                <a:cubicBezTo>
                  <a:pt x="12390" y="4787"/>
                  <a:pt x="12422" y="4734"/>
                  <a:pt x="12427" y="4688"/>
                </a:cubicBezTo>
                <a:cubicBezTo>
                  <a:pt x="12427" y="4680"/>
                  <a:pt x="12427" y="4671"/>
                  <a:pt x="12427" y="4663"/>
                </a:cubicBezTo>
              </a:path>
              <a:path w="2928" h="993">
                <a:moveTo>
                  <a:pt x="12427" y="5159"/>
                </a:moveTo>
                <a:cubicBezTo>
                  <a:pt x="12565" y="5197"/>
                  <a:pt x="12516" y="5183"/>
                  <a:pt x="12601" y="5110"/>
                </a:cubicBezTo>
                <a:cubicBezTo>
                  <a:pt x="12665" y="5055"/>
                  <a:pt x="12676" y="5007"/>
                  <a:pt x="12725" y="4936"/>
                </a:cubicBezTo>
                <a:cubicBezTo>
                  <a:pt x="12759" y="4887"/>
                  <a:pt x="12765" y="4836"/>
                  <a:pt x="12725" y="4787"/>
                </a:cubicBezTo>
                <a:cubicBezTo>
                  <a:pt x="12704" y="4761"/>
                  <a:pt x="12657" y="4741"/>
                  <a:pt x="12626" y="4738"/>
                </a:cubicBezTo>
                <a:cubicBezTo>
                  <a:pt x="12577" y="4733"/>
                  <a:pt x="12541" y="4799"/>
                  <a:pt x="12526" y="4837"/>
                </a:cubicBezTo>
                <a:cubicBezTo>
                  <a:pt x="12494" y="4915"/>
                  <a:pt x="12481" y="5002"/>
                  <a:pt x="12477" y="5085"/>
                </a:cubicBezTo>
                <a:cubicBezTo>
                  <a:pt x="12473" y="5175"/>
                  <a:pt x="12489" y="5250"/>
                  <a:pt x="12502" y="5333"/>
                </a:cubicBezTo>
                <a:cubicBezTo>
                  <a:pt x="12511" y="5387"/>
                  <a:pt x="12518" y="5475"/>
                  <a:pt x="12576" y="5507"/>
                </a:cubicBezTo>
                <a:cubicBezTo>
                  <a:pt x="12606" y="5524"/>
                  <a:pt x="12676" y="5536"/>
                  <a:pt x="12700" y="5507"/>
                </a:cubicBezTo>
                <a:cubicBezTo>
                  <a:pt x="12738" y="5461"/>
                  <a:pt x="12773" y="5382"/>
                  <a:pt x="12799" y="5333"/>
                </a:cubicBezTo>
              </a:path>
              <a:path w="2928" h="993">
                <a:moveTo>
                  <a:pt x="12898" y="4911"/>
                </a:moveTo>
                <a:cubicBezTo>
                  <a:pt x="12898" y="5023"/>
                  <a:pt x="12942" y="5288"/>
                  <a:pt x="12874" y="5383"/>
                </a:cubicBezTo>
                <a:cubicBezTo>
                  <a:pt x="12863" y="5338"/>
                  <a:pt x="12849" y="5313"/>
                  <a:pt x="12849" y="5259"/>
                </a:cubicBezTo>
                <a:cubicBezTo>
                  <a:pt x="12849" y="5185"/>
                  <a:pt x="12847" y="5131"/>
                  <a:pt x="12874" y="5060"/>
                </a:cubicBezTo>
                <a:cubicBezTo>
                  <a:pt x="12903" y="4984"/>
                  <a:pt x="12943" y="4920"/>
                  <a:pt x="12998" y="4862"/>
                </a:cubicBezTo>
                <a:cubicBezTo>
                  <a:pt x="13086" y="4768"/>
                  <a:pt x="13179" y="4679"/>
                  <a:pt x="13271" y="4589"/>
                </a:cubicBezTo>
              </a:path>
              <a:path w="2928" h="993">
                <a:moveTo>
                  <a:pt x="13370" y="4539"/>
                </a:moveTo>
                <a:cubicBezTo>
                  <a:pt x="13382" y="4678"/>
                  <a:pt x="13388" y="4780"/>
                  <a:pt x="13395" y="4911"/>
                </a:cubicBezTo>
                <a:cubicBezTo>
                  <a:pt x="13400" y="4998"/>
                  <a:pt x="13407" y="5077"/>
                  <a:pt x="13419" y="5159"/>
                </a:cubicBezTo>
                <a:cubicBezTo>
                  <a:pt x="13420" y="5168"/>
                  <a:pt x="13419" y="5323"/>
                  <a:pt x="13419" y="5259"/>
                </a:cubicBezTo>
                <a:cubicBezTo>
                  <a:pt x="13419" y="5251"/>
                  <a:pt x="13419" y="5242"/>
                  <a:pt x="13419" y="5234"/>
                </a:cubicBezTo>
              </a:path>
              <a:path w="2928" h="993">
                <a:moveTo>
                  <a:pt x="13221" y="4936"/>
                </a:moveTo>
                <a:cubicBezTo>
                  <a:pt x="13300" y="4929"/>
                  <a:pt x="13363" y="4911"/>
                  <a:pt x="13444" y="4911"/>
                </a:cubicBezTo>
                <a:cubicBezTo>
                  <a:pt x="13494" y="4911"/>
                  <a:pt x="13510" y="4911"/>
                  <a:pt x="13543" y="4911"/>
                </a:cubicBezTo>
              </a:path>
              <a:path w="2928" h="993">
                <a:moveTo>
                  <a:pt x="13816" y="5060"/>
                </a:moveTo>
                <a:cubicBezTo>
                  <a:pt x="13866" y="5060"/>
                  <a:pt x="13895" y="5065"/>
                  <a:pt x="13940" y="5035"/>
                </a:cubicBezTo>
                <a:cubicBezTo>
                  <a:pt x="13978" y="5010"/>
                  <a:pt x="14029" y="4955"/>
                  <a:pt x="14039" y="4911"/>
                </a:cubicBezTo>
                <a:cubicBezTo>
                  <a:pt x="14049" y="4866"/>
                  <a:pt x="14043" y="4819"/>
                  <a:pt x="14015" y="4787"/>
                </a:cubicBezTo>
                <a:cubicBezTo>
                  <a:pt x="13996" y="4765"/>
                  <a:pt x="13916" y="4737"/>
                  <a:pt x="13891" y="4762"/>
                </a:cubicBezTo>
                <a:cubicBezTo>
                  <a:pt x="13849" y="4805"/>
                  <a:pt x="13800" y="4856"/>
                  <a:pt x="13767" y="4911"/>
                </a:cubicBezTo>
                <a:cubicBezTo>
                  <a:pt x="13742" y="4953"/>
                  <a:pt x="13706" y="5061"/>
                  <a:pt x="13717" y="5110"/>
                </a:cubicBezTo>
                <a:cubicBezTo>
                  <a:pt x="13726" y="5152"/>
                  <a:pt x="13755" y="5233"/>
                  <a:pt x="13791" y="5259"/>
                </a:cubicBezTo>
                <a:cubicBezTo>
                  <a:pt x="13848" y="5299"/>
                  <a:pt x="13899" y="5308"/>
                  <a:pt x="13965" y="5308"/>
                </a:cubicBezTo>
                <a:cubicBezTo>
                  <a:pt x="14068" y="5308"/>
                  <a:pt x="14104" y="5259"/>
                  <a:pt x="14163" y="5184"/>
                </a:cubicBezTo>
              </a:path>
              <a:path w="2928" h="993">
                <a:moveTo>
                  <a:pt x="14238" y="4837"/>
                </a:moveTo>
                <a:cubicBezTo>
                  <a:pt x="14264" y="4928"/>
                  <a:pt x="14295" y="5000"/>
                  <a:pt x="14337" y="5085"/>
                </a:cubicBezTo>
                <a:cubicBezTo>
                  <a:pt x="14362" y="5134"/>
                  <a:pt x="14410" y="5208"/>
                  <a:pt x="14461" y="5234"/>
                </a:cubicBezTo>
                <a:cubicBezTo>
                  <a:pt x="14495" y="5251"/>
                  <a:pt x="14584" y="5285"/>
                  <a:pt x="14610" y="5234"/>
                </a:cubicBezTo>
                <a:cubicBezTo>
                  <a:pt x="14621" y="5211"/>
                  <a:pt x="14629" y="5185"/>
                  <a:pt x="14635" y="5159"/>
                </a:cubicBezTo>
              </a:path>
              <a:path w="2928" h="993">
                <a:moveTo>
                  <a:pt x="14461" y="4812"/>
                </a:moveTo>
                <a:cubicBezTo>
                  <a:pt x="14387" y="4908"/>
                  <a:pt x="14315" y="4999"/>
                  <a:pt x="14263" y="5110"/>
                </a:cubicBezTo>
                <a:cubicBezTo>
                  <a:pt x="14229" y="5183"/>
                  <a:pt x="14188" y="5243"/>
                  <a:pt x="14139" y="5308"/>
                </a:cubicBezTo>
                <a:cubicBezTo>
                  <a:pt x="14114" y="5341"/>
                  <a:pt x="14089" y="5375"/>
                  <a:pt x="14064" y="5383"/>
                </a:cubicBezTo>
                <a:cubicBezTo>
                  <a:pt x="14088" y="5351"/>
                  <a:pt x="14090" y="5340"/>
                  <a:pt x="14114" y="5308"/>
                </a:cubicBezTo>
              </a:path>
              <a:path w="2928" h="993">
                <a:moveTo>
                  <a:pt x="14883" y="4638"/>
                </a:moveTo>
                <a:cubicBezTo>
                  <a:pt x="14891" y="4638"/>
                  <a:pt x="14900" y="4638"/>
                  <a:pt x="14908" y="4638"/>
                </a:cubicBezTo>
              </a:path>
              <a:path w="2928" h="993">
                <a:moveTo>
                  <a:pt x="14833" y="5011"/>
                </a:moveTo>
                <a:cubicBezTo>
                  <a:pt x="14833" y="4986"/>
                  <a:pt x="14833" y="4978"/>
                  <a:pt x="14858" y="49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54800" y="1366920"/>
            <a:ext cx="1036440" cy="507960"/>
          </a:xfrm>
          <a:custGeom>
            <a:avLst/>
            <a:gdLst/>
            <a:ahLst/>
            <a:rect l="l" t="t" r="r" b="b"/>
            <a:pathLst>
              <a:path w="2878" h="1415">
                <a:moveTo>
                  <a:pt x="15776" y="3919"/>
                </a:moveTo>
                <a:cubicBezTo>
                  <a:pt x="15737" y="3967"/>
                  <a:pt x="15680" y="4040"/>
                  <a:pt x="15652" y="4093"/>
                </a:cubicBezTo>
                <a:cubicBezTo>
                  <a:pt x="15597" y="4198"/>
                  <a:pt x="15562" y="4300"/>
                  <a:pt x="15528" y="4415"/>
                </a:cubicBezTo>
                <a:cubicBezTo>
                  <a:pt x="15487" y="4552"/>
                  <a:pt x="15434" y="4694"/>
                  <a:pt x="15429" y="4837"/>
                </a:cubicBezTo>
                <a:cubicBezTo>
                  <a:pt x="15426" y="4923"/>
                  <a:pt x="15420" y="5006"/>
                  <a:pt x="15453" y="5085"/>
                </a:cubicBezTo>
                <a:cubicBezTo>
                  <a:pt x="15472" y="5132"/>
                  <a:pt x="15479" y="5198"/>
                  <a:pt x="15528" y="5209"/>
                </a:cubicBezTo>
                <a:cubicBezTo>
                  <a:pt x="15569" y="5218"/>
                  <a:pt x="15571" y="5202"/>
                  <a:pt x="15602" y="5184"/>
                </a:cubicBezTo>
              </a:path>
              <a:path w="2878" h="1415">
                <a:moveTo>
                  <a:pt x="15726" y="4589"/>
                </a:moveTo>
                <a:cubicBezTo>
                  <a:pt x="15817" y="4589"/>
                  <a:pt x="15908" y="4589"/>
                  <a:pt x="15999" y="4589"/>
                </a:cubicBezTo>
              </a:path>
              <a:path w="2878" h="1415">
                <a:moveTo>
                  <a:pt x="16297" y="4217"/>
                </a:moveTo>
                <a:cubicBezTo>
                  <a:pt x="16290" y="4290"/>
                  <a:pt x="16259" y="4329"/>
                  <a:pt x="16247" y="4390"/>
                </a:cubicBezTo>
                <a:cubicBezTo>
                  <a:pt x="16234" y="4456"/>
                  <a:pt x="16260" y="4440"/>
                  <a:pt x="16222" y="4490"/>
                </a:cubicBezTo>
                <a:cubicBezTo>
                  <a:pt x="16248" y="4523"/>
                  <a:pt x="16248" y="4561"/>
                  <a:pt x="16297" y="4564"/>
                </a:cubicBezTo>
                <a:cubicBezTo>
                  <a:pt x="16388" y="4569"/>
                  <a:pt x="16461" y="4559"/>
                  <a:pt x="16545" y="4539"/>
                </a:cubicBezTo>
                <a:cubicBezTo>
                  <a:pt x="16587" y="4529"/>
                  <a:pt x="16610" y="4517"/>
                  <a:pt x="16644" y="4490"/>
                </a:cubicBezTo>
              </a:path>
              <a:path w="2878" h="1415">
                <a:moveTo>
                  <a:pt x="16619" y="3944"/>
                </a:moveTo>
                <a:cubicBezTo>
                  <a:pt x="16599" y="4082"/>
                  <a:pt x="16594" y="4202"/>
                  <a:pt x="16594" y="4341"/>
                </a:cubicBezTo>
                <a:cubicBezTo>
                  <a:pt x="16594" y="4581"/>
                  <a:pt x="16594" y="4820"/>
                  <a:pt x="16594" y="5060"/>
                </a:cubicBezTo>
              </a:path>
              <a:path w="2878" h="1415">
                <a:moveTo>
                  <a:pt x="16793" y="4911"/>
                </a:moveTo>
                <a:cubicBezTo>
                  <a:pt x="16776" y="4967"/>
                  <a:pt x="16759" y="5013"/>
                  <a:pt x="16743" y="5060"/>
                </a:cubicBezTo>
                <a:cubicBezTo>
                  <a:pt x="16740" y="5069"/>
                  <a:pt x="16743" y="5179"/>
                  <a:pt x="16743" y="5110"/>
                </a:cubicBezTo>
              </a:path>
              <a:path w="2878" h="1415">
                <a:moveTo>
                  <a:pt x="16966" y="4390"/>
                </a:moveTo>
                <a:cubicBezTo>
                  <a:pt x="17047" y="4361"/>
                  <a:pt x="17133" y="4326"/>
                  <a:pt x="17214" y="4316"/>
                </a:cubicBezTo>
                <a:cubicBezTo>
                  <a:pt x="17274" y="4308"/>
                  <a:pt x="17387" y="4326"/>
                  <a:pt x="17438" y="4291"/>
                </a:cubicBezTo>
                <a:cubicBezTo>
                  <a:pt x="17463" y="4266"/>
                  <a:pt x="17487" y="4242"/>
                  <a:pt x="17512" y="4217"/>
                </a:cubicBezTo>
              </a:path>
              <a:path w="2878" h="1415">
                <a:moveTo>
                  <a:pt x="17438" y="4018"/>
                </a:moveTo>
                <a:cubicBezTo>
                  <a:pt x="17522" y="3973"/>
                  <a:pt x="17573" y="3967"/>
                  <a:pt x="17661" y="3944"/>
                </a:cubicBezTo>
                <a:cubicBezTo>
                  <a:pt x="17716" y="3930"/>
                  <a:pt x="17810" y="3916"/>
                  <a:pt x="17859" y="3969"/>
                </a:cubicBezTo>
                <a:cubicBezTo>
                  <a:pt x="17910" y="4024"/>
                  <a:pt x="17883" y="4109"/>
                  <a:pt x="17859" y="4167"/>
                </a:cubicBezTo>
                <a:cubicBezTo>
                  <a:pt x="17828" y="4242"/>
                  <a:pt x="17791" y="4284"/>
                  <a:pt x="17735" y="4341"/>
                </a:cubicBezTo>
                <a:cubicBezTo>
                  <a:pt x="17709" y="4367"/>
                  <a:pt x="17650" y="4387"/>
                  <a:pt x="17636" y="4415"/>
                </a:cubicBezTo>
                <a:cubicBezTo>
                  <a:pt x="17636" y="4440"/>
                  <a:pt x="17636" y="4448"/>
                  <a:pt x="17611" y="4440"/>
                </a:cubicBezTo>
                <a:cubicBezTo>
                  <a:pt x="17657" y="4440"/>
                  <a:pt x="17676" y="4447"/>
                  <a:pt x="17711" y="4415"/>
                </a:cubicBezTo>
                <a:cubicBezTo>
                  <a:pt x="17738" y="4390"/>
                  <a:pt x="17796" y="4370"/>
                  <a:pt x="17835" y="4390"/>
                </a:cubicBezTo>
                <a:cubicBezTo>
                  <a:pt x="17869" y="4407"/>
                  <a:pt x="17903" y="4504"/>
                  <a:pt x="17909" y="4539"/>
                </a:cubicBezTo>
                <a:cubicBezTo>
                  <a:pt x="17921" y="4606"/>
                  <a:pt x="17864" y="4680"/>
                  <a:pt x="17835" y="4738"/>
                </a:cubicBezTo>
                <a:cubicBezTo>
                  <a:pt x="17805" y="4799"/>
                  <a:pt x="17756" y="4846"/>
                  <a:pt x="17686" y="4862"/>
                </a:cubicBezTo>
                <a:cubicBezTo>
                  <a:pt x="17624" y="4876"/>
                  <a:pt x="17507" y="4874"/>
                  <a:pt x="17462" y="4837"/>
                </a:cubicBezTo>
                <a:cubicBezTo>
                  <a:pt x="17418" y="4801"/>
                  <a:pt x="17421" y="4792"/>
                  <a:pt x="17413" y="4738"/>
                </a:cubicBezTo>
              </a:path>
              <a:path w="2878" h="1415">
                <a:moveTo>
                  <a:pt x="18132" y="3795"/>
                </a:moveTo>
                <a:cubicBezTo>
                  <a:pt x="18227" y="3914"/>
                  <a:pt x="18250" y="4017"/>
                  <a:pt x="18281" y="4167"/>
                </a:cubicBezTo>
                <a:cubicBezTo>
                  <a:pt x="18313" y="4323"/>
                  <a:pt x="18296" y="4436"/>
                  <a:pt x="18281" y="4589"/>
                </a:cubicBezTo>
                <a:cubicBezTo>
                  <a:pt x="18273" y="4670"/>
                  <a:pt x="18278" y="4793"/>
                  <a:pt x="18231" y="4862"/>
                </a:cubicBezTo>
                <a:cubicBezTo>
                  <a:pt x="18166" y="4957"/>
                  <a:pt x="18047" y="5041"/>
                  <a:pt x="17959" y="51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7200" y="2643120"/>
            <a:ext cx="384480" cy="2206800"/>
          </a:xfrm>
          <a:custGeom>
            <a:avLst/>
            <a:gdLst/>
            <a:ahLst/>
            <a:rect l="l" t="t" r="r" b="b"/>
            <a:pathLst>
              <a:path w="1068" h="6128">
                <a:moveTo>
                  <a:pt x="1215" y="8434"/>
                </a:moveTo>
                <a:cubicBezTo>
                  <a:pt x="1215" y="8442"/>
                  <a:pt x="1215" y="8450"/>
                  <a:pt x="1215" y="8458"/>
                </a:cubicBezTo>
                <a:cubicBezTo>
                  <a:pt x="1234" y="8403"/>
                  <a:pt x="1234" y="8447"/>
                  <a:pt x="1215" y="8409"/>
                </a:cubicBezTo>
                <a:cubicBezTo>
                  <a:pt x="1183" y="8344"/>
                  <a:pt x="1185" y="8453"/>
                  <a:pt x="1191" y="8458"/>
                </a:cubicBezTo>
                <a:cubicBezTo>
                  <a:pt x="1222" y="8483"/>
                  <a:pt x="1268" y="8431"/>
                  <a:pt x="1240" y="8409"/>
                </a:cubicBezTo>
                <a:cubicBezTo>
                  <a:pt x="1232" y="8409"/>
                  <a:pt x="1223" y="8409"/>
                  <a:pt x="1215" y="8409"/>
                </a:cubicBezTo>
              </a:path>
              <a:path w="1068" h="6128">
                <a:moveTo>
                  <a:pt x="843" y="7417"/>
                </a:moveTo>
                <a:cubicBezTo>
                  <a:pt x="822" y="7525"/>
                  <a:pt x="775" y="7641"/>
                  <a:pt x="719" y="7739"/>
                </a:cubicBezTo>
                <a:cubicBezTo>
                  <a:pt x="699" y="7773"/>
                  <a:pt x="656" y="7809"/>
                  <a:pt x="620" y="7813"/>
                </a:cubicBezTo>
                <a:cubicBezTo>
                  <a:pt x="612" y="7813"/>
                  <a:pt x="603" y="7813"/>
                  <a:pt x="595" y="7813"/>
                </a:cubicBezTo>
                <a:cubicBezTo>
                  <a:pt x="595" y="7744"/>
                  <a:pt x="590" y="7701"/>
                  <a:pt x="595" y="7640"/>
                </a:cubicBezTo>
                <a:cubicBezTo>
                  <a:pt x="601" y="7568"/>
                  <a:pt x="605" y="7481"/>
                  <a:pt x="645" y="7417"/>
                </a:cubicBezTo>
                <a:cubicBezTo>
                  <a:pt x="671" y="7374"/>
                  <a:pt x="699" y="7367"/>
                  <a:pt x="744" y="7367"/>
                </a:cubicBezTo>
                <a:cubicBezTo>
                  <a:pt x="791" y="7367"/>
                  <a:pt x="834" y="7342"/>
                  <a:pt x="893" y="7342"/>
                </a:cubicBezTo>
                <a:cubicBezTo>
                  <a:pt x="992" y="7342"/>
                  <a:pt x="1073" y="7359"/>
                  <a:pt x="1166" y="7392"/>
                </a:cubicBezTo>
                <a:cubicBezTo>
                  <a:pt x="1191" y="7400"/>
                  <a:pt x="1215" y="7409"/>
                  <a:pt x="1240" y="7417"/>
                </a:cubicBezTo>
              </a:path>
              <a:path w="1068" h="6128">
                <a:moveTo>
                  <a:pt x="1563" y="9599"/>
                </a:moveTo>
                <a:cubicBezTo>
                  <a:pt x="1589" y="9539"/>
                  <a:pt x="1604" y="9510"/>
                  <a:pt x="1563" y="9475"/>
                </a:cubicBezTo>
                <a:cubicBezTo>
                  <a:pt x="1542" y="9457"/>
                  <a:pt x="1495" y="9434"/>
                  <a:pt x="1463" y="9451"/>
                </a:cubicBezTo>
                <a:cubicBezTo>
                  <a:pt x="1404" y="9483"/>
                  <a:pt x="1418" y="9566"/>
                  <a:pt x="1389" y="9599"/>
                </a:cubicBezTo>
                <a:cubicBezTo>
                  <a:pt x="1381" y="9599"/>
                  <a:pt x="1372" y="9599"/>
                  <a:pt x="1364" y="9599"/>
                </a:cubicBezTo>
                <a:cubicBezTo>
                  <a:pt x="1408" y="9632"/>
                  <a:pt x="1430" y="9624"/>
                  <a:pt x="1488" y="9624"/>
                </a:cubicBezTo>
                <a:cubicBezTo>
                  <a:pt x="1532" y="9624"/>
                  <a:pt x="1528" y="9625"/>
                  <a:pt x="1563" y="9599"/>
                </a:cubicBezTo>
                <a:cubicBezTo>
                  <a:pt x="1550" y="9521"/>
                  <a:pt x="1543" y="9566"/>
                  <a:pt x="1513" y="9525"/>
                </a:cubicBezTo>
                <a:cubicBezTo>
                  <a:pt x="1465" y="9460"/>
                  <a:pt x="1445" y="9475"/>
                  <a:pt x="1364" y="9475"/>
                </a:cubicBezTo>
              </a:path>
              <a:path w="1068" h="6128">
                <a:moveTo>
                  <a:pt x="1091" y="9971"/>
                </a:moveTo>
                <a:cubicBezTo>
                  <a:pt x="1029" y="10097"/>
                  <a:pt x="978" y="10208"/>
                  <a:pt x="943" y="10344"/>
                </a:cubicBezTo>
                <a:cubicBezTo>
                  <a:pt x="899" y="10517"/>
                  <a:pt x="869" y="10689"/>
                  <a:pt x="843" y="10864"/>
                </a:cubicBezTo>
                <a:cubicBezTo>
                  <a:pt x="819" y="11028"/>
                  <a:pt x="794" y="11169"/>
                  <a:pt x="794" y="11336"/>
                </a:cubicBezTo>
                <a:cubicBezTo>
                  <a:pt x="794" y="11506"/>
                  <a:pt x="800" y="11666"/>
                  <a:pt x="819" y="11832"/>
                </a:cubicBezTo>
                <a:cubicBezTo>
                  <a:pt x="831" y="11936"/>
                  <a:pt x="819" y="12049"/>
                  <a:pt x="819" y="12154"/>
                </a:cubicBezTo>
              </a:path>
              <a:path w="1068" h="6128">
                <a:moveTo>
                  <a:pt x="670" y="11931"/>
                </a:moveTo>
                <a:cubicBezTo>
                  <a:pt x="670" y="12025"/>
                  <a:pt x="667" y="12117"/>
                  <a:pt x="695" y="12204"/>
                </a:cubicBezTo>
                <a:cubicBezTo>
                  <a:pt x="716" y="12270"/>
                  <a:pt x="720" y="12304"/>
                  <a:pt x="769" y="12353"/>
                </a:cubicBezTo>
                <a:cubicBezTo>
                  <a:pt x="794" y="12378"/>
                  <a:pt x="833" y="12398"/>
                  <a:pt x="868" y="12402"/>
                </a:cubicBezTo>
                <a:cubicBezTo>
                  <a:pt x="887" y="12404"/>
                  <a:pt x="979" y="12368"/>
                  <a:pt x="992" y="12353"/>
                </a:cubicBezTo>
                <a:cubicBezTo>
                  <a:pt x="1029" y="12313"/>
                  <a:pt x="1035" y="12277"/>
                  <a:pt x="1042" y="12229"/>
                </a:cubicBezTo>
              </a:path>
              <a:path w="1068" h="6128">
                <a:moveTo>
                  <a:pt x="521" y="12849"/>
                </a:moveTo>
                <a:cubicBezTo>
                  <a:pt x="604" y="12849"/>
                  <a:pt x="686" y="12849"/>
                  <a:pt x="769" y="12849"/>
                </a:cubicBezTo>
              </a:path>
              <a:path w="1068" h="6128">
                <a:moveTo>
                  <a:pt x="1017" y="12700"/>
                </a:moveTo>
                <a:cubicBezTo>
                  <a:pt x="996" y="12758"/>
                  <a:pt x="960" y="12822"/>
                  <a:pt x="943" y="12874"/>
                </a:cubicBezTo>
                <a:cubicBezTo>
                  <a:pt x="932" y="12906"/>
                  <a:pt x="892" y="12947"/>
                  <a:pt x="943" y="12973"/>
                </a:cubicBezTo>
                <a:cubicBezTo>
                  <a:pt x="976" y="12990"/>
                  <a:pt x="985" y="12998"/>
                  <a:pt x="1042" y="12998"/>
                </a:cubicBezTo>
                <a:cubicBezTo>
                  <a:pt x="1104" y="12998"/>
                  <a:pt x="1141" y="13003"/>
                  <a:pt x="1191" y="12973"/>
                </a:cubicBezTo>
              </a:path>
              <a:path w="1068" h="6128">
                <a:moveTo>
                  <a:pt x="1215" y="12725"/>
                </a:moveTo>
                <a:cubicBezTo>
                  <a:pt x="1195" y="12847"/>
                  <a:pt x="1155" y="12976"/>
                  <a:pt x="1141" y="13097"/>
                </a:cubicBezTo>
                <a:cubicBezTo>
                  <a:pt x="1130" y="13193"/>
                  <a:pt x="1109" y="13392"/>
                  <a:pt x="1166" y="134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97240" y="1946160"/>
            <a:ext cx="3330720" cy="285840"/>
          </a:xfrm>
          <a:custGeom>
            <a:avLst/>
            <a:gdLst/>
            <a:ahLst/>
            <a:rect l="l" t="t" r="r" b="b"/>
            <a:pathLst>
              <a:path w="9253" h="795">
                <a:moveTo>
                  <a:pt x="11658" y="6201"/>
                </a:moveTo>
                <a:cubicBezTo>
                  <a:pt x="11691" y="6162"/>
                  <a:pt x="11719" y="6082"/>
                  <a:pt x="11757" y="6052"/>
                </a:cubicBezTo>
                <a:cubicBezTo>
                  <a:pt x="11835" y="5989"/>
                  <a:pt x="11916" y="5972"/>
                  <a:pt x="12005" y="5928"/>
                </a:cubicBezTo>
                <a:cubicBezTo>
                  <a:pt x="12225" y="5820"/>
                  <a:pt x="12458" y="5806"/>
                  <a:pt x="12700" y="5779"/>
                </a:cubicBezTo>
                <a:cubicBezTo>
                  <a:pt x="12865" y="5761"/>
                  <a:pt x="13029" y="5757"/>
                  <a:pt x="13196" y="5755"/>
                </a:cubicBezTo>
                <a:cubicBezTo>
                  <a:pt x="13562" y="5751"/>
                  <a:pt x="13924" y="5762"/>
                  <a:pt x="14288" y="5779"/>
                </a:cubicBezTo>
                <a:cubicBezTo>
                  <a:pt x="14534" y="5791"/>
                  <a:pt x="14784" y="5834"/>
                  <a:pt x="15032" y="5829"/>
                </a:cubicBezTo>
                <a:cubicBezTo>
                  <a:pt x="15271" y="5825"/>
                  <a:pt x="15539" y="5784"/>
                  <a:pt x="15776" y="5755"/>
                </a:cubicBezTo>
                <a:cubicBezTo>
                  <a:pt x="15969" y="5731"/>
                  <a:pt x="16160" y="5682"/>
                  <a:pt x="16346" y="5631"/>
                </a:cubicBezTo>
                <a:cubicBezTo>
                  <a:pt x="16537" y="5579"/>
                  <a:pt x="16722" y="5518"/>
                  <a:pt x="16917" y="5482"/>
                </a:cubicBezTo>
                <a:cubicBezTo>
                  <a:pt x="17097" y="5448"/>
                  <a:pt x="17279" y="5407"/>
                  <a:pt x="17462" y="5407"/>
                </a:cubicBezTo>
                <a:cubicBezTo>
                  <a:pt x="17633" y="5407"/>
                  <a:pt x="17776" y="5449"/>
                  <a:pt x="17934" y="5482"/>
                </a:cubicBezTo>
                <a:cubicBezTo>
                  <a:pt x="18085" y="5513"/>
                  <a:pt x="18237" y="5554"/>
                  <a:pt x="18380" y="5606"/>
                </a:cubicBezTo>
                <a:cubicBezTo>
                  <a:pt x="18554" y="5669"/>
                  <a:pt x="18723" y="5735"/>
                  <a:pt x="18901" y="5779"/>
                </a:cubicBezTo>
                <a:cubicBezTo>
                  <a:pt x="19149" y="5840"/>
                  <a:pt x="19415" y="5932"/>
                  <a:pt x="19670" y="5953"/>
                </a:cubicBezTo>
                <a:cubicBezTo>
                  <a:pt x="20019" y="5981"/>
                  <a:pt x="20414" y="6080"/>
                  <a:pt x="20762" y="6052"/>
                </a:cubicBezTo>
                <a:cubicBezTo>
                  <a:pt x="20842" y="6046"/>
                  <a:pt x="20878" y="5987"/>
                  <a:pt x="20910" y="59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30800" y="3875040"/>
            <a:ext cx="2428920" cy="1054080"/>
          </a:xfrm>
          <a:custGeom>
            <a:avLst/>
            <a:gdLst/>
            <a:ahLst/>
            <a:rect l="l" t="t" r="r" b="b"/>
            <a:pathLst>
              <a:path w="6748" h="2928">
                <a:moveTo>
                  <a:pt x="12030" y="13196"/>
                </a:moveTo>
                <a:cubicBezTo>
                  <a:pt x="12134" y="13215"/>
                  <a:pt x="12221" y="13238"/>
                  <a:pt x="12328" y="13246"/>
                </a:cubicBezTo>
                <a:cubicBezTo>
                  <a:pt x="12533" y="13262"/>
                  <a:pt x="12743" y="13284"/>
                  <a:pt x="12948" y="13295"/>
                </a:cubicBezTo>
                <a:cubicBezTo>
                  <a:pt x="13174" y="13307"/>
                  <a:pt x="13393" y="13340"/>
                  <a:pt x="13618" y="13370"/>
                </a:cubicBezTo>
                <a:cubicBezTo>
                  <a:pt x="14467" y="13483"/>
                  <a:pt x="15320" y="13581"/>
                  <a:pt x="16173" y="13643"/>
                </a:cubicBezTo>
                <a:cubicBezTo>
                  <a:pt x="16454" y="13663"/>
                  <a:pt x="16734" y="13688"/>
                  <a:pt x="17016" y="13692"/>
                </a:cubicBezTo>
                <a:cubicBezTo>
                  <a:pt x="17255" y="13695"/>
                  <a:pt x="17498" y="13691"/>
                  <a:pt x="17735" y="13667"/>
                </a:cubicBezTo>
                <a:cubicBezTo>
                  <a:pt x="17959" y="13644"/>
                  <a:pt x="18181" y="13626"/>
                  <a:pt x="18405" y="13593"/>
                </a:cubicBezTo>
                <a:cubicBezTo>
                  <a:pt x="18485" y="13581"/>
                  <a:pt x="18584" y="13568"/>
                  <a:pt x="18653" y="13519"/>
                </a:cubicBezTo>
                <a:cubicBezTo>
                  <a:pt x="18725" y="13468"/>
                  <a:pt x="18725" y="13441"/>
                  <a:pt x="18777" y="13370"/>
                </a:cubicBezTo>
              </a:path>
              <a:path w="6748" h="2928">
                <a:moveTo>
                  <a:pt x="18653" y="10765"/>
                </a:moveTo>
                <a:cubicBezTo>
                  <a:pt x="18648" y="10821"/>
                  <a:pt x="18631" y="10908"/>
                  <a:pt x="18604" y="10988"/>
                </a:cubicBezTo>
                <a:cubicBezTo>
                  <a:pt x="18549" y="11155"/>
                  <a:pt x="18488" y="11319"/>
                  <a:pt x="18430" y="11485"/>
                </a:cubicBezTo>
                <a:cubicBezTo>
                  <a:pt x="18366" y="11668"/>
                  <a:pt x="18301" y="11867"/>
                  <a:pt x="18256" y="12055"/>
                </a:cubicBezTo>
                <a:cubicBezTo>
                  <a:pt x="18212" y="12236"/>
                  <a:pt x="18206" y="12419"/>
                  <a:pt x="18182" y="12601"/>
                </a:cubicBezTo>
                <a:cubicBezTo>
                  <a:pt x="18163" y="12747"/>
                  <a:pt x="18180" y="12903"/>
                  <a:pt x="18157" y="13047"/>
                </a:cubicBezTo>
                <a:cubicBezTo>
                  <a:pt x="18148" y="13103"/>
                  <a:pt x="18150" y="13252"/>
                  <a:pt x="18107" y="13295"/>
                </a:cubicBezTo>
                <a:cubicBezTo>
                  <a:pt x="18085" y="13318"/>
                  <a:pt x="18080" y="13326"/>
                  <a:pt x="18058" y="133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2840" y="2536920"/>
            <a:ext cx="2492280" cy="1892160"/>
          </a:xfrm>
          <a:custGeom>
            <a:avLst/>
            <a:gdLst/>
            <a:ahLst/>
            <a:rect l="l" t="t" r="r" b="b"/>
            <a:pathLst>
              <a:path w="6922" h="5259">
                <a:moveTo>
                  <a:pt x="1836" y="11410"/>
                </a:moveTo>
                <a:cubicBezTo>
                  <a:pt x="1836" y="11418"/>
                  <a:pt x="1836" y="11427"/>
                  <a:pt x="1836" y="11435"/>
                </a:cubicBezTo>
                <a:cubicBezTo>
                  <a:pt x="1867" y="11427"/>
                  <a:pt x="1919" y="11396"/>
                  <a:pt x="1935" y="11361"/>
                </a:cubicBezTo>
                <a:cubicBezTo>
                  <a:pt x="1949" y="11331"/>
                  <a:pt x="1966" y="11299"/>
                  <a:pt x="1935" y="11311"/>
                </a:cubicBezTo>
                <a:cubicBezTo>
                  <a:pt x="1898" y="11326"/>
                  <a:pt x="1924" y="11323"/>
                  <a:pt x="1885" y="11336"/>
                </a:cubicBezTo>
                <a:cubicBezTo>
                  <a:pt x="1942" y="11378"/>
                  <a:pt x="1929" y="11352"/>
                  <a:pt x="1960" y="11336"/>
                </a:cubicBezTo>
                <a:cubicBezTo>
                  <a:pt x="1995" y="11318"/>
                  <a:pt x="1998" y="11330"/>
                  <a:pt x="2009" y="11286"/>
                </a:cubicBezTo>
                <a:cubicBezTo>
                  <a:pt x="1972" y="11295"/>
                  <a:pt x="1920" y="11316"/>
                  <a:pt x="1960" y="11336"/>
                </a:cubicBezTo>
              </a:path>
              <a:path w="6922" h="5259">
                <a:moveTo>
                  <a:pt x="4713" y="8607"/>
                </a:moveTo>
                <a:cubicBezTo>
                  <a:pt x="4745" y="8535"/>
                  <a:pt x="4744" y="8556"/>
                  <a:pt x="4713" y="8483"/>
                </a:cubicBezTo>
                <a:cubicBezTo>
                  <a:pt x="4674" y="8522"/>
                  <a:pt x="4628" y="8537"/>
                  <a:pt x="4663" y="8582"/>
                </a:cubicBezTo>
                <a:cubicBezTo>
                  <a:pt x="4674" y="8596"/>
                  <a:pt x="4744" y="8630"/>
                  <a:pt x="4762" y="8607"/>
                </a:cubicBezTo>
                <a:cubicBezTo>
                  <a:pt x="4769" y="8598"/>
                  <a:pt x="4762" y="8545"/>
                  <a:pt x="4762" y="8533"/>
                </a:cubicBezTo>
                <a:cubicBezTo>
                  <a:pt x="4718" y="8533"/>
                  <a:pt x="4702" y="8548"/>
                  <a:pt x="4663" y="8558"/>
                </a:cubicBezTo>
              </a:path>
              <a:path w="6922" h="5259">
                <a:moveTo>
                  <a:pt x="868" y="7441"/>
                </a:moveTo>
                <a:cubicBezTo>
                  <a:pt x="880" y="7514"/>
                  <a:pt x="883" y="7568"/>
                  <a:pt x="893" y="7640"/>
                </a:cubicBezTo>
                <a:cubicBezTo>
                  <a:pt x="902" y="7707"/>
                  <a:pt x="901" y="7773"/>
                  <a:pt x="918" y="7838"/>
                </a:cubicBezTo>
                <a:cubicBezTo>
                  <a:pt x="932" y="7894"/>
                  <a:pt x="948" y="7958"/>
                  <a:pt x="967" y="8012"/>
                </a:cubicBezTo>
                <a:cubicBezTo>
                  <a:pt x="1000" y="8105"/>
                  <a:pt x="1039" y="8192"/>
                  <a:pt x="1067" y="8285"/>
                </a:cubicBezTo>
                <a:cubicBezTo>
                  <a:pt x="1090" y="8361"/>
                  <a:pt x="1121" y="8433"/>
                  <a:pt x="1141" y="8508"/>
                </a:cubicBezTo>
                <a:cubicBezTo>
                  <a:pt x="1169" y="8611"/>
                  <a:pt x="1207" y="8706"/>
                  <a:pt x="1240" y="8806"/>
                </a:cubicBezTo>
                <a:cubicBezTo>
                  <a:pt x="1271" y="8899"/>
                  <a:pt x="1287" y="8989"/>
                  <a:pt x="1315" y="9079"/>
                </a:cubicBezTo>
                <a:cubicBezTo>
                  <a:pt x="1341" y="9164"/>
                  <a:pt x="1386" y="9249"/>
                  <a:pt x="1414" y="9327"/>
                </a:cubicBezTo>
                <a:cubicBezTo>
                  <a:pt x="1466" y="9473"/>
                  <a:pt x="1494" y="9630"/>
                  <a:pt x="1538" y="9773"/>
                </a:cubicBezTo>
                <a:cubicBezTo>
                  <a:pt x="1585" y="9924"/>
                  <a:pt x="1626" y="10066"/>
                  <a:pt x="1662" y="10220"/>
                </a:cubicBezTo>
                <a:cubicBezTo>
                  <a:pt x="1684" y="10314"/>
                  <a:pt x="1713" y="10399"/>
                  <a:pt x="1736" y="10492"/>
                </a:cubicBezTo>
                <a:cubicBezTo>
                  <a:pt x="1757" y="10576"/>
                  <a:pt x="1760" y="10683"/>
                  <a:pt x="1786" y="10765"/>
                </a:cubicBezTo>
                <a:cubicBezTo>
                  <a:pt x="1805" y="10825"/>
                  <a:pt x="1839" y="10880"/>
                  <a:pt x="1860" y="10939"/>
                </a:cubicBezTo>
                <a:cubicBezTo>
                  <a:pt x="1890" y="11025"/>
                  <a:pt x="1907" y="11122"/>
                  <a:pt x="1935" y="11212"/>
                </a:cubicBezTo>
                <a:cubicBezTo>
                  <a:pt x="1948" y="11254"/>
                  <a:pt x="1966" y="11319"/>
                  <a:pt x="1984" y="11361"/>
                </a:cubicBezTo>
                <a:cubicBezTo>
                  <a:pt x="2013" y="11430"/>
                  <a:pt x="2058" y="11495"/>
                  <a:pt x="2084" y="11559"/>
                </a:cubicBezTo>
                <a:cubicBezTo>
                  <a:pt x="2101" y="11600"/>
                  <a:pt x="2117" y="11642"/>
                  <a:pt x="2133" y="11683"/>
                </a:cubicBezTo>
                <a:cubicBezTo>
                  <a:pt x="2146" y="11715"/>
                  <a:pt x="2143" y="11751"/>
                  <a:pt x="2158" y="11782"/>
                </a:cubicBezTo>
                <a:cubicBezTo>
                  <a:pt x="2174" y="11815"/>
                  <a:pt x="2192" y="11850"/>
                  <a:pt x="2208" y="11881"/>
                </a:cubicBezTo>
                <a:cubicBezTo>
                  <a:pt x="2228" y="11919"/>
                  <a:pt x="2261" y="11946"/>
                  <a:pt x="2282" y="11981"/>
                </a:cubicBezTo>
                <a:cubicBezTo>
                  <a:pt x="2301" y="12014"/>
                  <a:pt x="2306" y="12047"/>
                  <a:pt x="2332" y="12080"/>
                </a:cubicBezTo>
                <a:cubicBezTo>
                  <a:pt x="2359" y="12113"/>
                  <a:pt x="2389" y="12137"/>
                  <a:pt x="2406" y="12154"/>
                </a:cubicBezTo>
                <a:cubicBezTo>
                  <a:pt x="2454" y="12200"/>
                  <a:pt x="2497" y="12255"/>
                  <a:pt x="2555" y="12278"/>
                </a:cubicBezTo>
                <a:cubicBezTo>
                  <a:pt x="2581" y="12288"/>
                  <a:pt x="2628" y="12301"/>
                  <a:pt x="2654" y="12303"/>
                </a:cubicBezTo>
                <a:cubicBezTo>
                  <a:pt x="2727" y="12309"/>
                  <a:pt x="2771" y="12290"/>
                  <a:pt x="2828" y="12278"/>
                </a:cubicBezTo>
                <a:cubicBezTo>
                  <a:pt x="2884" y="12267"/>
                  <a:pt x="2923" y="12259"/>
                  <a:pt x="2977" y="12229"/>
                </a:cubicBezTo>
                <a:cubicBezTo>
                  <a:pt x="3010" y="12211"/>
                  <a:pt x="3028" y="12195"/>
                  <a:pt x="3051" y="12179"/>
                </a:cubicBezTo>
                <a:cubicBezTo>
                  <a:pt x="3076" y="12162"/>
                  <a:pt x="3134" y="12120"/>
                  <a:pt x="3150" y="12105"/>
                </a:cubicBezTo>
                <a:cubicBezTo>
                  <a:pt x="3188" y="12070"/>
                  <a:pt x="3193" y="12037"/>
                  <a:pt x="3225" y="12005"/>
                </a:cubicBezTo>
                <a:cubicBezTo>
                  <a:pt x="3299" y="11931"/>
                  <a:pt x="3338" y="11860"/>
                  <a:pt x="3398" y="11782"/>
                </a:cubicBezTo>
                <a:cubicBezTo>
                  <a:pt x="3460" y="11701"/>
                  <a:pt x="3500" y="11649"/>
                  <a:pt x="3547" y="11559"/>
                </a:cubicBezTo>
                <a:cubicBezTo>
                  <a:pt x="3570" y="11515"/>
                  <a:pt x="3601" y="11459"/>
                  <a:pt x="3621" y="11410"/>
                </a:cubicBezTo>
                <a:cubicBezTo>
                  <a:pt x="3648" y="11344"/>
                  <a:pt x="3671" y="11281"/>
                  <a:pt x="3696" y="11212"/>
                </a:cubicBezTo>
                <a:cubicBezTo>
                  <a:pt x="3719" y="11149"/>
                  <a:pt x="3744" y="11080"/>
                  <a:pt x="3770" y="11013"/>
                </a:cubicBezTo>
                <a:cubicBezTo>
                  <a:pt x="3855" y="10790"/>
                  <a:pt x="3935" y="10569"/>
                  <a:pt x="4018" y="10344"/>
                </a:cubicBezTo>
                <a:cubicBezTo>
                  <a:pt x="4070" y="10203"/>
                  <a:pt x="4103" y="10063"/>
                  <a:pt x="4142" y="9922"/>
                </a:cubicBezTo>
                <a:cubicBezTo>
                  <a:pt x="4241" y="9566"/>
                  <a:pt x="4392" y="9223"/>
                  <a:pt x="4514" y="8880"/>
                </a:cubicBezTo>
                <a:cubicBezTo>
                  <a:pt x="4554" y="8769"/>
                  <a:pt x="4599" y="8668"/>
                  <a:pt x="4638" y="8558"/>
                </a:cubicBezTo>
                <a:cubicBezTo>
                  <a:pt x="4680" y="8439"/>
                  <a:pt x="4723" y="8328"/>
                  <a:pt x="4762" y="8210"/>
                </a:cubicBezTo>
                <a:cubicBezTo>
                  <a:pt x="4849" y="7950"/>
                  <a:pt x="4944" y="7679"/>
                  <a:pt x="5011" y="7417"/>
                </a:cubicBezTo>
                <a:cubicBezTo>
                  <a:pt x="5024" y="7365"/>
                  <a:pt x="5017" y="7293"/>
                  <a:pt x="5035" y="7243"/>
                </a:cubicBezTo>
                <a:cubicBezTo>
                  <a:pt x="5051" y="7199"/>
                  <a:pt x="5068" y="7213"/>
                  <a:pt x="5085" y="7169"/>
                </a:cubicBezTo>
                <a:cubicBezTo>
                  <a:pt x="5066" y="7192"/>
                  <a:pt x="5038" y="7237"/>
                  <a:pt x="5011" y="7268"/>
                </a:cubicBezTo>
                <a:cubicBezTo>
                  <a:pt x="4953" y="7336"/>
                  <a:pt x="4870" y="7390"/>
                  <a:pt x="4812" y="7441"/>
                </a:cubicBezTo>
                <a:cubicBezTo>
                  <a:pt x="4813" y="7436"/>
                  <a:pt x="4796" y="7372"/>
                  <a:pt x="4812" y="7342"/>
                </a:cubicBezTo>
                <a:cubicBezTo>
                  <a:pt x="4847" y="7276"/>
                  <a:pt x="4896" y="7209"/>
                  <a:pt x="4936" y="7144"/>
                </a:cubicBezTo>
                <a:cubicBezTo>
                  <a:pt x="4956" y="7112"/>
                  <a:pt x="4993" y="7072"/>
                  <a:pt x="5011" y="7045"/>
                </a:cubicBezTo>
                <a:cubicBezTo>
                  <a:pt x="5040" y="7063"/>
                  <a:pt x="5062" y="7093"/>
                  <a:pt x="5110" y="7119"/>
                </a:cubicBezTo>
                <a:cubicBezTo>
                  <a:pt x="5227" y="7183"/>
                  <a:pt x="5354" y="7243"/>
                  <a:pt x="5482" y="7268"/>
                </a:cubicBezTo>
                <a:cubicBezTo>
                  <a:pt x="5514" y="7274"/>
                  <a:pt x="5549" y="7262"/>
                  <a:pt x="5581" y="7268"/>
                </a:cubicBezTo>
              </a:path>
              <a:path w="6922" h="5259">
                <a:moveTo>
                  <a:pt x="4341" y="9550"/>
                </a:moveTo>
                <a:cubicBezTo>
                  <a:pt x="4369" y="9529"/>
                  <a:pt x="4422" y="9486"/>
                  <a:pt x="4415" y="9451"/>
                </a:cubicBezTo>
                <a:cubicBezTo>
                  <a:pt x="4403" y="9393"/>
                  <a:pt x="4374" y="9420"/>
                  <a:pt x="4341" y="9401"/>
                </a:cubicBezTo>
                <a:cubicBezTo>
                  <a:pt x="4279" y="9367"/>
                  <a:pt x="4301" y="9381"/>
                  <a:pt x="4242" y="9401"/>
                </a:cubicBezTo>
                <a:cubicBezTo>
                  <a:pt x="4202" y="9414"/>
                  <a:pt x="4166" y="9398"/>
                  <a:pt x="4142" y="9451"/>
                </a:cubicBezTo>
                <a:cubicBezTo>
                  <a:pt x="4118" y="9505"/>
                  <a:pt x="4156" y="9562"/>
                  <a:pt x="4217" y="9550"/>
                </a:cubicBezTo>
                <a:cubicBezTo>
                  <a:pt x="4346" y="9524"/>
                  <a:pt x="4287" y="9529"/>
                  <a:pt x="4341" y="9475"/>
                </a:cubicBezTo>
                <a:cubicBezTo>
                  <a:pt x="4365" y="9451"/>
                  <a:pt x="4366" y="9478"/>
                  <a:pt x="4366" y="9426"/>
                </a:cubicBezTo>
                <a:cubicBezTo>
                  <a:pt x="4353" y="9388"/>
                  <a:pt x="4336" y="9401"/>
                  <a:pt x="4291" y="9401"/>
                </a:cubicBezTo>
                <a:cubicBezTo>
                  <a:pt x="4246" y="9401"/>
                  <a:pt x="4239" y="9384"/>
                  <a:pt x="4266" y="9426"/>
                </a:cubicBezTo>
              </a:path>
              <a:path w="6922" h="5259">
                <a:moveTo>
                  <a:pt x="4738" y="9550"/>
                </a:moveTo>
                <a:cubicBezTo>
                  <a:pt x="4691" y="9643"/>
                  <a:pt x="4628" y="9687"/>
                  <a:pt x="4589" y="9773"/>
                </a:cubicBezTo>
                <a:cubicBezTo>
                  <a:pt x="4570" y="9814"/>
                  <a:pt x="4509" y="9961"/>
                  <a:pt x="4514" y="9996"/>
                </a:cubicBezTo>
                <a:cubicBezTo>
                  <a:pt x="4523" y="10061"/>
                  <a:pt x="4569" y="10124"/>
                  <a:pt x="4614" y="10170"/>
                </a:cubicBezTo>
                <a:cubicBezTo>
                  <a:pt x="4646" y="10203"/>
                  <a:pt x="4669" y="10195"/>
                  <a:pt x="4713" y="10195"/>
                </a:cubicBezTo>
              </a:path>
              <a:path w="6922" h="5259">
                <a:moveTo>
                  <a:pt x="4812" y="9847"/>
                </a:moveTo>
                <a:cubicBezTo>
                  <a:pt x="4950" y="9847"/>
                  <a:pt x="4933" y="9846"/>
                  <a:pt x="5035" y="9897"/>
                </a:cubicBezTo>
                <a:cubicBezTo>
                  <a:pt x="5043" y="9897"/>
                  <a:pt x="5052" y="9897"/>
                  <a:pt x="5060" y="9897"/>
                </a:cubicBezTo>
              </a:path>
              <a:path w="6922" h="5259">
                <a:moveTo>
                  <a:pt x="5308" y="9748"/>
                </a:moveTo>
                <a:cubicBezTo>
                  <a:pt x="5283" y="9790"/>
                  <a:pt x="5251" y="9845"/>
                  <a:pt x="5234" y="9897"/>
                </a:cubicBezTo>
                <a:cubicBezTo>
                  <a:pt x="5234" y="9905"/>
                  <a:pt x="5234" y="9914"/>
                  <a:pt x="5234" y="9922"/>
                </a:cubicBezTo>
                <a:cubicBezTo>
                  <a:pt x="5273" y="9912"/>
                  <a:pt x="5288" y="9897"/>
                  <a:pt x="5333" y="9897"/>
                </a:cubicBezTo>
                <a:cubicBezTo>
                  <a:pt x="5399" y="9897"/>
                  <a:pt x="5465" y="9897"/>
                  <a:pt x="5531" y="9897"/>
                </a:cubicBezTo>
              </a:path>
              <a:path w="6922" h="5259">
                <a:moveTo>
                  <a:pt x="5531" y="9599"/>
                </a:moveTo>
                <a:cubicBezTo>
                  <a:pt x="5514" y="9707"/>
                  <a:pt x="5497" y="9816"/>
                  <a:pt x="5482" y="9922"/>
                </a:cubicBezTo>
                <a:cubicBezTo>
                  <a:pt x="5472" y="9991"/>
                  <a:pt x="5471" y="10053"/>
                  <a:pt x="5457" y="10120"/>
                </a:cubicBezTo>
                <a:cubicBezTo>
                  <a:pt x="5446" y="10169"/>
                  <a:pt x="5438" y="10224"/>
                  <a:pt x="5482" y="10195"/>
                </a:cubicBezTo>
              </a:path>
              <a:path w="6922" h="5259">
                <a:moveTo>
                  <a:pt x="5804" y="9624"/>
                </a:moveTo>
                <a:cubicBezTo>
                  <a:pt x="5804" y="9649"/>
                  <a:pt x="5766" y="9889"/>
                  <a:pt x="5779" y="9922"/>
                </a:cubicBezTo>
                <a:cubicBezTo>
                  <a:pt x="5794" y="9960"/>
                  <a:pt x="5804" y="10046"/>
                  <a:pt x="5804" y="10120"/>
                </a:cubicBezTo>
              </a:path>
              <a:path w="6922" h="5259">
                <a:moveTo>
                  <a:pt x="5631" y="9847"/>
                </a:moveTo>
                <a:cubicBezTo>
                  <a:pt x="5722" y="9847"/>
                  <a:pt x="5813" y="9847"/>
                  <a:pt x="5904" y="9847"/>
                </a:cubicBezTo>
              </a:path>
              <a:path w="6922" h="5259">
                <a:moveTo>
                  <a:pt x="6052" y="9922"/>
                </a:moveTo>
                <a:cubicBezTo>
                  <a:pt x="6052" y="10089"/>
                  <a:pt x="6068" y="10020"/>
                  <a:pt x="6077" y="10120"/>
                </a:cubicBezTo>
                <a:cubicBezTo>
                  <a:pt x="6077" y="10145"/>
                  <a:pt x="6077" y="10153"/>
                  <a:pt x="6102" y="10145"/>
                </a:cubicBezTo>
                <a:cubicBezTo>
                  <a:pt x="6092" y="10096"/>
                  <a:pt x="6059" y="10045"/>
                  <a:pt x="6052" y="9996"/>
                </a:cubicBezTo>
                <a:cubicBezTo>
                  <a:pt x="6042" y="9920"/>
                  <a:pt x="6040" y="9736"/>
                  <a:pt x="6077" y="9699"/>
                </a:cubicBezTo>
                <a:cubicBezTo>
                  <a:pt x="6128" y="9649"/>
                  <a:pt x="6126" y="9618"/>
                  <a:pt x="6201" y="9599"/>
                </a:cubicBezTo>
                <a:cubicBezTo>
                  <a:pt x="6273" y="9581"/>
                  <a:pt x="6289" y="9550"/>
                  <a:pt x="6375" y="9550"/>
                </a:cubicBezTo>
                <a:cubicBezTo>
                  <a:pt x="6425" y="9550"/>
                  <a:pt x="6474" y="9550"/>
                  <a:pt x="6524" y="9550"/>
                </a:cubicBezTo>
              </a:path>
              <a:path w="6922" h="5259">
                <a:moveTo>
                  <a:pt x="6300" y="9748"/>
                </a:moveTo>
                <a:cubicBezTo>
                  <a:pt x="6381" y="9748"/>
                  <a:pt x="6339" y="9740"/>
                  <a:pt x="6400" y="9699"/>
                </a:cubicBezTo>
                <a:cubicBezTo>
                  <a:pt x="6427" y="9681"/>
                  <a:pt x="6535" y="9699"/>
                  <a:pt x="6573" y="9699"/>
                </a:cubicBezTo>
                <a:cubicBezTo>
                  <a:pt x="6573" y="9763"/>
                  <a:pt x="6567" y="9814"/>
                  <a:pt x="6499" y="9847"/>
                </a:cubicBezTo>
                <a:cubicBezTo>
                  <a:pt x="6484" y="9854"/>
                  <a:pt x="6441" y="9847"/>
                  <a:pt x="6424" y="9847"/>
                </a:cubicBezTo>
                <a:cubicBezTo>
                  <a:pt x="6435" y="9915"/>
                  <a:pt x="6433" y="9897"/>
                  <a:pt x="6499" y="9897"/>
                </a:cubicBezTo>
                <a:cubicBezTo>
                  <a:pt x="6527" y="9897"/>
                  <a:pt x="6583" y="9904"/>
                  <a:pt x="6598" y="9922"/>
                </a:cubicBezTo>
                <a:cubicBezTo>
                  <a:pt x="6625" y="9955"/>
                  <a:pt x="6637" y="10031"/>
                  <a:pt x="6623" y="10071"/>
                </a:cubicBezTo>
                <a:cubicBezTo>
                  <a:pt x="6598" y="10144"/>
                  <a:pt x="6553" y="10112"/>
                  <a:pt x="6499" y="10145"/>
                </a:cubicBezTo>
                <a:cubicBezTo>
                  <a:pt x="6435" y="10183"/>
                  <a:pt x="6432" y="10164"/>
                  <a:pt x="6375" y="10145"/>
                </a:cubicBezTo>
                <a:cubicBezTo>
                  <a:pt x="6369" y="10143"/>
                  <a:pt x="6282" y="10145"/>
                  <a:pt x="6350" y="10145"/>
                </a:cubicBezTo>
              </a:path>
              <a:path w="6922" h="5259">
                <a:moveTo>
                  <a:pt x="6821" y="10046"/>
                </a:moveTo>
                <a:cubicBezTo>
                  <a:pt x="6800" y="10137"/>
                  <a:pt x="6777" y="10168"/>
                  <a:pt x="6747" y="10244"/>
                </a:cubicBezTo>
                <a:cubicBezTo>
                  <a:pt x="6743" y="10254"/>
                  <a:pt x="6722" y="10344"/>
                  <a:pt x="6722" y="10344"/>
                </a:cubicBezTo>
                <a:cubicBezTo>
                  <a:pt x="6710" y="10332"/>
                  <a:pt x="6743" y="10284"/>
                  <a:pt x="6747" y="10269"/>
                </a:cubicBezTo>
              </a:path>
              <a:path w="6922" h="5259">
                <a:moveTo>
                  <a:pt x="7119" y="9674"/>
                </a:moveTo>
                <a:cubicBezTo>
                  <a:pt x="7092" y="9774"/>
                  <a:pt x="7065" y="9874"/>
                  <a:pt x="7045" y="9971"/>
                </a:cubicBezTo>
                <a:cubicBezTo>
                  <a:pt x="7040" y="9995"/>
                  <a:pt x="7074" y="10103"/>
                  <a:pt x="7094" y="10120"/>
                </a:cubicBezTo>
                <a:cubicBezTo>
                  <a:pt x="7115" y="10138"/>
                  <a:pt x="7160" y="10145"/>
                  <a:pt x="7193" y="10145"/>
                </a:cubicBezTo>
                <a:cubicBezTo>
                  <a:pt x="7237" y="10145"/>
                  <a:pt x="7262" y="10084"/>
                  <a:pt x="7268" y="10071"/>
                </a:cubicBezTo>
                <a:cubicBezTo>
                  <a:pt x="7303" y="9997"/>
                  <a:pt x="7293" y="9926"/>
                  <a:pt x="7293" y="9847"/>
                </a:cubicBezTo>
                <a:cubicBezTo>
                  <a:pt x="7293" y="9812"/>
                  <a:pt x="7247" y="9721"/>
                  <a:pt x="7218" y="9699"/>
                </a:cubicBezTo>
                <a:cubicBezTo>
                  <a:pt x="7178" y="9668"/>
                  <a:pt x="7179" y="9685"/>
                  <a:pt x="7144" y="9624"/>
                </a:cubicBezTo>
              </a:path>
              <a:path w="6922" h="5259">
                <a:moveTo>
                  <a:pt x="7392" y="9401"/>
                </a:moveTo>
                <a:cubicBezTo>
                  <a:pt x="7491" y="9486"/>
                  <a:pt x="7565" y="9566"/>
                  <a:pt x="7640" y="9674"/>
                </a:cubicBezTo>
                <a:cubicBezTo>
                  <a:pt x="7711" y="9778"/>
                  <a:pt x="7730" y="9884"/>
                  <a:pt x="7764" y="9996"/>
                </a:cubicBezTo>
                <a:cubicBezTo>
                  <a:pt x="7787" y="10072"/>
                  <a:pt x="7795" y="10119"/>
                  <a:pt x="7764" y="10195"/>
                </a:cubicBezTo>
                <a:cubicBezTo>
                  <a:pt x="7731" y="10276"/>
                  <a:pt x="7696" y="10275"/>
                  <a:pt x="7615" y="103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18000" y="2544840"/>
            <a:ext cx="3054240" cy="839880"/>
          </a:xfrm>
          <a:custGeom>
            <a:avLst/>
            <a:gdLst/>
            <a:ahLst/>
            <a:rect l="l" t="t" r="r" b="b"/>
            <a:pathLst>
              <a:path w="8484" h="2333">
                <a:moveTo>
                  <a:pt x="12551" y="8161"/>
                </a:moveTo>
                <a:cubicBezTo>
                  <a:pt x="12560" y="8221"/>
                  <a:pt x="12590" y="8249"/>
                  <a:pt x="12601" y="8310"/>
                </a:cubicBezTo>
                <a:cubicBezTo>
                  <a:pt x="12613" y="8375"/>
                  <a:pt x="12643" y="8419"/>
                  <a:pt x="12675" y="8483"/>
                </a:cubicBezTo>
                <a:cubicBezTo>
                  <a:pt x="12713" y="8558"/>
                  <a:pt x="12750" y="8615"/>
                  <a:pt x="12799" y="8682"/>
                </a:cubicBezTo>
                <a:cubicBezTo>
                  <a:pt x="12835" y="8731"/>
                  <a:pt x="12858" y="8765"/>
                  <a:pt x="12898" y="8806"/>
                </a:cubicBezTo>
                <a:cubicBezTo>
                  <a:pt x="12931" y="8762"/>
                  <a:pt x="12923" y="8740"/>
                  <a:pt x="12923" y="8682"/>
                </a:cubicBezTo>
              </a:path>
              <a:path w="8484" h="2333">
                <a:moveTo>
                  <a:pt x="13146" y="8012"/>
                </a:moveTo>
                <a:cubicBezTo>
                  <a:pt x="13121" y="8105"/>
                  <a:pt x="13103" y="8192"/>
                  <a:pt x="13072" y="8285"/>
                </a:cubicBezTo>
                <a:cubicBezTo>
                  <a:pt x="13019" y="8442"/>
                  <a:pt x="12967" y="8642"/>
                  <a:pt x="12948" y="8806"/>
                </a:cubicBezTo>
                <a:cubicBezTo>
                  <a:pt x="12933" y="8934"/>
                  <a:pt x="12934" y="9054"/>
                  <a:pt x="12898" y="9178"/>
                </a:cubicBezTo>
                <a:cubicBezTo>
                  <a:pt x="12871" y="9271"/>
                  <a:pt x="12856" y="9321"/>
                  <a:pt x="12849" y="9401"/>
                </a:cubicBezTo>
                <a:cubicBezTo>
                  <a:pt x="12849" y="9383"/>
                  <a:pt x="12867" y="9301"/>
                  <a:pt x="12898" y="9227"/>
                </a:cubicBezTo>
              </a:path>
              <a:path w="8484" h="2333">
                <a:moveTo>
                  <a:pt x="13345" y="8012"/>
                </a:moveTo>
                <a:cubicBezTo>
                  <a:pt x="13388" y="8044"/>
                  <a:pt x="13463" y="8055"/>
                  <a:pt x="13519" y="8062"/>
                </a:cubicBezTo>
                <a:cubicBezTo>
                  <a:pt x="13666" y="8081"/>
                  <a:pt x="14064" y="8062"/>
                  <a:pt x="13915" y="8062"/>
                </a:cubicBezTo>
              </a:path>
              <a:path w="8484" h="2333">
                <a:moveTo>
                  <a:pt x="13543" y="8285"/>
                </a:moveTo>
                <a:cubicBezTo>
                  <a:pt x="13615" y="8292"/>
                  <a:pt x="13670" y="8310"/>
                  <a:pt x="13742" y="8310"/>
                </a:cubicBezTo>
                <a:cubicBezTo>
                  <a:pt x="13816" y="8310"/>
                  <a:pt x="13891" y="8310"/>
                  <a:pt x="13965" y="8310"/>
                </a:cubicBezTo>
              </a:path>
              <a:path w="8484" h="2333">
                <a:moveTo>
                  <a:pt x="14560" y="7541"/>
                </a:moveTo>
                <a:cubicBezTo>
                  <a:pt x="14549" y="7595"/>
                  <a:pt x="14525" y="7638"/>
                  <a:pt x="14511" y="7689"/>
                </a:cubicBezTo>
                <a:cubicBezTo>
                  <a:pt x="14486" y="7782"/>
                  <a:pt x="14442" y="7870"/>
                  <a:pt x="14412" y="7962"/>
                </a:cubicBezTo>
                <a:cubicBezTo>
                  <a:pt x="14379" y="8061"/>
                  <a:pt x="14384" y="8161"/>
                  <a:pt x="14362" y="8260"/>
                </a:cubicBezTo>
                <a:cubicBezTo>
                  <a:pt x="14339" y="8360"/>
                  <a:pt x="14357" y="8387"/>
                  <a:pt x="14362" y="8483"/>
                </a:cubicBezTo>
                <a:cubicBezTo>
                  <a:pt x="14364" y="8518"/>
                  <a:pt x="14375" y="8588"/>
                  <a:pt x="14412" y="8607"/>
                </a:cubicBezTo>
                <a:cubicBezTo>
                  <a:pt x="14454" y="8629"/>
                  <a:pt x="14488" y="8578"/>
                  <a:pt x="14511" y="8558"/>
                </a:cubicBezTo>
              </a:path>
              <a:path w="8484" h="2333">
                <a:moveTo>
                  <a:pt x="14908" y="7863"/>
                </a:moveTo>
                <a:cubicBezTo>
                  <a:pt x="14899" y="7929"/>
                  <a:pt x="14884" y="7994"/>
                  <a:pt x="14858" y="8062"/>
                </a:cubicBezTo>
                <a:cubicBezTo>
                  <a:pt x="14820" y="8162"/>
                  <a:pt x="14808" y="8226"/>
                  <a:pt x="14808" y="8334"/>
                </a:cubicBezTo>
                <a:cubicBezTo>
                  <a:pt x="14808" y="8386"/>
                  <a:pt x="14818" y="8518"/>
                  <a:pt x="14858" y="8558"/>
                </a:cubicBezTo>
                <a:cubicBezTo>
                  <a:pt x="14908" y="8607"/>
                  <a:pt x="15012" y="8646"/>
                  <a:pt x="15081" y="8632"/>
                </a:cubicBezTo>
                <a:cubicBezTo>
                  <a:pt x="15170" y="8614"/>
                  <a:pt x="15205" y="8543"/>
                  <a:pt x="15255" y="8483"/>
                </a:cubicBezTo>
                <a:cubicBezTo>
                  <a:pt x="15316" y="8409"/>
                  <a:pt x="15350" y="8360"/>
                  <a:pt x="15354" y="8260"/>
                </a:cubicBezTo>
                <a:cubicBezTo>
                  <a:pt x="15359" y="8152"/>
                  <a:pt x="15341" y="8086"/>
                  <a:pt x="15304" y="7987"/>
                </a:cubicBezTo>
                <a:cubicBezTo>
                  <a:pt x="15274" y="7905"/>
                  <a:pt x="15230" y="7842"/>
                  <a:pt x="15156" y="7789"/>
                </a:cubicBezTo>
                <a:cubicBezTo>
                  <a:pt x="15107" y="7753"/>
                  <a:pt x="15015" y="7744"/>
                  <a:pt x="14957" y="7739"/>
                </a:cubicBezTo>
                <a:cubicBezTo>
                  <a:pt x="14927" y="7737"/>
                  <a:pt x="14854" y="7775"/>
                  <a:pt x="14858" y="7813"/>
                </a:cubicBezTo>
                <a:cubicBezTo>
                  <a:pt x="14859" y="7826"/>
                  <a:pt x="14899" y="7876"/>
                  <a:pt x="14908" y="7888"/>
                </a:cubicBezTo>
              </a:path>
              <a:path w="8484" h="2333">
                <a:moveTo>
                  <a:pt x="15726" y="7739"/>
                </a:moveTo>
                <a:cubicBezTo>
                  <a:pt x="15700" y="7864"/>
                  <a:pt x="15677" y="7983"/>
                  <a:pt x="15677" y="8111"/>
                </a:cubicBezTo>
                <a:cubicBezTo>
                  <a:pt x="15677" y="8181"/>
                  <a:pt x="15701" y="8237"/>
                  <a:pt x="15701" y="8310"/>
                </a:cubicBezTo>
                <a:cubicBezTo>
                  <a:pt x="15701" y="8347"/>
                  <a:pt x="15765" y="8402"/>
                  <a:pt x="15701" y="8359"/>
                </a:cubicBezTo>
              </a:path>
              <a:path w="8484" h="2333">
                <a:moveTo>
                  <a:pt x="15528" y="8062"/>
                </a:moveTo>
                <a:cubicBezTo>
                  <a:pt x="15583" y="8062"/>
                  <a:pt x="15635" y="8081"/>
                  <a:pt x="15677" y="8086"/>
                </a:cubicBezTo>
                <a:cubicBezTo>
                  <a:pt x="15780" y="8098"/>
                  <a:pt x="15904" y="8093"/>
                  <a:pt x="15999" y="8062"/>
                </a:cubicBezTo>
              </a:path>
              <a:path w="8484" h="2333">
                <a:moveTo>
                  <a:pt x="16321" y="7838"/>
                </a:moveTo>
                <a:cubicBezTo>
                  <a:pt x="16312" y="7900"/>
                  <a:pt x="16278" y="7945"/>
                  <a:pt x="16272" y="8012"/>
                </a:cubicBezTo>
                <a:cubicBezTo>
                  <a:pt x="16268" y="8051"/>
                  <a:pt x="16224" y="8089"/>
                  <a:pt x="16247" y="8136"/>
                </a:cubicBezTo>
                <a:cubicBezTo>
                  <a:pt x="16261" y="8165"/>
                  <a:pt x="16288" y="8203"/>
                  <a:pt x="16321" y="8210"/>
                </a:cubicBezTo>
                <a:cubicBezTo>
                  <a:pt x="16386" y="8223"/>
                  <a:pt x="16437" y="8192"/>
                  <a:pt x="16495" y="8186"/>
                </a:cubicBezTo>
                <a:cubicBezTo>
                  <a:pt x="16598" y="8175"/>
                  <a:pt x="16638" y="8177"/>
                  <a:pt x="16718" y="8111"/>
                </a:cubicBezTo>
              </a:path>
              <a:path w="8484" h="2333">
                <a:moveTo>
                  <a:pt x="16619" y="7615"/>
                </a:moveTo>
                <a:cubicBezTo>
                  <a:pt x="16600" y="7722"/>
                  <a:pt x="16594" y="7806"/>
                  <a:pt x="16594" y="7913"/>
                </a:cubicBezTo>
                <a:cubicBezTo>
                  <a:pt x="16594" y="8089"/>
                  <a:pt x="16596" y="8266"/>
                  <a:pt x="16570" y="8434"/>
                </a:cubicBezTo>
                <a:cubicBezTo>
                  <a:pt x="16560" y="8499"/>
                  <a:pt x="16562" y="8551"/>
                  <a:pt x="16545" y="8607"/>
                </a:cubicBezTo>
                <a:cubicBezTo>
                  <a:pt x="16528" y="8662"/>
                  <a:pt x="16545" y="8579"/>
                  <a:pt x="16545" y="8558"/>
                </a:cubicBezTo>
                <a:cubicBezTo>
                  <a:pt x="16545" y="8541"/>
                  <a:pt x="16545" y="8525"/>
                  <a:pt x="16545" y="8508"/>
                </a:cubicBezTo>
              </a:path>
              <a:path w="8484" h="2333">
                <a:moveTo>
                  <a:pt x="16718" y="7169"/>
                </a:moveTo>
                <a:cubicBezTo>
                  <a:pt x="16821" y="7231"/>
                  <a:pt x="16864" y="7278"/>
                  <a:pt x="16917" y="7392"/>
                </a:cubicBezTo>
                <a:cubicBezTo>
                  <a:pt x="16969" y="7505"/>
                  <a:pt x="16971" y="7622"/>
                  <a:pt x="16991" y="7739"/>
                </a:cubicBezTo>
                <a:cubicBezTo>
                  <a:pt x="17015" y="7876"/>
                  <a:pt x="17024" y="7976"/>
                  <a:pt x="17016" y="8111"/>
                </a:cubicBezTo>
                <a:cubicBezTo>
                  <a:pt x="17009" y="8235"/>
                  <a:pt x="17008" y="8316"/>
                  <a:pt x="16966" y="8434"/>
                </a:cubicBezTo>
                <a:cubicBezTo>
                  <a:pt x="16937" y="8517"/>
                  <a:pt x="16911" y="8584"/>
                  <a:pt x="16867" y="8657"/>
                </a:cubicBezTo>
                <a:cubicBezTo>
                  <a:pt x="16839" y="8704"/>
                  <a:pt x="16816" y="8733"/>
                  <a:pt x="16793" y="8756"/>
                </a:cubicBezTo>
                <a:cubicBezTo>
                  <a:pt x="16810" y="8717"/>
                  <a:pt x="16824" y="8678"/>
                  <a:pt x="16842" y="8632"/>
                </a:cubicBezTo>
              </a:path>
              <a:path w="8484" h="2333">
                <a:moveTo>
                  <a:pt x="17264" y="7193"/>
                </a:moveTo>
                <a:cubicBezTo>
                  <a:pt x="17298" y="7160"/>
                  <a:pt x="17339" y="7097"/>
                  <a:pt x="17388" y="7094"/>
                </a:cubicBezTo>
                <a:cubicBezTo>
                  <a:pt x="17463" y="7089"/>
                  <a:pt x="17476" y="7074"/>
                  <a:pt x="17537" y="7094"/>
                </a:cubicBezTo>
                <a:cubicBezTo>
                  <a:pt x="17596" y="7114"/>
                  <a:pt x="17587" y="7128"/>
                  <a:pt x="17587" y="7193"/>
                </a:cubicBezTo>
                <a:cubicBezTo>
                  <a:pt x="17587" y="7265"/>
                  <a:pt x="17572" y="7284"/>
                  <a:pt x="17537" y="7342"/>
                </a:cubicBezTo>
                <a:cubicBezTo>
                  <a:pt x="17510" y="7387"/>
                  <a:pt x="17456" y="7444"/>
                  <a:pt x="17438" y="7491"/>
                </a:cubicBezTo>
                <a:cubicBezTo>
                  <a:pt x="17423" y="7529"/>
                  <a:pt x="17426" y="7502"/>
                  <a:pt x="17413" y="7541"/>
                </a:cubicBezTo>
                <a:cubicBezTo>
                  <a:pt x="17430" y="7591"/>
                  <a:pt x="17464" y="7566"/>
                  <a:pt x="17512" y="7590"/>
                </a:cubicBezTo>
                <a:cubicBezTo>
                  <a:pt x="17579" y="7623"/>
                  <a:pt x="17679" y="7628"/>
                  <a:pt x="17760" y="7640"/>
                </a:cubicBezTo>
                <a:cubicBezTo>
                  <a:pt x="17795" y="7645"/>
                  <a:pt x="17825" y="7658"/>
                  <a:pt x="17859" y="7665"/>
                </a:cubicBezTo>
              </a:path>
              <a:path w="8484" h="2333">
                <a:moveTo>
                  <a:pt x="17810" y="8161"/>
                </a:moveTo>
                <a:cubicBezTo>
                  <a:pt x="17947" y="8161"/>
                  <a:pt x="18074" y="8167"/>
                  <a:pt x="18207" y="8186"/>
                </a:cubicBezTo>
                <a:cubicBezTo>
                  <a:pt x="18253" y="8193"/>
                  <a:pt x="18375" y="8204"/>
                  <a:pt x="18380" y="8161"/>
                </a:cubicBezTo>
                <a:cubicBezTo>
                  <a:pt x="18380" y="8153"/>
                  <a:pt x="18380" y="8144"/>
                  <a:pt x="18380" y="8136"/>
                </a:cubicBezTo>
              </a:path>
              <a:path w="8484" h="2333">
                <a:moveTo>
                  <a:pt x="18703" y="7640"/>
                </a:moveTo>
                <a:cubicBezTo>
                  <a:pt x="18764" y="7578"/>
                  <a:pt x="18788" y="7548"/>
                  <a:pt x="18876" y="7541"/>
                </a:cubicBezTo>
                <a:cubicBezTo>
                  <a:pt x="18911" y="7538"/>
                  <a:pt x="18980" y="7560"/>
                  <a:pt x="19000" y="7590"/>
                </a:cubicBezTo>
                <a:cubicBezTo>
                  <a:pt x="19027" y="7629"/>
                  <a:pt x="19039" y="7716"/>
                  <a:pt x="19025" y="7764"/>
                </a:cubicBezTo>
                <a:cubicBezTo>
                  <a:pt x="19003" y="7837"/>
                  <a:pt x="18953" y="7887"/>
                  <a:pt x="18901" y="7938"/>
                </a:cubicBezTo>
                <a:cubicBezTo>
                  <a:pt x="18857" y="7981"/>
                  <a:pt x="18762" y="8042"/>
                  <a:pt x="18703" y="8062"/>
                </a:cubicBezTo>
                <a:cubicBezTo>
                  <a:pt x="18678" y="8062"/>
                  <a:pt x="18670" y="8062"/>
                  <a:pt x="18653" y="8062"/>
                </a:cubicBezTo>
                <a:cubicBezTo>
                  <a:pt x="18689" y="8062"/>
                  <a:pt x="18725" y="8055"/>
                  <a:pt x="18752" y="8037"/>
                </a:cubicBezTo>
                <a:cubicBezTo>
                  <a:pt x="18808" y="7999"/>
                  <a:pt x="18898" y="7991"/>
                  <a:pt x="18951" y="8037"/>
                </a:cubicBezTo>
                <a:cubicBezTo>
                  <a:pt x="19001" y="8080"/>
                  <a:pt x="19060" y="8143"/>
                  <a:pt x="19075" y="8210"/>
                </a:cubicBezTo>
                <a:cubicBezTo>
                  <a:pt x="19089" y="8271"/>
                  <a:pt x="19076" y="8336"/>
                  <a:pt x="19050" y="8384"/>
                </a:cubicBezTo>
                <a:cubicBezTo>
                  <a:pt x="19005" y="8469"/>
                  <a:pt x="18988" y="8489"/>
                  <a:pt x="18901" y="8533"/>
                </a:cubicBezTo>
                <a:cubicBezTo>
                  <a:pt x="18829" y="8569"/>
                  <a:pt x="18758" y="8596"/>
                  <a:pt x="18678" y="8607"/>
                </a:cubicBezTo>
                <a:cubicBezTo>
                  <a:pt x="18612" y="8616"/>
                  <a:pt x="18579" y="8574"/>
                  <a:pt x="18529" y="8558"/>
                </a:cubicBezTo>
                <a:cubicBezTo>
                  <a:pt x="18483" y="8543"/>
                  <a:pt x="18506" y="8536"/>
                  <a:pt x="18529" y="8483"/>
                </a:cubicBezTo>
              </a:path>
              <a:path w="8484" h="2333">
                <a:moveTo>
                  <a:pt x="19472" y="8037"/>
                </a:moveTo>
                <a:cubicBezTo>
                  <a:pt x="19588" y="8037"/>
                  <a:pt x="19703" y="8037"/>
                  <a:pt x="19819" y="8037"/>
                </a:cubicBezTo>
              </a:path>
              <a:path w="8484" h="2333">
                <a:moveTo>
                  <a:pt x="19447" y="8235"/>
                </a:moveTo>
                <a:cubicBezTo>
                  <a:pt x="19521" y="8273"/>
                  <a:pt x="19562" y="8285"/>
                  <a:pt x="19645" y="8285"/>
                </a:cubicBezTo>
                <a:cubicBezTo>
                  <a:pt x="19662" y="8285"/>
                  <a:pt x="19678" y="8285"/>
                  <a:pt x="19695" y="8285"/>
                </a:cubicBezTo>
              </a:path>
              <a:path w="8484" h="2333">
                <a:moveTo>
                  <a:pt x="20315" y="7441"/>
                </a:moveTo>
                <a:cubicBezTo>
                  <a:pt x="20303" y="7488"/>
                  <a:pt x="20272" y="7538"/>
                  <a:pt x="20265" y="7590"/>
                </a:cubicBezTo>
                <a:cubicBezTo>
                  <a:pt x="20252" y="7690"/>
                  <a:pt x="20259" y="7789"/>
                  <a:pt x="20241" y="7888"/>
                </a:cubicBezTo>
                <a:cubicBezTo>
                  <a:pt x="20221" y="7994"/>
                  <a:pt x="20203" y="8105"/>
                  <a:pt x="20191" y="8210"/>
                </a:cubicBezTo>
                <a:cubicBezTo>
                  <a:pt x="20189" y="8232"/>
                  <a:pt x="20198" y="8481"/>
                  <a:pt x="20216" y="8458"/>
                </a:cubicBezTo>
                <a:cubicBezTo>
                  <a:pt x="20216" y="8450"/>
                  <a:pt x="20216" y="8442"/>
                  <a:pt x="20216" y="8434"/>
                </a:cubicBezTo>
              </a:path>
              <a:path w="8484" h="2333">
                <a:moveTo>
                  <a:pt x="20513" y="7640"/>
                </a:moveTo>
                <a:cubicBezTo>
                  <a:pt x="20585" y="7614"/>
                  <a:pt x="20643" y="7563"/>
                  <a:pt x="20712" y="7541"/>
                </a:cubicBezTo>
                <a:cubicBezTo>
                  <a:pt x="20764" y="7524"/>
                  <a:pt x="20806" y="7549"/>
                  <a:pt x="20836" y="7590"/>
                </a:cubicBezTo>
                <a:cubicBezTo>
                  <a:pt x="20887" y="7659"/>
                  <a:pt x="20910" y="7710"/>
                  <a:pt x="20861" y="7789"/>
                </a:cubicBezTo>
                <a:cubicBezTo>
                  <a:pt x="20833" y="7833"/>
                  <a:pt x="20799" y="7875"/>
                  <a:pt x="20762" y="7913"/>
                </a:cubicBezTo>
                <a:cubicBezTo>
                  <a:pt x="20728" y="7947"/>
                  <a:pt x="20705" y="7976"/>
                  <a:pt x="20662" y="7987"/>
                </a:cubicBezTo>
                <a:cubicBezTo>
                  <a:pt x="20686" y="7981"/>
                  <a:pt x="20740" y="7974"/>
                  <a:pt x="20762" y="7962"/>
                </a:cubicBezTo>
                <a:cubicBezTo>
                  <a:pt x="20784" y="7950"/>
                  <a:pt x="20833" y="7900"/>
                  <a:pt x="20861" y="7913"/>
                </a:cubicBezTo>
                <a:cubicBezTo>
                  <a:pt x="20914" y="7937"/>
                  <a:pt x="20953" y="7958"/>
                  <a:pt x="20985" y="8012"/>
                </a:cubicBezTo>
                <a:cubicBezTo>
                  <a:pt x="21019" y="8070"/>
                  <a:pt x="21053" y="8140"/>
                  <a:pt x="21034" y="8210"/>
                </a:cubicBezTo>
                <a:cubicBezTo>
                  <a:pt x="21014" y="8283"/>
                  <a:pt x="20971" y="8348"/>
                  <a:pt x="20910" y="8384"/>
                </a:cubicBezTo>
                <a:cubicBezTo>
                  <a:pt x="20818" y="8439"/>
                  <a:pt x="20769" y="8458"/>
                  <a:pt x="20662" y="8458"/>
                </a:cubicBezTo>
                <a:cubicBezTo>
                  <a:pt x="20557" y="8458"/>
                  <a:pt x="20476" y="8410"/>
                  <a:pt x="20389" y="83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62640" y="2232000"/>
            <a:ext cx="196560" cy="492120"/>
          </a:xfrm>
          <a:custGeom>
            <a:avLst/>
            <a:gdLst/>
            <a:ahLst/>
            <a:rect l="l" t="t" r="r" b="b"/>
            <a:pathLst>
              <a:path w="547" h="1365">
                <a:moveTo>
                  <a:pt x="12675" y="6424"/>
                </a:moveTo>
                <a:cubicBezTo>
                  <a:pt x="12716" y="6507"/>
                  <a:pt x="12758" y="6589"/>
                  <a:pt x="12799" y="6672"/>
                </a:cubicBezTo>
                <a:cubicBezTo>
                  <a:pt x="12834" y="6742"/>
                  <a:pt x="12895" y="6869"/>
                  <a:pt x="12948" y="6921"/>
                </a:cubicBezTo>
                <a:cubicBezTo>
                  <a:pt x="12965" y="6937"/>
                  <a:pt x="13044" y="7032"/>
                  <a:pt x="13072" y="7020"/>
                </a:cubicBezTo>
                <a:cubicBezTo>
                  <a:pt x="13080" y="7012"/>
                  <a:pt x="13089" y="7003"/>
                  <a:pt x="13097" y="6995"/>
                </a:cubicBezTo>
              </a:path>
              <a:path w="547" h="1365">
                <a:moveTo>
                  <a:pt x="13221" y="6201"/>
                </a:moveTo>
                <a:cubicBezTo>
                  <a:pt x="13212" y="6265"/>
                  <a:pt x="13194" y="6310"/>
                  <a:pt x="13171" y="6375"/>
                </a:cubicBezTo>
                <a:cubicBezTo>
                  <a:pt x="13134" y="6479"/>
                  <a:pt x="13129" y="6589"/>
                  <a:pt x="13097" y="6697"/>
                </a:cubicBezTo>
                <a:cubicBezTo>
                  <a:pt x="13063" y="6809"/>
                  <a:pt x="13035" y="6951"/>
                  <a:pt x="13022" y="7069"/>
                </a:cubicBezTo>
                <a:cubicBezTo>
                  <a:pt x="13009" y="7185"/>
                  <a:pt x="12969" y="7278"/>
                  <a:pt x="12948" y="7392"/>
                </a:cubicBezTo>
                <a:cubicBezTo>
                  <a:pt x="12945" y="7407"/>
                  <a:pt x="12906" y="7560"/>
                  <a:pt x="12923" y="7565"/>
                </a:cubicBezTo>
                <a:cubicBezTo>
                  <a:pt x="12971" y="7578"/>
                  <a:pt x="12969" y="7482"/>
                  <a:pt x="12998" y="74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46760" y="2205000"/>
            <a:ext cx="546120" cy="304920"/>
          </a:xfrm>
          <a:custGeom>
            <a:avLst/>
            <a:gdLst/>
            <a:ahLst/>
            <a:rect l="l" t="t" r="r" b="b"/>
            <a:pathLst>
              <a:path w="1514" h="844">
                <a:moveTo>
                  <a:pt x="13791" y="6449"/>
                </a:moveTo>
                <a:cubicBezTo>
                  <a:pt x="13784" y="6550"/>
                  <a:pt x="13789" y="6673"/>
                  <a:pt x="13767" y="6772"/>
                </a:cubicBezTo>
                <a:cubicBezTo>
                  <a:pt x="13754" y="6830"/>
                  <a:pt x="13742" y="6857"/>
                  <a:pt x="13742" y="6921"/>
                </a:cubicBezTo>
                <a:cubicBezTo>
                  <a:pt x="13742" y="6975"/>
                  <a:pt x="13742" y="6975"/>
                  <a:pt x="13742" y="6921"/>
                </a:cubicBezTo>
              </a:path>
              <a:path w="1514" h="844">
                <a:moveTo>
                  <a:pt x="13841" y="6176"/>
                </a:moveTo>
                <a:cubicBezTo>
                  <a:pt x="13841" y="6134"/>
                  <a:pt x="13831" y="6139"/>
                  <a:pt x="13866" y="6127"/>
                </a:cubicBezTo>
              </a:path>
              <a:path w="1514" h="844">
                <a:moveTo>
                  <a:pt x="13990" y="6573"/>
                </a:moveTo>
                <a:cubicBezTo>
                  <a:pt x="13990" y="6672"/>
                  <a:pt x="13990" y="6772"/>
                  <a:pt x="13990" y="6871"/>
                </a:cubicBezTo>
                <a:cubicBezTo>
                  <a:pt x="13946" y="6812"/>
                  <a:pt x="13974" y="6790"/>
                  <a:pt x="13990" y="6722"/>
                </a:cubicBezTo>
                <a:cubicBezTo>
                  <a:pt x="14005" y="6658"/>
                  <a:pt x="13998" y="6587"/>
                  <a:pt x="14015" y="6524"/>
                </a:cubicBezTo>
                <a:cubicBezTo>
                  <a:pt x="14031" y="6467"/>
                  <a:pt x="14085" y="6423"/>
                  <a:pt x="14114" y="6375"/>
                </a:cubicBezTo>
                <a:cubicBezTo>
                  <a:pt x="14134" y="6335"/>
                  <a:pt x="14132" y="6318"/>
                  <a:pt x="14163" y="6325"/>
                </a:cubicBezTo>
                <a:cubicBezTo>
                  <a:pt x="14205" y="6339"/>
                  <a:pt x="14205" y="6444"/>
                  <a:pt x="14213" y="6499"/>
                </a:cubicBezTo>
                <a:cubicBezTo>
                  <a:pt x="14224" y="6572"/>
                  <a:pt x="14197" y="6630"/>
                  <a:pt x="14238" y="6697"/>
                </a:cubicBezTo>
                <a:cubicBezTo>
                  <a:pt x="14267" y="6744"/>
                  <a:pt x="14307" y="6847"/>
                  <a:pt x="14362" y="6871"/>
                </a:cubicBezTo>
                <a:cubicBezTo>
                  <a:pt x="14421" y="6897"/>
                  <a:pt x="14472" y="6854"/>
                  <a:pt x="14511" y="6821"/>
                </a:cubicBezTo>
                <a:cubicBezTo>
                  <a:pt x="14519" y="6813"/>
                  <a:pt x="14528" y="6804"/>
                  <a:pt x="14536" y="6796"/>
                </a:cubicBezTo>
              </a:path>
              <a:path w="1514" h="844">
                <a:moveTo>
                  <a:pt x="14709" y="6127"/>
                </a:moveTo>
                <a:cubicBezTo>
                  <a:pt x="14683" y="6229"/>
                  <a:pt x="14670" y="6343"/>
                  <a:pt x="14660" y="6449"/>
                </a:cubicBezTo>
                <a:cubicBezTo>
                  <a:pt x="14652" y="6539"/>
                  <a:pt x="14671" y="6615"/>
                  <a:pt x="14684" y="6697"/>
                </a:cubicBezTo>
                <a:cubicBezTo>
                  <a:pt x="14688" y="6720"/>
                  <a:pt x="14689" y="6911"/>
                  <a:pt x="14660" y="6896"/>
                </a:cubicBezTo>
                <a:cubicBezTo>
                  <a:pt x="14652" y="6879"/>
                  <a:pt x="14643" y="6863"/>
                  <a:pt x="14635" y="6846"/>
                </a:cubicBezTo>
              </a:path>
              <a:path w="1514" h="844">
                <a:moveTo>
                  <a:pt x="14486" y="6325"/>
                </a:moveTo>
                <a:cubicBezTo>
                  <a:pt x="14580" y="6298"/>
                  <a:pt x="14668" y="6273"/>
                  <a:pt x="14759" y="6251"/>
                </a:cubicBezTo>
                <a:cubicBezTo>
                  <a:pt x="14838" y="6232"/>
                  <a:pt x="14883" y="6226"/>
                  <a:pt x="14957" y="6226"/>
                </a:cubicBezTo>
              </a:path>
              <a:path w="1514" h="844">
                <a:moveTo>
                  <a:pt x="15230" y="6325"/>
                </a:moveTo>
                <a:cubicBezTo>
                  <a:pt x="15230" y="6350"/>
                  <a:pt x="15230" y="6375"/>
                  <a:pt x="15230" y="6400"/>
                </a:cubicBezTo>
              </a:path>
              <a:path w="1514" h="844">
                <a:moveTo>
                  <a:pt x="15230" y="6772"/>
                </a:moveTo>
                <a:cubicBezTo>
                  <a:pt x="15238" y="6780"/>
                  <a:pt x="15247" y="6788"/>
                  <a:pt x="15255" y="67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92840" y="2054160"/>
            <a:ext cx="893880" cy="392040"/>
          </a:xfrm>
          <a:custGeom>
            <a:avLst/>
            <a:gdLst/>
            <a:ahLst/>
            <a:rect l="l" t="t" r="r" b="b"/>
            <a:pathLst>
              <a:path w="2482" h="1092">
                <a:moveTo>
                  <a:pt x="16644" y="5779"/>
                </a:moveTo>
                <a:cubicBezTo>
                  <a:pt x="16635" y="5839"/>
                  <a:pt x="16602" y="5922"/>
                  <a:pt x="16570" y="5978"/>
                </a:cubicBezTo>
                <a:cubicBezTo>
                  <a:pt x="16521" y="6064"/>
                  <a:pt x="16482" y="6134"/>
                  <a:pt x="16446" y="6226"/>
                </a:cubicBezTo>
                <a:cubicBezTo>
                  <a:pt x="16403" y="6337"/>
                  <a:pt x="16371" y="6408"/>
                  <a:pt x="16371" y="6524"/>
                </a:cubicBezTo>
                <a:cubicBezTo>
                  <a:pt x="16371" y="6579"/>
                  <a:pt x="16367" y="6650"/>
                  <a:pt x="16396" y="6697"/>
                </a:cubicBezTo>
                <a:cubicBezTo>
                  <a:pt x="16430" y="6754"/>
                  <a:pt x="16473" y="6766"/>
                  <a:pt x="16520" y="6747"/>
                </a:cubicBezTo>
              </a:path>
              <a:path w="2482" h="1092">
                <a:moveTo>
                  <a:pt x="17016" y="6003"/>
                </a:moveTo>
                <a:cubicBezTo>
                  <a:pt x="17016" y="6071"/>
                  <a:pt x="17012" y="6139"/>
                  <a:pt x="16991" y="6201"/>
                </a:cubicBezTo>
                <a:cubicBezTo>
                  <a:pt x="16967" y="6272"/>
                  <a:pt x="16966" y="6323"/>
                  <a:pt x="16966" y="6400"/>
                </a:cubicBezTo>
                <a:cubicBezTo>
                  <a:pt x="16966" y="6472"/>
                  <a:pt x="16974" y="6508"/>
                  <a:pt x="16991" y="6573"/>
                </a:cubicBezTo>
                <a:cubicBezTo>
                  <a:pt x="17001" y="6613"/>
                  <a:pt x="17019" y="6645"/>
                  <a:pt x="17066" y="6648"/>
                </a:cubicBezTo>
                <a:cubicBezTo>
                  <a:pt x="17124" y="6652"/>
                  <a:pt x="17171" y="6612"/>
                  <a:pt x="17214" y="6573"/>
                </a:cubicBezTo>
                <a:cubicBezTo>
                  <a:pt x="17281" y="6512"/>
                  <a:pt x="17277" y="6508"/>
                  <a:pt x="17314" y="6424"/>
                </a:cubicBezTo>
                <a:cubicBezTo>
                  <a:pt x="17347" y="6348"/>
                  <a:pt x="17363" y="6310"/>
                  <a:pt x="17363" y="6226"/>
                </a:cubicBezTo>
                <a:cubicBezTo>
                  <a:pt x="17363" y="6168"/>
                  <a:pt x="17362" y="6100"/>
                  <a:pt x="17338" y="6052"/>
                </a:cubicBezTo>
                <a:cubicBezTo>
                  <a:pt x="17309" y="5993"/>
                  <a:pt x="17261" y="5970"/>
                  <a:pt x="17214" y="5928"/>
                </a:cubicBezTo>
                <a:cubicBezTo>
                  <a:pt x="17186" y="5903"/>
                  <a:pt x="17106" y="5888"/>
                  <a:pt x="17066" y="5904"/>
                </a:cubicBezTo>
                <a:cubicBezTo>
                  <a:pt x="17016" y="5924"/>
                  <a:pt x="16984" y="5936"/>
                  <a:pt x="16942" y="5978"/>
                </a:cubicBezTo>
                <a:cubicBezTo>
                  <a:pt x="16919" y="6001"/>
                  <a:pt x="16911" y="6005"/>
                  <a:pt x="16917" y="6028"/>
                </a:cubicBezTo>
              </a:path>
              <a:path w="2482" h="1092">
                <a:moveTo>
                  <a:pt x="17587" y="6424"/>
                </a:moveTo>
                <a:cubicBezTo>
                  <a:pt x="17565" y="6496"/>
                  <a:pt x="17559" y="6558"/>
                  <a:pt x="17537" y="6623"/>
                </a:cubicBezTo>
                <a:cubicBezTo>
                  <a:pt x="17522" y="6669"/>
                  <a:pt x="17492" y="6703"/>
                  <a:pt x="17487" y="6747"/>
                </a:cubicBezTo>
                <a:cubicBezTo>
                  <a:pt x="17486" y="6754"/>
                  <a:pt x="17487" y="6837"/>
                  <a:pt x="17487" y="6772"/>
                </a:cubicBezTo>
              </a:path>
              <a:path w="2482" h="1092">
                <a:moveTo>
                  <a:pt x="17934" y="5854"/>
                </a:moveTo>
                <a:cubicBezTo>
                  <a:pt x="17968" y="5943"/>
                  <a:pt x="17945" y="5966"/>
                  <a:pt x="17934" y="6052"/>
                </a:cubicBezTo>
                <a:cubicBezTo>
                  <a:pt x="17910" y="6232"/>
                  <a:pt x="17831" y="6703"/>
                  <a:pt x="17959" y="6573"/>
                </a:cubicBezTo>
                <a:cubicBezTo>
                  <a:pt x="17959" y="6565"/>
                  <a:pt x="17959" y="6556"/>
                  <a:pt x="17959" y="6548"/>
                </a:cubicBezTo>
              </a:path>
              <a:path w="2482" h="1092">
                <a:moveTo>
                  <a:pt x="18182" y="5904"/>
                </a:moveTo>
                <a:cubicBezTo>
                  <a:pt x="18232" y="5875"/>
                  <a:pt x="18251" y="5854"/>
                  <a:pt x="18306" y="5854"/>
                </a:cubicBezTo>
                <a:cubicBezTo>
                  <a:pt x="18366" y="5854"/>
                  <a:pt x="18373" y="5855"/>
                  <a:pt x="18405" y="5879"/>
                </a:cubicBezTo>
                <a:cubicBezTo>
                  <a:pt x="18435" y="5901"/>
                  <a:pt x="18447" y="5969"/>
                  <a:pt x="18430" y="6003"/>
                </a:cubicBezTo>
                <a:cubicBezTo>
                  <a:pt x="18408" y="6048"/>
                  <a:pt x="18378" y="6124"/>
                  <a:pt x="18331" y="6152"/>
                </a:cubicBezTo>
                <a:cubicBezTo>
                  <a:pt x="18294" y="6174"/>
                  <a:pt x="18269" y="6162"/>
                  <a:pt x="18256" y="6201"/>
                </a:cubicBezTo>
                <a:cubicBezTo>
                  <a:pt x="18281" y="6195"/>
                  <a:pt x="18333" y="6188"/>
                  <a:pt x="18355" y="6176"/>
                </a:cubicBezTo>
                <a:cubicBezTo>
                  <a:pt x="18396" y="6154"/>
                  <a:pt x="18405" y="6152"/>
                  <a:pt x="18455" y="6152"/>
                </a:cubicBezTo>
                <a:cubicBezTo>
                  <a:pt x="18486" y="6152"/>
                  <a:pt x="18540" y="6195"/>
                  <a:pt x="18554" y="6226"/>
                </a:cubicBezTo>
                <a:cubicBezTo>
                  <a:pt x="18578" y="6281"/>
                  <a:pt x="18540" y="6352"/>
                  <a:pt x="18529" y="6400"/>
                </a:cubicBezTo>
                <a:cubicBezTo>
                  <a:pt x="18514" y="6464"/>
                  <a:pt x="18487" y="6490"/>
                  <a:pt x="18430" y="6524"/>
                </a:cubicBezTo>
                <a:cubicBezTo>
                  <a:pt x="18380" y="6553"/>
                  <a:pt x="18319" y="6602"/>
                  <a:pt x="18256" y="6573"/>
                </a:cubicBezTo>
                <a:cubicBezTo>
                  <a:pt x="18203" y="6549"/>
                  <a:pt x="18207" y="6532"/>
                  <a:pt x="18207" y="6474"/>
                </a:cubicBezTo>
              </a:path>
              <a:path w="2482" h="1092">
                <a:moveTo>
                  <a:pt x="18604" y="5705"/>
                </a:moveTo>
                <a:cubicBezTo>
                  <a:pt x="18724" y="5832"/>
                  <a:pt x="18773" y="5892"/>
                  <a:pt x="18827" y="6052"/>
                </a:cubicBezTo>
                <a:cubicBezTo>
                  <a:pt x="18861" y="6153"/>
                  <a:pt x="18864" y="6249"/>
                  <a:pt x="18827" y="6350"/>
                </a:cubicBezTo>
                <a:cubicBezTo>
                  <a:pt x="18784" y="6467"/>
                  <a:pt x="18719" y="6550"/>
                  <a:pt x="18628" y="66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2920" y="4537080"/>
            <a:ext cx="115920" cy="303120"/>
          </a:xfrm>
          <a:custGeom>
            <a:avLst/>
            <a:gdLst/>
            <a:ahLst/>
            <a:rect l="l" t="t" r="r" b="b"/>
            <a:pathLst>
              <a:path w="323" h="844">
                <a:moveTo>
                  <a:pt x="471" y="12601"/>
                </a:moveTo>
                <a:cubicBezTo>
                  <a:pt x="413" y="12734"/>
                  <a:pt x="376" y="12849"/>
                  <a:pt x="397" y="12998"/>
                </a:cubicBezTo>
                <a:cubicBezTo>
                  <a:pt x="416" y="13131"/>
                  <a:pt x="470" y="13256"/>
                  <a:pt x="571" y="13345"/>
                </a:cubicBezTo>
                <a:cubicBezTo>
                  <a:pt x="645" y="13395"/>
                  <a:pt x="669" y="13411"/>
                  <a:pt x="719" y="134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2760" y="4581360"/>
            <a:ext cx="704520" cy="374760"/>
          </a:xfrm>
          <a:custGeom>
            <a:avLst/>
            <a:gdLst/>
            <a:ahLst/>
            <a:rect l="l" t="t" r="r" b="b"/>
            <a:pathLst>
              <a:path w="1961" h="1043">
                <a:moveTo>
                  <a:pt x="1339" y="13072"/>
                </a:moveTo>
                <a:cubicBezTo>
                  <a:pt x="1421" y="13072"/>
                  <a:pt x="1448" y="13069"/>
                  <a:pt x="1513" y="13047"/>
                </a:cubicBezTo>
                <a:cubicBezTo>
                  <a:pt x="1521" y="13047"/>
                  <a:pt x="1530" y="13047"/>
                  <a:pt x="1538" y="13047"/>
                </a:cubicBezTo>
              </a:path>
              <a:path w="1961" h="1043">
                <a:moveTo>
                  <a:pt x="1736" y="12948"/>
                </a:moveTo>
                <a:cubicBezTo>
                  <a:pt x="1736" y="13104"/>
                  <a:pt x="1719" y="13280"/>
                  <a:pt x="1761" y="13419"/>
                </a:cubicBezTo>
                <a:cubicBezTo>
                  <a:pt x="1775" y="13464"/>
                  <a:pt x="1761" y="13482"/>
                  <a:pt x="1761" y="13419"/>
                </a:cubicBezTo>
                <a:cubicBezTo>
                  <a:pt x="1761" y="13345"/>
                  <a:pt x="1745" y="13288"/>
                  <a:pt x="1736" y="13221"/>
                </a:cubicBezTo>
                <a:cubicBezTo>
                  <a:pt x="1723" y="13123"/>
                  <a:pt x="1746" y="13037"/>
                  <a:pt x="1761" y="12948"/>
                </a:cubicBezTo>
                <a:cubicBezTo>
                  <a:pt x="1769" y="12901"/>
                  <a:pt x="1768" y="12829"/>
                  <a:pt x="1811" y="12799"/>
                </a:cubicBezTo>
                <a:cubicBezTo>
                  <a:pt x="1849" y="12772"/>
                  <a:pt x="1922" y="12730"/>
                  <a:pt x="1960" y="12725"/>
                </a:cubicBezTo>
                <a:cubicBezTo>
                  <a:pt x="2027" y="12717"/>
                  <a:pt x="2106" y="12711"/>
                  <a:pt x="2158" y="12750"/>
                </a:cubicBezTo>
              </a:path>
              <a:path w="1961" h="1043">
                <a:moveTo>
                  <a:pt x="2034" y="12948"/>
                </a:moveTo>
                <a:cubicBezTo>
                  <a:pt x="2083" y="12948"/>
                  <a:pt x="2207" y="12922"/>
                  <a:pt x="2232" y="12973"/>
                </a:cubicBezTo>
                <a:cubicBezTo>
                  <a:pt x="2249" y="13007"/>
                  <a:pt x="2213" y="13059"/>
                  <a:pt x="2183" y="13072"/>
                </a:cubicBezTo>
                <a:cubicBezTo>
                  <a:pt x="2148" y="13088"/>
                  <a:pt x="2100" y="13138"/>
                  <a:pt x="2084" y="13146"/>
                </a:cubicBezTo>
                <a:cubicBezTo>
                  <a:pt x="2055" y="13160"/>
                  <a:pt x="2079" y="13149"/>
                  <a:pt x="2108" y="13171"/>
                </a:cubicBezTo>
                <a:cubicBezTo>
                  <a:pt x="2164" y="13214"/>
                  <a:pt x="2198" y="13231"/>
                  <a:pt x="2232" y="13295"/>
                </a:cubicBezTo>
                <a:cubicBezTo>
                  <a:pt x="2273" y="13373"/>
                  <a:pt x="2245" y="13382"/>
                  <a:pt x="2232" y="13444"/>
                </a:cubicBezTo>
                <a:cubicBezTo>
                  <a:pt x="2219" y="13503"/>
                  <a:pt x="2192" y="13524"/>
                  <a:pt x="2133" y="13543"/>
                </a:cubicBezTo>
                <a:cubicBezTo>
                  <a:pt x="2084" y="13559"/>
                  <a:pt x="2047" y="13512"/>
                  <a:pt x="2034" y="13494"/>
                </a:cubicBezTo>
                <a:cubicBezTo>
                  <a:pt x="2026" y="13486"/>
                  <a:pt x="2017" y="13477"/>
                  <a:pt x="2009" y="13469"/>
                </a:cubicBezTo>
              </a:path>
              <a:path w="1961" h="1043">
                <a:moveTo>
                  <a:pt x="2406" y="13419"/>
                </a:moveTo>
                <a:cubicBezTo>
                  <a:pt x="2387" y="13498"/>
                  <a:pt x="2375" y="13621"/>
                  <a:pt x="2332" y="13692"/>
                </a:cubicBezTo>
                <a:cubicBezTo>
                  <a:pt x="2309" y="13715"/>
                  <a:pt x="2301" y="13726"/>
                  <a:pt x="2307" y="13692"/>
                </a:cubicBezTo>
              </a:path>
              <a:path w="1961" h="1043">
                <a:moveTo>
                  <a:pt x="2679" y="13171"/>
                </a:moveTo>
                <a:cubicBezTo>
                  <a:pt x="2660" y="13263"/>
                  <a:pt x="2613" y="13381"/>
                  <a:pt x="2654" y="13469"/>
                </a:cubicBezTo>
                <a:cubicBezTo>
                  <a:pt x="2680" y="13525"/>
                  <a:pt x="2754" y="13519"/>
                  <a:pt x="2803" y="13519"/>
                </a:cubicBezTo>
                <a:cubicBezTo>
                  <a:pt x="2893" y="13519"/>
                  <a:pt x="2879" y="13484"/>
                  <a:pt x="2902" y="13419"/>
                </a:cubicBezTo>
                <a:cubicBezTo>
                  <a:pt x="2938" y="13318"/>
                  <a:pt x="2918" y="13242"/>
                  <a:pt x="2853" y="13146"/>
                </a:cubicBezTo>
                <a:cubicBezTo>
                  <a:pt x="2816" y="13092"/>
                  <a:pt x="2752" y="13045"/>
                  <a:pt x="2704" y="12998"/>
                </a:cubicBezTo>
              </a:path>
              <a:path w="1961" h="1043">
                <a:moveTo>
                  <a:pt x="3026" y="12849"/>
                </a:moveTo>
                <a:cubicBezTo>
                  <a:pt x="3203" y="13035"/>
                  <a:pt x="3220" y="13079"/>
                  <a:pt x="3274" y="13320"/>
                </a:cubicBezTo>
                <a:cubicBezTo>
                  <a:pt x="3320" y="13524"/>
                  <a:pt x="3271" y="13608"/>
                  <a:pt x="3125" y="137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53000" y="3795840"/>
            <a:ext cx="2268360" cy="579240"/>
          </a:xfrm>
          <a:custGeom>
            <a:avLst/>
            <a:gdLst/>
            <a:ahLst/>
            <a:rect l="l" t="t" r="r" b="b"/>
            <a:pathLst>
              <a:path w="6302" h="1613">
                <a:moveTo>
                  <a:pt x="13097" y="11038"/>
                </a:moveTo>
                <a:cubicBezTo>
                  <a:pt x="13082" y="11069"/>
                  <a:pt x="13062" y="11105"/>
                  <a:pt x="13047" y="11137"/>
                </a:cubicBezTo>
                <a:cubicBezTo>
                  <a:pt x="13023" y="11190"/>
                  <a:pt x="13016" y="11258"/>
                  <a:pt x="12998" y="11311"/>
                </a:cubicBezTo>
                <a:cubicBezTo>
                  <a:pt x="12973" y="11387"/>
                  <a:pt x="12933" y="11455"/>
                  <a:pt x="12923" y="11534"/>
                </a:cubicBezTo>
                <a:cubicBezTo>
                  <a:pt x="12913" y="11610"/>
                  <a:pt x="12926" y="11712"/>
                  <a:pt x="12948" y="11782"/>
                </a:cubicBezTo>
                <a:cubicBezTo>
                  <a:pt x="12970" y="11852"/>
                  <a:pt x="13047" y="11906"/>
                  <a:pt x="13097" y="11956"/>
                </a:cubicBezTo>
                <a:cubicBezTo>
                  <a:pt x="13162" y="12021"/>
                  <a:pt x="13245" y="12014"/>
                  <a:pt x="13320" y="11981"/>
                </a:cubicBezTo>
                <a:cubicBezTo>
                  <a:pt x="13396" y="11948"/>
                  <a:pt x="13470" y="11901"/>
                  <a:pt x="13519" y="11832"/>
                </a:cubicBezTo>
                <a:cubicBezTo>
                  <a:pt x="13578" y="11749"/>
                  <a:pt x="13595" y="11651"/>
                  <a:pt x="13618" y="11559"/>
                </a:cubicBezTo>
                <a:cubicBezTo>
                  <a:pt x="13643" y="11461"/>
                  <a:pt x="13625" y="11382"/>
                  <a:pt x="13593" y="11286"/>
                </a:cubicBezTo>
                <a:cubicBezTo>
                  <a:pt x="13557" y="11179"/>
                  <a:pt x="13507" y="11150"/>
                  <a:pt x="13444" y="11063"/>
                </a:cubicBezTo>
                <a:cubicBezTo>
                  <a:pt x="13392" y="10991"/>
                  <a:pt x="13349" y="10969"/>
                  <a:pt x="13271" y="10939"/>
                </a:cubicBezTo>
                <a:cubicBezTo>
                  <a:pt x="13212" y="10916"/>
                  <a:pt x="13166" y="10872"/>
                  <a:pt x="13097" y="10889"/>
                </a:cubicBezTo>
                <a:cubicBezTo>
                  <a:pt x="13063" y="10898"/>
                  <a:pt x="13059" y="10927"/>
                  <a:pt x="13047" y="10939"/>
                </a:cubicBezTo>
              </a:path>
              <a:path w="6302" h="1613">
                <a:moveTo>
                  <a:pt x="13965" y="11361"/>
                </a:moveTo>
                <a:cubicBezTo>
                  <a:pt x="14097" y="11361"/>
                  <a:pt x="14230" y="11361"/>
                  <a:pt x="14362" y="11361"/>
                </a:cubicBezTo>
              </a:path>
              <a:path w="6302" h="1613">
                <a:moveTo>
                  <a:pt x="13990" y="11559"/>
                </a:moveTo>
                <a:cubicBezTo>
                  <a:pt x="14097" y="11569"/>
                  <a:pt x="14155" y="11574"/>
                  <a:pt x="14263" y="11559"/>
                </a:cubicBezTo>
                <a:cubicBezTo>
                  <a:pt x="14279" y="11559"/>
                  <a:pt x="14296" y="11559"/>
                  <a:pt x="14312" y="11559"/>
                </a:cubicBezTo>
              </a:path>
              <a:path w="6302" h="1613">
                <a:moveTo>
                  <a:pt x="15032" y="10790"/>
                </a:moveTo>
                <a:cubicBezTo>
                  <a:pt x="14996" y="10862"/>
                  <a:pt x="14969" y="10943"/>
                  <a:pt x="14932" y="11013"/>
                </a:cubicBezTo>
                <a:cubicBezTo>
                  <a:pt x="14876" y="11118"/>
                  <a:pt x="14843" y="11194"/>
                  <a:pt x="14808" y="11311"/>
                </a:cubicBezTo>
                <a:cubicBezTo>
                  <a:pt x="14780" y="11406"/>
                  <a:pt x="14766" y="11532"/>
                  <a:pt x="14784" y="11633"/>
                </a:cubicBezTo>
                <a:cubicBezTo>
                  <a:pt x="14799" y="11717"/>
                  <a:pt x="14875" y="11797"/>
                  <a:pt x="14932" y="11857"/>
                </a:cubicBezTo>
                <a:cubicBezTo>
                  <a:pt x="14979" y="11906"/>
                  <a:pt x="15022" y="11926"/>
                  <a:pt x="15081" y="11956"/>
                </a:cubicBezTo>
              </a:path>
              <a:path w="6302" h="1613">
                <a:moveTo>
                  <a:pt x="15205" y="11162"/>
                </a:moveTo>
                <a:cubicBezTo>
                  <a:pt x="15237" y="11225"/>
                  <a:pt x="15248" y="11289"/>
                  <a:pt x="15280" y="11361"/>
                </a:cubicBezTo>
                <a:cubicBezTo>
                  <a:pt x="15322" y="11456"/>
                  <a:pt x="15392" y="11528"/>
                  <a:pt x="15453" y="11609"/>
                </a:cubicBezTo>
                <a:cubicBezTo>
                  <a:pt x="15530" y="11712"/>
                  <a:pt x="15633" y="11799"/>
                  <a:pt x="15751" y="11857"/>
                </a:cubicBezTo>
                <a:cubicBezTo>
                  <a:pt x="15808" y="11885"/>
                  <a:pt x="15842" y="11881"/>
                  <a:pt x="15900" y="11881"/>
                </a:cubicBezTo>
              </a:path>
              <a:path w="6302" h="1613">
                <a:moveTo>
                  <a:pt x="15652" y="11038"/>
                </a:moveTo>
                <a:cubicBezTo>
                  <a:pt x="15604" y="11115"/>
                  <a:pt x="15546" y="11184"/>
                  <a:pt x="15503" y="11261"/>
                </a:cubicBezTo>
                <a:cubicBezTo>
                  <a:pt x="15433" y="11386"/>
                  <a:pt x="15399" y="11510"/>
                  <a:pt x="15329" y="11633"/>
                </a:cubicBezTo>
                <a:cubicBezTo>
                  <a:pt x="15298" y="11687"/>
                  <a:pt x="15271" y="11756"/>
                  <a:pt x="15255" y="11807"/>
                </a:cubicBezTo>
                <a:cubicBezTo>
                  <a:pt x="15255" y="11832"/>
                  <a:pt x="15255" y="11840"/>
                  <a:pt x="15255" y="11857"/>
                </a:cubicBezTo>
              </a:path>
              <a:path w="6302" h="1613">
                <a:moveTo>
                  <a:pt x="15949" y="11088"/>
                </a:moveTo>
                <a:cubicBezTo>
                  <a:pt x="15982" y="11142"/>
                  <a:pt x="15974" y="11193"/>
                  <a:pt x="15974" y="11261"/>
                </a:cubicBezTo>
                <a:cubicBezTo>
                  <a:pt x="15974" y="11334"/>
                  <a:pt x="15979" y="11417"/>
                  <a:pt x="15999" y="11485"/>
                </a:cubicBezTo>
                <a:cubicBezTo>
                  <a:pt x="16014" y="11537"/>
                  <a:pt x="16058" y="11587"/>
                  <a:pt x="16073" y="11633"/>
                </a:cubicBezTo>
                <a:cubicBezTo>
                  <a:pt x="16073" y="11641"/>
                  <a:pt x="16073" y="11650"/>
                  <a:pt x="16073" y="11658"/>
                </a:cubicBezTo>
              </a:path>
              <a:path w="6302" h="1613">
                <a:moveTo>
                  <a:pt x="15677" y="11311"/>
                </a:moveTo>
                <a:cubicBezTo>
                  <a:pt x="15669" y="11303"/>
                  <a:pt x="15660" y="11294"/>
                  <a:pt x="15652" y="11286"/>
                </a:cubicBezTo>
                <a:cubicBezTo>
                  <a:pt x="15727" y="11240"/>
                  <a:pt x="15765" y="11274"/>
                  <a:pt x="15850" y="11286"/>
                </a:cubicBezTo>
                <a:cubicBezTo>
                  <a:pt x="15906" y="11294"/>
                  <a:pt x="15968" y="11286"/>
                  <a:pt x="16024" y="11286"/>
                </a:cubicBezTo>
              </a:path>
              <a:path w="6302" h="1613">
                <a:moveTo>
                  <a:pt x="16520" y="11038"/>
                </a:moveTo>
                <a:cubicBezTo>
                  <a:pt x="16496" y="11094"/>
                  <a:pt x="16489" y="11119"/>
                  <a:pt x="16446" y="11162"/>
                </a:cubicBezTo>
                <a:cubicBezTo>
                  <a:pt x="16414" y="11194"/>
                  <a:pt x="16407" y="11226"/>
                  <a:pt x="16371" y="11261"/>
                </a:cubicBezTo>
                <a:cubicBezTo>
                  <a:pt x="16386" y="11305"/>
                  <a:pt x="16399" y="11296"/>
                  <a:pt x="16446" y="11336"/>
                </a:cubicBezTo>
                <a:cubicBezTo>
                  <a:pt x="16501" y="11382"/>
                  <a:pt x="16575" y="11401"/>
                  <a:pt x="16644" y="11410"/>
                </a:cubicBezTo>
                <a:cubicBezTo>
                  <a:pt x="16715" y="11419"/>
                  <a:pt x="16755" y="11408"/>
                  <a:pt x="16818" y="11385"/>
                </a:cubicBezTo>
              </a:path>
              <a:path w="6302" h="1613">
                <a:moveTo>
                  <a:pt x="16818" y="10864"/>
                </a:moveTo>
                <a:cubicBezTo>
                  <a:pt x="16766" y="10996"/>
                  <a:pt x="16743" y="11073"/>
                  <a:pt x="16743" y="11212"/>
                </a:cubicBezTo>
                <a:cubicBezTo>
                  <a:pt x="16743" y="11327"/>
                  <a:pt x="16744" y="11448"/>
                  <a:pt x="16768" y="11559"/>
                </a:cubicBezTo>
                <a:cubicBezTo>
                  <a:pt x="16782" y="11623"/>
                  <a:pt x="16793" y="11726"/>
                  <a:pt x="16818" y="11782"/>
                </a:cubicBezTo>
                <a:cubicBezTo>
                  <a:pt x="16828" y="11804"/>
                  <a:pt x="16842" y="11854"/>
                  <a:pt x="16842" y="11807"/>
                </a:cubicBezTo>
              </a:path>
              <a:path w="6302" h="1613">
                <a:moveTo>
                  <a:pt x="16768" y="10542"/>
                </a:moveTo>
                <a:cubicBezTo>
                  <a:pt x="16861" y="10600"/>
                  <a:pt x="16890" y="10668"/>
                  <a:pt x="16942" y="10765"/>
                </a:cubicBezTo>
                <a:cubicBezTo>
                  <a:pt x="17031" y="10932"/>
                  <a:pt x="17074" y="11128"/>
                  <a:pt x="17115" y="11311"/>
                </a:cubicBezTo>
                <a:cubicBezTo>
                  <a:pt x="17150" y="11465"/>
                  <a:pt x="17150" y="11607"/>
                  <a:pt x="17140" y="11757"/>
                </a:cubicBezTo>
                <a:cubicBezTo>
                  <a:pt x="17134" y="11857"/>
                  <a:pt x="17109" y="11938"/>
                  <a:pt x="17066" y="12030"/>
                </a:cubicBezTo>
                <a:cubicBezTo>
                  <a:pt x="17053" y="12058"/>
                  <a:pt x="17020" y="12136"/>
                  <a:pt x="16991" y="12129"/>
                </a:cubicBezTo>
                <a:cubicBezTo>
                  <a:pt x="16991" y="12121"/>
                  <a:pt x="16991" y="12113"/>
                  <a:pt x="16991" y="12105"/>
                </a:cubicBezTo>
              </a:path>
              <a:path w="6302" h="1613">
                <a:moveTo>
                  <a:pt x="17264" y="10567"/>
                </a:moveTo>
                <a:cubicBezTo>
                  <a:pt x="17362" y="10544"/>
                  <a:pt x="17379" y="10527"/>
                  <a:pt x="17462" y="10567"/>
                </a:cubicBezTo>
                <a:cubicBezTo>
                  <a:pt x="17521" y="10595"/>
                  <a:pt x="17586" y="10629"/>
                  <a:pt x="17611" y="10691"/>
                </a:cubicBezTo>
                <a:cubicBezTo>
                  <a:pt x="17631" y="10741"/>
                  <a:pt x="17607" y="10826"/>
                  <a:pt x="17587" y="10864"/>
                </a:cubicBezTo>
                <a:cubicBezTo>
                  <a:pt x="17567" y="10901"/>
                  <a:pt x="17530" y="10969"/>
                  <a:pt x="17487" y="10988"/>
                </a:cubicBezTo>
                <a:cubicBezTo>
                  <a:pt x="17459" y="10988"/>
                  <a:pt x="17448" y="10990"/>
                  <a:pt x="17438" y="11013"/>
                </a:cubicBezTo>
                <a:cubicBezTo>
                  <a:pt x="17464" y="11053"/>
                  <a:pt x="17523" y="11060"/>
                  <a:pt x="17587" y="11063"/>
                </a:cubicBezTo>
                <a:cubicBezTo>
                  <a:pt x="17650" y="11066"/>
                  <a:pt x="17696" y="11082"/>
                  <a:pt x="17760" y="11088"/>
                </a:cubicBezTo>
              </a:path>
              <a:path w="6302" h="1613">
                <a:moveTo>
                  <a:pt x="17909" y="11410"/>
                </a:moveTo>
                <a:cubicBezTo>
                  <a:pt x="18050" y="11443"/>
                  <a:pt x="18088" y="11460"/>
                  <a:pt x="18207" y="11460"/>
                </a:cubicBezTo>
              </a:path>
              <a:path w="6302" h="1613">
                <a:moveTo>
                  <a:pt x="18653" y="11013"/>
                </a:moveTo>
                <a:cubicBezTo>
                  <a:pt x="18752" y="10986"/>
                  <a:pt x="18827" y="10973"/>
                  <a:pt x="18926" y="11013"/>
                </a:cubicBezTo>
                <a:cubicBezTo>
                  <a:pt x="18971" y="11031"/>
                  <a:pt x="19015" y="11060"/>
                  <a:pt x="19050" y="11088"/>
                </a:cubicBezTo>
                <a:cubicBezTo>
                  <a:pt x="19043" y="11133"/>
                  <a:pt x="19015" y="11204"/>
                  <a:pt x="18976" y="11237"/>
                </a:cubicBezTo>
                <a:cubicBezTo>
                  <a:pt x="18931" y="11275"/>
                  <a:pt x="18872" y="11295"/>
                  <a:pt x="18827" y="11336"/>
                </a:cubicBezTo>
                <a:cubicBezTo>
                  <a:pt x="18795" y="11365"/>
                  <a:pt x="18763" y="11368"/>
                  <a:pt x="18728" y="11385"/>
                </a:cubicBezTo>
                <a:cubicBezTo>
                  <a:pt x="18743" y="11394"/>
                  <a:pt x="18790" y="11428"/>
                  <a:pt x="18827" y="11435"/>
                </a:cubicBezTo>
                <a:cubicBezTo>
                  <a:pt x="18898" y="11449"/>
                  <a:pt x="18983" y="11472"/>
                  <a:pt x="19050" y="11509"/>
                </a:cubicBezTo>
                <a:cubicBezTo>
                  <a:pt x="19124" y="11550"/>
                  <a:pt x="19180" y="11655"/>
                  <a:pt x="19199" y="11733"/>
                </a:cubicBezTo>
                <a:cubicBezTo>
                  <a:pt x="19228" y="11852"/>
                  <a:pt x="19245" y="11952"/>
                  <a:pt x="19174" y="12055"/>
                </a:cubicBezTo>
                <a:cubicBezTo>
                  <a:pt x="19133" y="12115"/>
                  <a:pt x="19068" y="12143"/>
                  <a:pt x="19000" y="12154"/>
                </a:cubicBezTo>
                <a:cubicBezTo>
                  <a:pt x="18948" y="12163"/>
                  <a:pt x="18847" y="12131"/>
                  <a:pt x="18802" y="12105"/>
                </a:cubicBezTo>
                <a:cubicBezTo>
                  <a:pt x="18733" y="12066"/>
                  <a:pt x="18684" y="12011"/>
                  <a:pt x="18628" y="119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56080" y="4419720"/>
            <a:ext cx="438120" cy="241200"/>
          </a:xfrm>
          <a:custGeom>
            <a:avLst/>
            <a:gdLst/>
            <a:ahLst/>
            <a:rect l="l" t="t" r="r" b="b"/>
            <a:pathLst>
              <a:path w="1216" h="671">
                <a:moveTo>
                  <a:pt x="12675" y="12303"/>
                </a:moveTo>
                <a:cubicBezTo>
                  <a:pt x="12664" y="12405"/>
                  <a:pt x="12661" y="12451"/>
                  <a:pt x="12675" y="12551"/>
                </a:cubicBezTo>
                <a:cubicBezTo>
                  <a:pt x="12687" y="12632"/>
                  <a:pt x="12679" y="12704"/>
                  <a:pt x="12700" y="12774"/>
                </a:cubicBezTo>
                <a:cubicBezTo>
                  <a:pt x="12700" y="12782"/>
                  <a:pt x="12700" y="12791"/>
                  <a:pt x="12700" y="12799"/>
                </a:cubicBezTo>
              </a:path>
              <a:path w="1216" h="671">
                <a:moveTo>
                  <a:pt x="12378" y="12526"/>
                </a:moveTo>
                <a:cubicBezTo>
                  <a:pt x="12436" y="12534"/>
                  <a:pt x="12491" y="12538"/>
                  <a:pt x="12551" y="12551"/>
                </a:cubicBezTo>
                <a:cubicBezTo>
                  <a:pt x="12631" y="12569"/>
                  <a:pt x="12667" y="12576"/>
                  <a:pt x="12750" y="12576"/>
                </a:cubicBezTo>
              </a:path>
              <a:path w="1216" h="671">
                <a:moveTo>
                  <a:pt x="13146" y="12328"/>
                </a:moveTo>
                <a:cubicBezTo>
                  <a:pt x="13221" y="12287"/>
                  <a:pt x="13280" y="12258"/>
                  <a:pt x="13370" y="12278"/>
                </a:cubicBezTo>
                <a:cubicBezTo>
                  <a:pt x="13459" y="12298"/>
                  <a:pt x="13475" y="12339"/>
                  <a:pt x="13519" y="12402"/>
                </a:cubicBezTo>
                <a:cubicBezTo>
                  <a:pt x="13544" y="12438"/>
                  <a:pt x="13524" y="12511"/>
                  <a:pt x="13469" y="12526"/>
                </a:cubicBezTo>
                <a:cubicBezTo>
                  <a:pt x="13425" y="12538"/>
                  <a:pt x="13387" y="12571"/>
                  <a:pt x="13345" y="12576"/>
                </a:cubicBezTo>
                <a:cubicBezTo>
                  <a:pt x="13320" y="12576"/>
                  <a:pt x="13312" y="12576"/>
                  <a:pt x="13295" y="12576"/>
                </a:cubicBezTo>
                <a:cubicBezTo>
                  <a:pt x="13335" y="12616"/>
                  <a:pt x="13381" y="12669"/>
                  <a:pt x="13419" y="12700"/>
                </a:cubicBezTo>
                <a:cubicBezTo>
                  <a:pt x="13492" y="12759"/>
                  <a:pt x="13529" y="12782"/>
                  <a:pt x="13568" y="12849"/>
                </a:cubicBezTo>
                <a:cubicBezTo>
                  <a:pt x="13606" y="12915"/>
                  <a:pt x="13562" y="12899"/>
                  <a:pt x="13519" y="12923"/>
                </a:cubicBezTo>
                <a:cubicBezTo>
                  <a:pt x="13458" y="12957"/>
                  <a:pt x="13395" y="12948"/>
                  <a:pt x="13320" y="12948"/>
                </a:cubicBezTo>
                <a:cubicBezTo>
                  <a:pt x="13270" y="12948"/>
                  <a:pt x="13221" y="12948"/>
                  <a:pt x="13171" y="129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99000" y="4456080"/>
            <a:ext cx="2286000" cy="893880"/>
          </a:xfrm>
          <a:custGeom>
            <a:avLst/>
            <a:gdLst/>
            <a:ahLst/>
            <a:rect l="l" t="t" r="r" b="b"/>
            <a:pathLst>
              <a:path w="6351" h="2481">
                <a:moveTo>
                  <a:pt x="18033" y="12427"/>
                </a:moveTo>
                <a:cubicBezTo>
                  <a:pt x="18022" y="12472"/>
                  <a:pt x="18008" y="12497"/>
                  <a:pt x="18008" y="12551"/>
                </a:cubicBezTo>
                <a:cubicBezTo>
                  <a:pt x="18008" y="12632"/>
                  <a:pt x="18021" y="12700"/>
                  <a:pt x="18033" y="12774"/>
                </a:cubicBezTo>
                <a:cubicBezTo>
                  <a:pt x="18043" y="12836"/>
                  <a:pt x="18034" y="12889"/>
                  <a:pt x="18058" y="12948"/>
                </a:cubicBezTo>
                <a:cubicBezTo>
                  <a:pt x="18076" y="12993"/>
                  <a:pt x="18082" y="13012"/>
                  <a:pt x="18107" y="13047"/>
                </a:cubicBezTo>
              </a:path>
              <a:path w="6351" h="2481">
                <a:moveTo>
                  <a:pt x="17735" y="12675"/>
                </a:moveTo>
                <a:cubicBezTo>
                  <a:pt x="17786" y="12650"/>
                  <a:pt x="17839" y="12686"/>
                  <a:pt x="17909" y="12700"/>
                </a:cubicBezTo>
                <a:cubicBezTo>
                  <a:pt x="18024" y="12719"/>
                  <a:pt x="18040" y="12728"/>
                  <a:pt x="18107" y="12725"/>
                </a:cubicBezTo>
              </a:path>
              <a:path w="6351" h="2481">
                <a:moveTo>
                  <a:pt x="18529" y="12402"/>
                </a:moveTo>
                <a:cubicBezTo>
                  <a:pt x="18648" y="12384"/>
                  <a:pt x="18737" y="12400"/>
                  <a:pt x="18852" y="12452"/>
                </a:cubicBezTo>
                <a:cubicBezTo>
                  <a:pt x="18890" y="12469"/>
                  <a:pt x="18955" y="12523"/>
                  <a:pt x="18926" y="12576"/>
                </a:cubicBezTo>
                <a:cubicBezTo>
                  <a:pt x="18905" y="12614"/>
                  <a:pt x="18842" y="12662"/>
                  <a:pt x="18802" y="12675"/>
                </a:cubicBezTo>
                <a:cubicBezTo>
                  <a:pt x="18793" y="12678"/>
                  <a:pt x="18706" y="12696"/>
                  <a:pt x="18703" y="12700"/>
                </a:cubicBezTo>
                <a:cubicBezTo>
                  <a:pt x="18703" y="12708"/>
                  <a:pt x="18703" y="12717"/>
                  <a:pt x="18703" y="12725"/>
                </a:cubicBezTo>
                <a:cubicBezTo>
                  <a:pt x="18768" y="12725"/>
                  <a:pt x="18816" y="12740"/>
                  <a:pt x="18876" y="12750"/>
                </a:cubicBezTo>
                <a:cubicBezTo>
                  <a:pt x="18965" y="12765"/>
                  <a:pt x="19007" y="12786"/>
                  <a:pt x="19075" y="12849"/>
                </a:cubicBezTo>
                <a:cubicBezTo>
                  <a:pt x="19131" y="12901"/>
                  <a:pt x="19124" y="12952"/>
                  <a:pt x="19124" y="13022"/>
                </a:cubicBezTo>
                <a:cubicBezTo>
                  <a:pt x="19124" y="13080"/>
                  <a:pt x="19085" y="13130"/>
                  <a:pt x="19025" y="13146"/>
                </a:cubicBezTo>
                <a:cubicBezTo>
                  <a:pt x="18951" y="13165"/>
                  <a:pt x="18882" y="13171"/>
                  <a:pt x="18802" y="13171"/>
                </a:cubicBezTo>
                <a:cubicBezTo>
                  <a:pt x="18702" y="13171"/>
                  <a:pt x="18652" y="13167"/>
                  <a:pt x="18579" y="13146"/>
                </a:cubicBezTo>
              </a:path>
              <a:path w="6351" h="2481">
                <a:moveTo>
                  <a:pt x="15255" y="13940"/>
                </a:moveTo>
                <a:cubicBezTo>
                  <a:pt x="15255" y="13990"/>
                  <a:pt x="15255" y="13989"/>
                  <a:pt x="15255" y="14039"/>
                </a:cubicBezTo>
                <a:cubicBezTo>
                  <a:pt x="15255" y="14148"/>
                  <a:pt x="15270" y="14282"/>
                  <a:pt x="15304" y="14387"/>
                </a:cubicBezTo>
                <a:cubicBezTo>
                  <a:pt x="15329" y="14463"/>
                  <a:pt x="15359" y="14535"/>
                  <a:pt x="15379" y="14610"/>
                </a:cubicBezTo>
                <a:cubicBezTo>
                  <a:pt x="15379" y="14368"/>
                  <a:pt x="15397" y="14129"/>
                  <a:pt x="15404" y="13891"/>
                </a:cubicBezTo>
                <a:cubicBezTo>
                  <a:pt x="15407" y="13772"/>
                  <a:pt x="15440" y="13681"/>
                  <a:pt x="15478" y="13568"/>
                </a:cubicBezTo>
                <a:cubicBezTo>
                  <a:pt x="15512" y="13466"/>
                  <a:pt x="15599" y="13387"/>
                  <a:pt x="15701" y="13345"/>
                </a:cubicBezTo>
                <a:cubicBezTo>
                  <a:pt x="15864" y="13279"/>
                  <a:pt x="16000" y="13266"/>
                  <a:pt x="16173" y="13246"/>
                </a:cubicBezTo>
                <a:cubicBezTo>
                  <a:pt x="16392" y="13221"/>
                  <a:pt x="16620" y="13203"/>
                  <a:pt x="16842" y="13221"/>
                </a:cubicBezTo>
                <a:cubicBezTo>
                  <a:pt x="17067" y="13239"/>
                  <a:pt x="17289" y="13259"/>
                  <a:pt x="17512" y="13295"/>
                </a:cubicBezTo>
                <a:cubicBezTo>
                  <a:pt x="17650" y="13317"/>
                  <a:pt x="17904" y="13384"/>
                  <a:pt x="18033" y="13320"/>
                </a:cubicBezTo>
                <a:cubicBezTo>
                  <a:pt x="18061" y="13292"/>
                  <a:pt x="18070" y="13279"/>
                  <a:pt x="18058" y="13246"/>
                </a:cubicBezTo>
              </a:path>
              <a:path w="6351" h="2481">
                <a:moveTo>
                  <a:pt x="13097" y="13717"/>
                </a:moveTo>
                <a:cubicBezTo>
                  <a:pt x="13097" y="13808"/>
                  <a:pt x="13104" y="13880"/>
                  <a:pt x="13122" y="13965"/>
                </a:cubicBezTo>
                <a:cubicBezTo>
                  <a:pt x="13122" y="13990"/>
                  <a:pt x="13122" y="13998"/>
                  <a:pt x="13122" y="14015"/>
                </a:cubicBezTo>
              </a:path>
              <a:path w="6351" h="2481">
                <a:moveTo>
                  <a:pt x="12849" y="13767"/>
                </a:moveTo>
                <a:cubicBezTo>
                  <a:pt x="12962" y="13767"/>
                  <a:pt x="13038" y="13796"/>
                  <a:pt x="13146" y="13816"/>
                </a:cubicBezTo>
                <a:cubicBezTo>
                  <a:pt x="13163" y="13816"/>
                  <a:pt x="13179" y="13816"/>
                  <a:pt x="13196" y="13816"/>
                </a:cubicBezTo>
              </a:path>
              <a:path w="6351" h="2481">
                <a:moveTo>
                  <a:pt x="12774" y="14089"/>
                </a:moveTo>
                <a:cubicBezTo>
                  <a:pt x="12908" y="14160"/>
                  <a:pt x="12933" y="14184"/>
                  <a:pt x="13072" y="14139"/>
                </a:cubicBezTo>
              </a:path>
              <a:path w="6351" h="2481">
                <a:moveTo>
                  <a:pt x="13295" y="14238"/>
                </a:moveTo>
                <a:cubicBezTo>
                  <a:pt x="13311" y="14419"/>
                  <a:pt x="13345" y="14603"/>
                  <a:pt x="13345" y="14784"/>
                </a:cubicBezTo>
                <a:cubicBezTo>
                  <a:pt x="13345" y="14838"/>
                  <a:pt x="13382" y="14886"/>
                  <a:pt x="13345" y="14833"/>
                </a:cubicBezTo>
                <a:cubicBezTo>
                  <a:pt x="13306" y="14778"/>
                  <a:pt x="13302" y="14649"/>
                  <a:pt x="13295" y="14585"/>
                </a:cubicBezTo>
                <a:cubicBezTo>
                  <a:pt x="13259" y="14266"/>
                  <a:pt x="13309" y="13932"/>
                  <a:pt x="13271" y="13618"/>
                </a:cubicBezTo>
                <a:cubicBezTo>
                  <a:pt x="13267" y="13582"/>
                  <a:pt x="13255" y="13469"/>
                  <a:pt x="13295" y="13444"/>
                </a:cubicBezTo>
                <a:cubicBezTo>
                  <a:pt x="13348" y="13411"/>
                  <a:pt x="13470" y="13463"/>
                  <a:pt x="13519" y="13469"/>
                </a:cubicBezTo>
                <a:cubicBezTo>
                  <a:pt x="13632" y="13482"/>
                  <a:pt x="13753" y="13490"/>
                  <a:pt x="13866" y="13494"/>
                </a:cubicBezTo>
                <a:cubicBezTo>
                  <a:pt x="13969" y="13498"/>
                  <a:pt x="14064" y="13514"/>
                  <a:pt x="14163" y="13519"/>
                </a:cubicBezTo>
                <a:cubicBezTo>
                  <a:pt x="14203" y="13521"/>
                  <a:pt x="14288" y="13541"/>
                  <a:pt x="14288" y="13494"/>
                </a:cubicBezTo>
                <a:cubicBezTo>
                  <a:pt x="14280" y="13486"/>
                  <a:pt x="14271" y="13477"/>
                  <a:pt x="14263" y="134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02120" y="4973760"/>
            <a:ext cx="465120" cy="357120"/>
          </a:xfrm>
          <a:custGeom>
            <a:avLst/>
            <a:gdLst/>
            <a:ahLst/>
            <a:rect l="l" t="t" r="r" b="b"/>
            <a:pathLst>
              <a:path w="1291" h="993">
                <a:moveTo>
                  <a:pt x="13667" y="13816"/>
                </a:moveTo>
                <a:cubicBezTo>
                  <a:pt x="13757" y="13816"/>
                  <a:pt x="13838" y="13825"/>
                  <a:pt x="13915" y="13841"/>
                </a:cubicBezTo>
                <a:cubicBezTo>
                  <a:pt x="13973" y="13853"/>
                  <a:pt x="14042" y="13878"/>
                  <a:pt x="14015" y="13965"/>
                </a:cubicBezTo>
                <a:cubicBezTo>
                  <a:pt x="14003" y="14005"/>
                  <a:pt x="13894" y="14085"/>
                  <a:pt x="13866" y="14089"/>
                </a:cubicBezTo>
                <a:cubicBezTo>
                  <a:pt x="13793" y="14099"/>
                  <a:pt x="13805" y="14143"/>
                  <a:pt x="13742" y="14163"/>
                </a:cubicBezTo>
                <a:cubicBezTo>
                  <a:pt x="13734" y="14163"/>
                  <a:pt x="13725" y="14163"/>
                  <a:pt x="13717" y="14163"/>
                </a:cubicBezTo>
                <a:cubicBezTo>
                  <a:pt x="13730" y="14201"/>
                  <a:pt x="13739" y="14192"/>
                  <a:pt x="13767" y="14213"/>
                </a:cubicBezTo>
                <a:cubicBezTo>
                  <a:pt x="13806" y="14243"/>
                  <a:pt x="13884" y="14276"/>
                  <a:pt x="13915" y="14312"/>
                </a:cubicBezTo>
                <a:cubicBezTo>
                  <a:pt x="13963" y="14368"/>
                  <a:pt x="14011" y="14440"/>
                  <a:pt x="14039" y="14511"/>
                </a:cubicBezTo>
                <a:cubicBezTo>
                  <a:pt x="14064" y="14576"/>
                  <a:pt x="14090" y="14696"/>
                  <a:pt x="14039" y="14759"/>
                </a:cubicBezTo>
                <a:cubicBezTo>
                  <a:pt x="14009" y="14796"/>
                  <a:pt x="13884" y="14806"/>
                  <a:pt x="13841" y="14808"/>
                </a:cubicBezTo>
                <a:cubicBezTo>
                  <a:pt x="13798" y="14810"/>
                  <a:pt x="13643" y="14835"/>
                  <a:pt x="13618" y="14784"/>
                </a:cubicBezTo>
                <a:cubicBezTo>
                  <a:pt x="13618" y="14759"/>
                  <a:pt x="13618" y="14751"/>
                  <a:pt x="13618" y="14734"/>
                </a:cubicBezTo>
              </a:path>
              <a:path w="1291" h="993">
                <a:moveTo>
                  <a:pt x="14461" y="14263"/>
                </a:moveTo>
                <a:cubicBezTo>
                  <a:pt x="14566" y="14277"/>
                  <a:pt x="14636" y="14288"/>
                  <a:pt x="14734" y="14288"/>
                </a:cubicBezTo>
              </a:path>
              <a:path w="1291" h="993">
                <a:moveTo>
                  <a:pt x="14511" y="14436"/>
                </a:moveTo>
                <a:cubicBezTo>
                  <a:pt x="14577" y="14495"/>
                  <a:pt x="14662" y="14562"/>
                  <a:pt x="14759" y="14560"/>
                </a:cubicBezTo>
                <a:cubicBezTo>
                  <a:pt x="14809" y="14552"/>
                  <a:pt x="14858" y="14544"/>
                  <a:pt x="14908" y="145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3080" y="4938840"/>
            <a:ext cx="1098720" cy="463320"/>
          </a:xfrm>
          <a:custGeom>
            <a:avLst/>
            <a:gdLst/>
            <a:ahLst/>
            <a:rect l="l" t="t" r="r" b="b"/>
            <a:pathLst>
              <a:path w="3052" h="1291">
                <a:moveTo>
                  <a:pt x="15875" y="13841"/>
                </a:moveTo>
                <a:cubicBezTo>
                  <a:pt x="15861" y="13899"/>
                  <a:pt x="15812" y="13914"/>
                  <a:pt x="15776" y="13965"/>
                </a:cubicBezTo>
                <a:cubicBezTo>
                  <a:pt x="15729" y="14032"/>
                  <a:pt x="15704" y="14133"/>
                  <a:pt x="15701" y="14213"/>
                </a:cubicBezTo>
                <a:cubicBezTo>
                  <a:pt x="15694" y="14371"/>
                  <a:pt x="15765" y="14470"/>
                  <a:pt x="15850" y="14585"/>
                </a:cubicBezTo>
                <a:cubicBezTo>
                  <a:pt x="15928" y="14690"/>
                  <a:pt x="16001" y="14733"/>
                  <a:pt x="16098" y="14808"/>
                </a:cubicBezTo>
              </a:path>
              <a:path w="3052" h="1291">
                <a:moveTo>
                  <a:pt x="16247" y="14089"/>
                </a:moveTo>
                <a:cubicBezTo>
                  <a:pt x="16295" y="14195"/>
                  <a:pt x="16367" y="14296"/>
                  <a:pt x="16446" y="14387"/>
                </a:cubicBezTo>
                <a:cubicBezTo>
                  <a:pt x="16531" y="14485"/>
                  <a:pt x="16623" y="14577"/>
                  <a:pt x="16718" y="14660"/>
                </a:cubicBezTo>
                <a:cubicBezTo>
                  <a:pt x="16726" y="14668"/>
                  <a:pt x="16735" y="14676"/>
                  <a:pt x="16743" y="14684"/>
                </a:cubicBezTo>
              </a:path>
              <a:path w="3052" h="1291">
                <a:moveTo>
                  <a:pt x="16644" y="14089"/>
                </a:moveTo>
                <a:cubicBezTo>
                  <a:pt x="16508" y="14205"/>
                  <a:pt x="16463" y="14260"/>
                  <a:pt x="16371" y="14387"/>
                </a:cubicBezTo>
                <a:cubicBezTo>
                  <a:pt x="16321" y="14456"/>
                  <a:pt x="16278" y="14507"/>
                  <a:pt x="16247" y="14585"/>
                </a:cubicBezTo>
                <a:cubicBezTo>
                  <a:pt x="16225" y="14639"/>
                  <a:pt x="16201" y="14645"/>
                  <a:pt x="16247" y="14660"/>
                </a:cubicBezTo>
              </a:path>
              <a:path w="3052" h="1291">
                <a:moveTo>
                  <a:pt x="16966" y="14039"/>
                </a:moveTo>
                <a:cubicBezTo>
                  <a:pt x="16994" y="14124"/>
                  <a:pt x="16991" y="14197"/>
                  <a:pt x="16991" y="14288"/>
                </a:cubicBezTo>
                <a:cubicBezTo>
                  <a:pt x="16991" y="14372"/>
                  <a:pt x="17012" y="14432"/>
                  <a:pt x="17016" y="14511"/>
                </a:cubicBezTo>
                <a:cubicBezTo>
                  <a:pt x="17016" y="14527"/>
                  <a:pt x="17016" y="14544"/>
                  <a:pt x="17016" y="14560"/>
                </a:cubicBezTo>
              </a:path>
              <a:path w="3052" h="1291">
                <a:moveTo>
                  <a:pt x="16768" y="14213"/>
                </a:moveTo>
                <a:cubicBezTo>
                  <a:pt x="16874" y="14193"/>
                  <a:pt x="16931" y="14228"/>
                  <a:pt x="17041" y="14238"/>
                </a:cubicBezTo>
                <a:cubicBezTo>
                  <a:pt x="17133" y="14238"/>
                  <a:pt x="17159" y="14236"/>
                  <a:pt x="17214" y="14263"/>
                </a:cubicBezTo>
              </a:path>
              <a:path w="3052" h="1291">
                <a:moveTo>
                  <a:pt x="17413" y="14089"/>
                </a:moveTo>
                <a:cubicBezTo>
                  <a:pt x="17396" y="14089"/>
                  <a:pt x="17380" y="14089"/>
                  <a:pt x="17363" y="14089"/>
                </a:cubicBezTo>
                <a:cubicBezTo>
                  <a:pt x="17363" y="14156"/>
                  <a:pt x="17366" y="14187"/>
                  <a:pt x="17413" y="14238"/>
                </a:cubicBezTo>
                <a:cubicBezTo>
                  <a:pt x="17478" y="14309"/>
                  <a:pt x="17538" y="14368"/>
                  <a:pt x="17636" y="14387"/>
                </a:cubicBezTo>
                <a:cubicBezTo>
                  <a:pt x="17653" y="14387"/>
                  <a:pt x="17669" y="14387"/>
                  <a:pt x="17686" y="14387"/>
                </a:cubicBezTo>
              </a:path>
              <a:path w="3052" h="1291">
                <a:moveTo>
                  <a:pt x="17711" y="13841"/>
                </a:moveTo>
                <a:cubicBezTo>
                  <a:pt x="17648" y="13904"/>
                  <a:pt x="17661" y="13949"/>
                  <a:pt x="17661" y="14039"/>
                </a:cubicBezTo>
                <a:cubicBezTo>
                  <a:pt x="17661" y="14170"/>
                  <a:pt x="17661" y="14309"/>
                  <a:pt x="17686" y="14436"/>
                </a:cubicBezTo>
                <a:cubicBezTo>
                  <a:pt x="17705" y="14532"/>
                  <a:pt x="17711" y="14610"/>
                  <a:pt x="17711" y="14709"/>
                </a:cubicBezTo>
              </a:path>
              <a:path w="3052" h="1291">
                <a:moveTo>
                  <a:pt x="17884" y="13841"/>
                </a:moveTo>
                <a:cubicBezTo>
                  <a:pt x="18032" y="13959"/>
                  <a:pt x="18018" y="14092"/>
                  <a:pt x="18058" y="14288"/>
                </a:cubicBezTo>
                <a:cubicBezTo>
                  <a:pt x="18088" y="14435"/>
                  <a:pt x="18107" y="14559"/>
                  <a:pt x="18107" y="14709"/>
                </a:cubicBezTo>
                <a:cubicBezTo>
                  <a:pt x="18107" y="14798"/>
                  <a:pt x="18072" y="14883"/>
                  <a:pt x="18058" y="14957"/>
                </a:cubicBezTo>
                <a:cubicBezTo>
                  <a:pt x="18058" y="14999"/>
                  <a:pt x="18066" y="15015"/>
                  <a:pt x="18033" y="15007"/>
                </a:cubicBezTo>
              </a:path>
              <a:path w="3052" h="1291">
                <a:moveTo>
                  <a:pt x="18281" y="13791"/>
                </a:moveTo>
                <a:cubicBezTo>
                  <a:pt x="18404" y="13721"/>
                  <a:pt x="18396" y="13710"/>
                  <a:pt x="18504" y="13791"/>
                </a:cubicBezTo>
                <a:cubicBezTo>
                  <a:pt x="18543" y="13820"/>
                  <a:pt x="18574" y="13879"/>
                  <a:pt x="18529" y="13915"/>
                </a:cubicBezTo>
                <a:cubicBezTo>
                  <a:pt x="18498" y="13940"/>
                  <a:pt x="18451" y="13965"/>
                  <a:pt x="18405" y="13965"/>
                </a:cubicBezTo>
                <a:cubicBezTo>
                  <a:pt x="18405" y="14006"/>
                  <a:pt x="18420" y="14062"/>
                  <a:pt x="18455" y="14089"/>
                </a:cubicBezTo>
                <a:cubicBezTo>
                  <a:pt x="18510" y="14132"/>
                  <a:pt x="18575" y="14159"/>
                  <a:pt x="18653" y="14163"/>
                </a:cubicBezTo>
                <a:cubicBezTo>
                  <a:pt x="18708" y="14166"/>
                  <a:pt x="18730" y="14171"/>
                  <a:pt x="18752" y="141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06920" y="5473800"/>
            <a:ext cx="1519200" cy="500040"/>
          </a:xfrm>
          <a:custGeom>
            <a:avLst/>
            <a:gdLst/>
            <a:ahLst/>
            <a:rect l="l" t="t" r="r" b="b"/>
            <a:pathLst>
              <a:path w="4218" h="1390">
                <a:moveTo>
                  <a:pt x="12998" y="15255"/>
                </a:moveTo>
                <a:cubicBezTo>
                  <a:pt x="12998" y="15408"/>
                  <a:pt x="13000" y="15555"/>
                  <a:pt x="13022" y="15701"/>
                </a:cubicBezTo>
                <a:cubicBezTo>
                  <a:pt x="13029" y="15749"/>
                  <a:pt x="13037" y="15760"/>
                  <a:pt x="13047" y="15801"/>
                </a:cubicBezTo>
              </a:path>
              <a:path w="4218" h="1390">
                <a:moveTo>
                  <a:pt x="12799" y="15528"/>
                </a:moveTo>
                <a:cubicBezTo>
                  <a:pt x="12878" y="15528"/>
                  <a:pt x="12921" y="15565"/>
                  <a:pt x="12998" y="15577"/>
                </a:cubicBezTo>
                <a:cubicBezTo>
                  <a:pt x="13061" y="15586"/>
                  <a:pt x="13132" y="15577"/>
                  <a:pt x="13196" y="15577"/>
                </a:cubicBezTo>
              </a:path>
              <a:path w="4218" h="1390">
                <a:moveTo>
                  <a:pt x="12874" y="15999"/>
                </a:moveTo>
                <a:cubicBezTo>
                  <a:pt x="13021" y="16013"/>
                  <a:pt x="13066" y="15990"/>
                  <a:pt x="13196" y="15974"/>
                </a:cubicBezTo>
              </a:path>
              <a:path w="4218" h="1390">
                <a:moveTo>
                  <a:pt x="13543" y="15677"/>
                </a:moveTo>
                <a:cubicBezTo>
                  <a:pt x="13551" y="15789"/>
                  <a:pt x="13568" y="15885"/>
                  <a:pt x="13568" y="15999"/>
                </a:cubicBezTo>
                <a:cubicBezTo>
                  <a:pt x="13568" y="16112"/>
                  <a:pt x="13589" y="16210"/>
                  <a:pt x="13593" y="16321"/>
                </a:cubicBezTo>
                <a:cubicBezTo>
                  <a:pt x="13595" y="16368"/>
                  <a:pt x="13606" y="16403"/>
                  <a:pt x="13618" y="16446"/>
                </a:cubicBezTo>
                <a:cubicBezTo>
                  <a:pt x="13610" y="16362"/>
                  <a:pt x="13596" y="16283"/>
                  <a:pt x="13593" y="16197"/>
                </a:cubicBezTo>
                <a:cubicBezTo>
                  <a:pt x="13586" y="15987"/>
                  <a:pt x="13596" y="15782"/>
                  <a:pt x="13568" y="15577"/>
                </a:cubicBezTo>
                <a:cubicBezTo>
                  <a:pt x="13555" y="15486"/>
                  <a:pt x="13552" y="15355"/>
                  <a:pt x="13593" y="15280"/>
                </a:cubicBezTo>
                <a:cubicBezTo>
                  <a:pt x="13610" y="15249"/>
                  <a:pt x="13625" y="15216"/>
                  <a:pt x="13667" y="15205"/>
                </a:cubicBezTo>
                <a:cubicBezTo>
                  <a:pt x="13734" y="15187"/>
                  <a:pt x="13827" y="15247"/>
                  <a:pt x="13891" y="15255"/>
                </a:cubicBezTo>
                <a:cubicBezTo>
                  <a:pt x="13994" y="15268"/>
                  <a:pt x="14089" y="15288"/>
                  <a:pt x="14188" y="15329"/>
                </a:cubicBezTo>
                <a:cubicBezTo>
                  <a:pt x="14261" y="15359"/>
                  <a:pt x="14345" y="15384"/>
                  <a:pt x="14412" y="15404"/>
                </a:cubicBezTo>
                <a:cubicBezTo>
                  <a:pt x="14420" y="15404"/>
                  <a:pt x="14428" y="15404"/>
                  <a:pt x="14436" y="15404"/>
                </a:cubicBezTo>
              </a:path>
              <a:path w="4218" h="1390">
                <a:moveTo>
                  <a:pt x="13891" y="15627"/>
                </a:moveTo>
                <a:cubicBezTo>
                  <a:pt x="13941" y="15627"/>
                  <a:pt x="13949" y="15616"/>
                  <a:pt x="13990" y="15602"/>
                </a:cubicBezTo>
                <a:cubicBezTo>
                  <a:pt x="14043" y="15584"/>
                  <a:pt x="14089" y="15623"/>
                  <a:pt x="14139" y="15627"/>
                </a:cubicBezTo>
                <a:cubicBezTo>
                  <a:pt x="14194" y="15632"/>
                  <a:pt x="14218" y="15651"/>
                  <a:pt x="14238" y="15677"/>
                </a:cubicBezTo>
                <a:cubicBezTo>
                  <a:pt x="14261" y="15706"/>
                  <a:pt x="14284" y="15760"/>
                  <a:pt x="14263" y="15801"/>
                </a:cubicBezTo>
                <a:cubicBezTo>
                  <a:pt x="14243" y="15840"/>
                  <a:pt x="14177" y="15865"/>
                  <a:pt x="14139" y="15875"/>
                </a:cubicBezTo>
                <a:cubicBezTo>
                  <a:pt x="14103" y="15884"/>
                  <a:pt x="14002" y="15900"/>
                  <a:pt x="14039" y="15900"/>
                </a:cubicBezTo>
                <a:cubicBezTo>
                  <a:pt x="14096" y="15900"/>
                  <a:pt x="14117" y="15910"/>
                  <a:pt x="14163" y="15925"/>
                </a:cubicBezTo>
                <a:cubicBezTo>
                  <a:pt x="14202" y="15938"/>
                  <a:pt x="14260" y="15959"/>
                  <a:pt x="14288" y="15999"/>
                </a:cubicBezTo>
                <a:cubicBezTo>
                  <a:pt x="14323" y="16049"/>
                  <a:pt x="14354" y="16139"/>
                  <a:pt x="14362" y="16197"/>
                </a:cubicBezTo>
                <a:cubicBezTo>
                  <a:pt x="14375" y="16296"/>
                  <a:pt x="14314" y="16378"/>
                  <a:pt x="14238" y="16421"/>
                </a:cubicBezTo>
                <a:cubicBezTo>
                  <a:pt x="14174" y="16457"/>
                  <a:pt x="14110" y="16446"/>
                  <a:pt x="14039" y="16446"/>
                </a:cubicBezTo>
                <a:cubicBezTo>
                  <a:pt x="13976" y="16446"/>
                  <a:pt x="13939" y="16429"/>
                  <a:pt x="13915" y="16396"/>
                </a:cubicBezTo>
                <a:cubicBezTo>
                  <a:pt x="13893" y="16373"/>
                  <a:pt x="13885" y="16368"/>
                  <a:pt x="13891" y="16346"/>
                </a:cubicBezTo>
              </a:path>
              <a:path w="4218" h="1390">
                <a:moveTo>
                  <a:pt x="14585" y="15825"/>
                </a:moveTo>
                <a:cubicBezTo>
                  <a:pt x="14701" y="15825"/>
                  <a:pt x="14816" y="15825"/>
                  <a:pt x="14932" y="15825"/>
                </a:cubicBezTo>
              </a:path>
              <a:path w="4218" h="1390">
                <a:moveTo>
                  <a:pt x="14734" y="16024"/>
                </a:moveTo>
                <a:cubicBezTo>
                  <a:pt x="14807" y="16070"/>
                  <a:pt x="14889" y="16141"/>
                  <a:pt x="14982" y="16123"/>
                </a:cubicBezTo>
                <a:cubicBezTo>
                  <a:pt x="14999" y="16115"/>
                  <a:pt x="15015" y="16106"/>
                  <a:pt x="15032" y="16098"/>
                </a:cubicBezTo>
              </a:path>
              <a:path w="4218" h="1390">
                <a:moveTo>
                  <a:pt x="15404" y="15528"/>
                </a:moveTo>
                <a:cubicBezTo>
                  <a:pt x="15452" y="15588"/>
                  <a:pt x="15492" y="15657"/>
                  <a:pt x="15528" y="15726"/>
                </a:cubicBezTo>
                <a:cubicBezTo>
                  <a:pt x="15603" y="15872"/>
                  <a:pt x="15703" y="16002"/>
                  <a:pt x="15776" y="16148"/>
                </a:cubicBezTo>
                <a:cubicBezTo>
                  <a:pt x="15841" y="16279"/>
                  <a:pt x="15895" y="16367"/>
                  <a:pt x="15999" y="16470"/>
                </a:cubicBezTo>
              </a:path>
              <a:path w="4218" h="1390">
                <a:moveTo>
                  <a:pt x="15900" y="15503"/>
                </a:moveTo>
                <a:cubicBezTo>
                  <a:pt x="15798" y="15593"/>
                  <a:pt x="15681" y="15693"/>
                  <a:pt x="15627" y="15825"/>
                </a:cubicBezTo>
                <a:cubicBezTo>
                  <a:pt x="15581" y="15937"/>
                  <a:pt x="15519" y="16075"/>
                  <a:pt x="15503" y="16197"/>
                </a:cubicBezTo>
                <a:cubicBezTo>
                  <a:pt x="15495" y="16260"/>
                  <a:pt x="15486" y="16309"/>
                  <a:pt x="15478" y="16371"/>
                </a:cubicBezTo>
              </a:path>
              <a:path w="4218" h="1390">
                <a:moveTo>
                  <a:pt x="16247" y="15577"/>
                </a:moveTo>
                <a:cubicBezTo>
                  <a:pt x="16247" y="15784"/>
                  <a:pt x="16247" y="15990"/>
                  <a:pt x="16247" y="16197"/>
                </a:cubicBezTo>
              </a:path>
              <a:path w="4218" h="1390">
                <a:moveTo>
                  <a:pt x="15999" y="15900"/>
                </a:moveTo>
                <a:cubicBezTo>
                  <a:pt x="16113" y="15868"/>
                  <a:pt x="16158" y="15888"/>
                  <a:pt x="16272" y="15925"/>
                </a:cubicBezTo>
                <a:cubicBezTo>
                  <a:pt x="16345" y="15949"/>
                  <a:pt x="16369" y="15957"/>
                  <a:pt x="16421" y="15949"/>
                </a:cubicBezTo>
              </a:path>
              <a:path w="4218" h="1390">
                <a:moveTo>
                  <a:pt x="16718" y="15652"/>
                </a:moveTo>
                <a:cubicBezTo>
                  <a:pt x="16686" y="15684"/>
                  <a:pt x="16661" y="15704"/>
                  <a:pt x="16644" y="15726"/>
                </a:cubicBezTo>
                <a:cubicBezTo>
                  <a:pt x="16608" y="15774"/>
                  <a:pt x="16625" y="15821"/>
                  <a:pt x="16644" y="15875"/>
                </a:cubicBezTo>
                <a:cubicBezTo>
                  <a:pt x="16666" y="15938"/>
                  <a:pt x="16723" y="16002"/>
                  <a:pt x="16768" y="16049"/>
                </a:cubicBezTo>
                <a:cubicBezTo>
                  <a:pt x="16825" y="16109"/>
                  <a:pt x="16884" y="16143"/>
                  <a:pt x="16966" y="16148"/>
                </a:cubicBezTo>
                <a:cubicBezTo>
                  <a:pt x="16983" y="16148"/>
                  <a:pt x="16999" y="16148"/>
                  <a:pt x="17016" y="16148"/>
                </a:cubicBezTo>
              </a:path>
              <a:path w="4218" h="1390">
                <a:moveTo>
                  <a:pt x="16991" y="15255"/>
                </a:moveTo>
                <a:cubicBezTo>
                  <a:pt x="16991" y="15644"/>
                  <a:pt x="17010" y="16034"/>
                  <a:pt x="16966" y="16421"/>
                </a:cubicBezTo>
                <a:cubicBezTo>
                  <a:pt x="16958" y="16479"/>
                  <a:pt x="16950" y="16536"/>
                  <a:pt x="16942" y="165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41880" y="6010200"/>
            <a:ext cx="1438200" cy="581040"/>
          </a:xfrm>
          <a:custGeom>
            <a:avLst/>
            <a:gdLst/>
            <a:ahLst/>
            <a:rect l="l" t="t" r="r" b="b"/>
            <a:pathLst>
              <a:path w="3995" h="1613">
                <a:moveTo>
                  <a:pt x="11782" y="16966"/>
                </a:moveTo>
                <a:cubicBezTo>
                  <a:pt x="11894" y="16966"/>
                  <a:pt x="11997" y="16954"/>
                  <a:pt x="12105" y="16942"/>
                </a:cubicBezTo>
                <a:cubicBezTo>
                  <a:pt x="12169" y="16935"/>
                  <a:pt x="12216" y="16925"/>
                  <a:pt x="12278" y="16917"/>
                </a:cubicBezTo>
              </a:path>
              <a:path w="3995" h="1613">
                <a:moveTo>
                  <a:pt x="12477" y="16768"/>
                </a:moveTo>
                <a:cubicBezTo>
                  <a:pt x="12486" y="16772"/>
                  <a:pt x="12498" y="16825"/>
                  <a:pt x="12477" y="16867"/>
                </a:cubicBezTo>
                <a:cubicBezTo>
                  <a:pt x="12458" y="16906"/>
                  <a:pt x="12419" y="16950"/>
                  <a:pt x="12402" y="16991"/>
                </a:cubicBezTo>
                <a:cubicBezTo>
                  <a:pt x="12397" y="17003"/>
                  <a:pt x="12359" y="17074"/>
                  <a:pt x="12378" y="17090"/>
                </a:cubicBezTo>
                <a:cubicBezTo>
                  <a:pt x="12399" y="17107"/>
                  <a:pt x="12417" y="17120"/>
                  <a:pt x="12452" y="17140"/>
                </a:cubicBezTo>
                <a:cubicBezTo>
                  <a:pt x="12524" y="17181"/>
                  <a:pt x="12600" y="17207"/>
                  <a:pt x="12675" y="17239"/>
                </a:cubicBezTo>
                <a:cubicBezTo>
                  <a:pt x="12692" y="17247"/>
                  <a:pt x="12708" y="17256"/>
                  <a:pt x="12725" y="17264"/>
                </a:cubicBezTo>
              </a:path>
              <a:path w="3995" h="1613">
                <a:moveTo>
                  <a:pt x="12898" y="16694"/>
                </a:moveTo>
                <a:cubicBezTo>
                  <a:pt x="12870" y="16801"/>
                  <a:pt x="12852" y="16904"/>
                  <a:pt x="12849" y="17016"/>
                </a:cubicBezTo>
                <a:cubicBezTo>
                  <a:pt x="12845" y="17169"/>
                  <a:pt x="12864" y="17312"/>
                  <a:pt x="12874" y="17462"/>
                </a:cubicBezTo>
                <a:cubicBezTo>
                  <a:pt x="12884" y="17605"/>
                  <a:pt x="12890" y="17742"/>
                  <a:pt x="12898" y="17884"/>
                </a:cubicBezTo>
              </a:path>
              <a:path w="3995" h="1613">
                <a:moveTo>
                  <a:pt x="13320" y="16818"/>
                </a:moveTo>
                <a:cubicBezTo>
                  <a:pt x="13320" y="17000"/>
                  <a:pt x="13337" y="17143"/>
                  <a:pt x="13345" y="17314"/>
                </a:cubicBezTo>
                <a:cubicBezTo>
                  <a:pt x="13345" y="17330"/>
                  <a:pt x="13345" y="17347"/>
                  <a:pt x="13345" y="17363"/>
                </a:cubicBezTo>
              </a:path>
              <a:path w="3995" h="1613">
                <a:moveTo>
                  <a:pt x="13097" y="17066"/>
                </a:moveTo>
                <a:cubicBezTo>
                  <a:pt x="13229" y="17075"/>
                  <a:pt x="13318" y="17133"/>
                  <a:pt x="13444" y="17165"/>
                </a:cubicBezTo>
              </a:path>
              <a:path w="3995" h="1613">
                <a:moveTo>
                  <a:pt x="13246" y="17537"/>
                </a:moveTo>
                <a:cubicBezTo>
                  <a:pt x="13377" y="17575"/>
                  <a:pt x="13392" y="17592"/>
                  <a:pt x="13469" y="17587"/>
                </a:cubicBezTo>
              </a:path>
              <a:path w="3995" h="1613">
                <a:moveTo>
                  <a:pt x="13767" y="17115"/>
                </a:moveTo>
                <a:cubicBezTo>
                  <a:pt x="13767" y="17284"/>
                  <a:pt x="13779" y="17442"/>
                  <a:pt x="13791" y="17611"/>
                </a:cubicBezTo>
                <a:cubicBezTo>
                  <a:pt x="13798" y="17706"/>
                  <a:pt x="13811" y="17796"/>
                  <a:pt x="13841" y="17884"/>
                </a:cubicBezTo>
                <a:cubicBezTo>
                  <a:pt x="13841" y="17952"/>
                  <a:pt x="13841" y="17799"/>
                  <a:pt x="13841" y="17785"/>
                </a:cubicBezTo>
                <a:cubicBezTo>
                  <a:pt x="13841" y="17672"/>
                  <a:pt x="13863" y="17572"/>
                  <a:pt x="13866" y="17462"/>
                </a:cubicBezTo>
                <a:cubicBezTo>
                  <a:pt x="13870" y="17332"/>
                  <a:pt x="13845" y="17217"/>
                  <a:pt x="13841" y="17090"/>
                </a:cubicBezTo>
                <a:cubicBezTo>
                  <a:pt x="13839" y="17039"/>
                  <a:pt x="13810" y="16845"/>
                  <a:pt x="13866" y="16818"/>
                </a:cubicBezTo>
                <a:cubicBezTo>
                  <a:pt x="13912" y="16796"/>
                  <a:pt x="13960" y="16800"/>
                  <a:pt x="14015" y="16818"/>
                </a:cubicBezTo>
                <a:cubicBezTo>
                  <a:pt x="14096" y="16845"/>
                  <a:pt x="14150" y="16917"/>
                  <a:pt x="14238" y="16942"/>
                </a:cubicBezTo>
                <a:cubicBezTo>
                  <a:pt x="14273" y="16942"/>
                  <a:pt x="14290" y="16946"/>
                  <a:pt x="14312" y="16966"/>
                </a:cubicBezTo>
              </a:path>
              <a:path w="3995" h="1613">
                <a:moveTo>
                  <a:pt x="14015" y="17190"/>
                </a:moveTo>
                <a:cubicBezTo>
                  <a:pt x="14060" y="17190"/>
                  <a:pt x="14074" y="17210"/>
                  <a:pt x="14114" y="17214"/>
                </a:cubicBezTo>
                <a:cubicBezTo>
                  <a:pt x="14168" y="17220"/>
                  <a:pt x="14241" y="17217"/>
                  <a:pt x="14288" y="17239"/>
                </a:cubicBezTo>
                <a:cubicBezTo>
                  <a:pt x="14322" y="17255"/>
                  <a:pt x="14379" y="17329"/>
                  <a:pt x="14387" y="17363"/>
                </a:cubicBezTo>
                <a:cubicBezTo>
                  <a:pt x="14400" y="17419"/>
                  <a:pt x="14355" y="17448"/>
                  <a:pt x="14312" y="17462"/>
                </a:cubicBezTo>
                <a:cubicBezTo>
                  <a:pt x="14270" y="17476"/>
                  <a:pt x="14231" y="17478"/>
                  <a:pt x="14213" y="17487"/>
                </a:cubicBezTo>
                <a:cubicBezTo>
                  <a:pt x="14205" y="17487"/>
                  <a:pt x="14196" y="17487"/>
                  <a:pt x="14188" y="17487"/>
                </a:cubicBezTo>
                <a:cubicBezTo>
                  <a:pt x="14244" y="17543"/>
                  <a:pt x="14299" y="17592"/>
                  <a:pt x="14337" y="17661"/>
                </a:cubicBezTo>
                <a:cubicBezTo>
                  <a:pt x="14367" y="17714"/>
                  <a:pt x="14375" y="17798"/>
                  <a:pt x="14362" y="17859"/>
                </a:cubicBezTo>
                <a:cubicBezTo>
                  <a:pt x="14346" y="17934"/>
                  <a:pt x="14316" y="18007"/>
                  <a:pt x="14238" y="18033"/>
                </a:cubicBezTo>
                <a:cubicBezTo>
                  <a:pt x="14192" y="18048"/>
                  <a:pt x="14102" y="18028"/>
                  <a:pt x="14064" y="18008"/>
                </a:cubicBezTo>
                <a:cubicBezTo>
                  <a:pt x="14010" y="17979"/>
                  <a:pt x="14015" y="17937"/>
                  <a:pt x="14015" y="17884"/>
                </a:cubicBezTo>
              </a:path>
              <a:path w="3995" h="1613">
                <a:moveTo>
                  <a:pt x="14833" y="17462"/>
                </a:moveTo>
                <a:cubicBezTo>
                  <a:pt x="14936" y="17474"/>
                  <a:pt x="14993" y="17487"/>
                  <a:pt x="15081" y="17487"/>
                </a:cubicBezTo>
              </a:path>
              <a:path w="3995" h="1613">
                <a:moveTo>
                  <a:pt x="14759" y="17785"/>
                </a:moveTo>
                <a:cubicBezTo>
                  <a:pt x="14892" y="17886"/>
                  <a:pt x="14902" y="17909"/>
                  <a:pt x="15056" y="17909"/>
                </a:cubicBezTo>
              </a:path>
              <a:path w="3995" h="1613">
                <a:moveTo>
                  <a:pt x="15354" y="17512"/>
                </a:moveTo>
                <a:cubicBezTo>
                  <a:pt x="15437" y="17625"/>
                  <a:pt x="15513" y="17734"/>
                  <a:pt x="15577" y="17859"/>
                </a:cubicBezTo>
                <a:cubicBezTo>
                  <a:pt x="15636" y="17975"/>
                  <a:pt x="15666" y="18063"/>
                  <a:pt x="15776" y="18132"/>
                </a:cubicBezTo>
              </a:path>
              <a:path w="3995" h="1613">
                <a:moveTo>
                  <a:pt x="15776" y="17636"/>
                </a:moveTo>
                <a:cubicBezTo>
                  <a:pt x="15561" y="17782"/>
                  <a:pt x="15466" y="17872"/>
                  <a:pt x="15304" y="18058"/>
                </a:cubicBezTo>
                <a:cubicBezTo>
                  <a:pt x="15213" y="18162"/>
                  <a:pt x="15120" y="18226"/>
                  <a:pt x="15007" y="183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4384800"/>
            <a:ext cx="90360" cy="8892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2877" y="12278"/>
                </a:moveTo>
                <a:cubicBezTo>
                  <a:pt x="2877" y="12237"/>
                  <a:pt x="2877" y="12229"/>
                  <a:pt x="2877" y="12204"/>
                </a:cubicBezTo>
                <a:cubicBezTo>
                  <a:pt x="2836" y="12204"/>
                  <a:pt x="2798" y="12210"/>
                  <a:pt x="2778" y="12254"/>
                </a:cubicBezTo>
                <a:cubicBezTo>
                  <a:pt x="2755" y="12304"/>
                  <a:pt x="2827" y="12303"/>
                  <a:pt x="2853" y="12303"/>
                </a:cubicBezTo>
                <a:cubicBezTo>
                  <a:pt x="2888" y="12303"/>
                  <a:pt x="2933" y="12316"/>
                  <a:pt x="2952" y="12278"/>
                </a:cubicBezTo>
                <a:cubicBezTo>
                  <a:pt x="2952" y="12254"/>
                  <a:pt x="2952" y="12245"/>
                  <a:pt x="2952" y="12229"/>
                </a:cubicBezTo>
                <a:cubicBezTo>
                  <a:pt x="2894" y="12185"/>
                  <a:pt x="2864" y="12229"/>
                  <a:pt x="2803" y="12278"/>
                </a:cubicBezTo>
                <a:cubicBezTo>
                  <a:pt x="2778" y="12298"/>
                  <a:pt x="2731" y="12339"/>
                  <a:pt x="2753" y="12378"/>
                </a:cubicBezTo>
                <a:cubicBezTo>
                  <a:pt x="2776" y="12400"/>
                  <a:pt x="2784" y="12405"/>
                  <a:pt x="2778" y="12427"/>
                </a:cubicBezTo>
                <a:cubicBezTo>
                  <a:pt x="2818" y="12427"/>
                  <a:pt x="2870" y="12421"/>
                  <a:pt x="2902" y="12402"/>
                </a:cubicBezTo>
                <a:cubicBezTo>
                  <a:pt x="2939" y="12380"/>
                  <a:pt x="2987" y="12314"/>
                  <a:pt x="3001" y="12278"/>
                </a:cubicBezTo>
                <a:cubicBezTo>
                  <a:pt x="3010" y="12256"/>
                  <a:pt x="2988" y="12186"/>
                  <a:pt x="2977" y="12179"/>
                </a:cubicBezTo>
                <a:cubicBezTo>
                  <a:pt x="2940" y="12154"/>
                  <a:pt x="2876" y="12199"/>
                  <a:pt x="2853" y="12204"/>
                </a:cubicBezTo>
                <a:cubicBezTo>
                  <a:pt x="2808" y="12204"/>
                  <a:pt x="2795" y="12201"/>
                  <a:pt x="2778" y="122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95280" y="4062240"/>
            <a:ext cx="98640" cy="54000"/>
          </a:xfrm>
          <a:custGeom>
            <a:avLst/>
            <a:gdLst/>
            <a:ahLst/>
            <a:rect l="l" t="t" r="r" b="b"/>
            <a:pathLst>
              <a:path w="274" h="150">
                <a:moveTo>
                  <a:pt x="3696" y="11286"/>
                </a:moveTo>
                <a:cubicBezTo>
                  <a:pt x="3643" y="11299"/>
                  <a:pt x="3646" y="11323"/>
                  <a:pt x="3621" y="11361"/>
                </a:cubicBezTo>
                <a:cubicBezTo>
                  <a:pt x="3594" y="11402"/>
                  <a:pt x="3618" y="11429"/>
                  <a:pt x="3671" y="11435"/>
                </a:cubicBezTo>
                <a:cubicBezTo>
                  <a:pt x="3697" y="11438"/>
                  <a:pt x="3760" y="11426"/>
                  <a:pt x="3770" y="11410"/>
                </a:cubicBezTo>
                <a:cubicBezTo>
                  <a:pt x="3781" y="11393"/>
                  <a:pt x="3793" y="11348"/>
                  <a:pt x="3795" y="11336"/>
                </a:cubicBezTo>
                <a:cubicBezTo>
                  <a:pt x="3795" y="11328"/>
                  <a:pt x="3795" y="11319"/>
                  <a:pt x="3795" y="11311"/>
                </a:cubicBezTo>
                <a:cubicBezTo>
                  <a:pt x="3769" y="11318"/>
                  <a:pt x="3711" y="11332"/>
                  <a:pt x="3696" y="11361"/>
                </a:cubicBezTo>
                <a:cubicBezTo>
                  <a:pt x="3696" y="11369"/>
                  <a:pt x="3696" y="11377"/>
                  <a:pt x="3696" y="11385"/>
                </a:cubicBezTo>
                <a:cubicBezTo>
                  <a:pt x="3751" y="11427"/>
                  <a:pt x="3737" y="11392"/>
                  <a:pt x="3795" y="11385"/>
                </a:cubicBezTo>
                <a:cubicBezTo>
                  <a:pt x="3821" y="11382"/>
                  <a:pt x="3865" y="11346"/>
                  <a:pt x="3870" y="11336"/>
                </a:cubicBezTo>
                <a:cubicBezTo>
                  <a:pt x="3870" y="11311"/>
                  <a:pt x="3870" y="11303"/>
                  <a:pt x="3870" y="11286"/>
                </a:cubicBezTo>
                <a:cubicBezTo>
                  <a:pt x="3802" y="11286"/>
                  <a:pt x="3747" y="11272"/>
                  <a:pt x="3696" y="113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25960" y="3463920"/>
            <a:ext cx="3741840" cy="358920"/>
          </a:xfrm>
          <a:custGeom>
            <a:avLst/>
            <a:gdLst/>
            <a:ahLst/>
            <a:rect l="l" t="t" r="r" b="b"/>
            <a:pathLst>
              <a:path w="10394" h="993">
                <a:moveTo>
                  <a:pt x="11460" y="10220"/>
                </a:moveTo>
                <a:cubicBezTo>
                  <a:pt x="11478" y="10185"/>
                  <a:pt x="11495" y="10171"/>
                  <a:pt x="11509" y="10145"/>
                </a:cubicBezTo>
                <a:cubicBezTo>
                  <a:pt x="11533" y="10101"/>
                  <a:pt x="11535" y="10035"/>
                  <a:pt x="11559" y="9996"/>
                </a:cubicBezTo>
                <a:cubicBezTo>
                  <a:pt x="11574" y="9972"/>
                  <a:pt x="11640" y="9940"/>
                  <a:pt x="11658" y="9922"/>
                </a:cubicBezTo>
                <a:cubicBezTo>
                  <a:pt x="11721" y="9859"/>
                  <a:pt x="11748" y="9818"/>
                  <a:pt x="11857" y="9773"/>
                </a:cubicBezTo>
                <a:cubicBezTo>
                  <a:pt x="11961" y="9730"/>
                  <a:pt x="12057" y="9734"/>
                  <a:pt x="12154" y="9699"/>
                </a:cubicBezTo>
                <a:cubicBezTo>
                  <a:pt x="12414" y="9606"/>
                  <a:pt x="12431" y="9635"/>
                  <a:pt x="12700" y="9674"/>
                </a:cubicBezTo>
                <a:cubicBezTo>
                  <a:pt x="12839" y="9694"/>
                  <a:pt x="12884" y="9699"/>
                  <a:pt x="12998" y="9773"/>
                </a:cubicBezTo>
                <a:cubicBezTo>
                  <a:pt x="13036" y="9798"/>
                  <a:pt x="13133" y="9879"/>
                  <a:pt x="13171" y="9922"/>
                </a:cubicBezTo>
                <a:cubicBezTo>
                  <a:pt x="13240" y="10000"/>
                  <a:pt x="13266" y="10121"/>
                  <a:pt x="13345" y="10195"/>
                </a:cubicBezTo>
                <a:cubicBezTo>
                  <a:pt x="13425" y="10270"/>
                  <a:pt x="13493" y="10321"/>
                  <a:pt x="13593" y="10368"/>
                </a:cubicBezTo>
                <a:cubicBezTo>
                  <a:pt x="13702" y="10419"/>
                  <a:pt x="13873" y="10436"/>
                  <a:pt x="13990" y="10443"/>
                </a:cubicBezTo>
                <a:cubicBezTo>
                  <a:pt x="14201" y="10456"/>
                  <a:pt x="14427" y="10446"/>
                  <a:pt x="14635" y="10418"/>
                </a:cubicBezTo>
                <a:cubicBezTo>
                  <a:pt x="14814" y="10394"/>
                  <a:pt x="14984" y="10343"/>
                  <a:pt x="15156" y="10294"/>
                </a:cubicBezTo>
                <a:cubicBezTo>
                  <a:pt x="15308" y="10251"/>
                  <a:pt x="15450" y="10188"/>
                  <a:pt x="15602" y="10145"/>
                </a:cubicBezTo>
                <a:cubicBezTo>
                  <a:pt x="15788" y="10092"/>
                  <a:pt x="15987" y="10018"/>
                  <a:pt x="16173" y="9996"/>
                </a:cubicBezTo>
                <a:cubicBezTo>
                  <a:pt x="16374" y="9972"/>
                  <a:pt x="16583" y="9992"/>
                  <a:pt x="16768" y="10046"/>
                </a:cubicBezTo>
                <a:cubicBezTo>
                  <a:pt x="16918" y="10090"/>
                  <a:pt x="17067" y="10138"/>
                  <a:pt x="17214" y="10195"/>
                </a:cubicBezTo>
                <a:cubicBezTo>
                  <a:pt x="17373" y="10256"/>
                  <a:pt x="17524" y="10337"/>
                  <a:pt x="17686" y="10393"/>
                </a:cubicBezTo>
                <a:cubicBezTo>
                  <a:pt x="17850" y="10450"/>
                  <a:pt x="18014" y="10498"/>
                  <a:pt x="18182" y="10542"/>
                </a:cubicBezTo>
                <a:cubicBezTo>
                  <a:pt x="18388" y="10595"/>
                  <a:pt x="18613" y="10644"/>
                  <a:pt x="18827" y="10616"/>
                </a:cubicBezTo>
                <a:cubicBezTo>
                  <a:pt x="18969" y="10597"/>
                  <a:pt x="19101" y="10533"/>
                  <a:pt x="19224" y="10468"/>
                </a:cubicBezTo>
                <a:cubicBezTo>
                  <a:pt x="19339" y="10408"/>
                  <a:pt x="19420" y="10316"/>
                  <a:pt x="19521" y="10244"/>
                </a:cubicBezTo>
                <a:cubicBezTo>
                  <a:pt x="19598" y="10189"/>
                  <a:pt x="19635" y="10173"/>
                  <a:pt x="19720" y="10145"/>
                </a:cubicBezTo>
                <a:cubicBezTo>
                  <a:pt x="19830" y="10109"/>
                  <a:pt x="19884" y="10135"/>
                  <a:pt x="19993" y="10145"/>
                </a:cubicBezTo>
                <a:cubicBezTo>
                  <a:pt x="20167" y="10161"/>
                  <a:pt x="20340" y="10209"/>
                  <a:pt x="20513" y="10244"/>
                </a:cubicBezTo>
                <a:cubicBezTo>
                  <a:pt x="20803" y="10303"/>
                  <a:pt x="21091" y="10356"/>
                  <a:pt x="21382" y="10393"/>
                </a:cubicBezTo>
                <a:cubicBezTo>
                  <a:pt x="21488" y="10406"/>
                  <a:pt x="21623" y="10461"/>
                  <a:pt x="21729" y="10443"/>
                </a:cubicBezTo>
                <a:cubicBezTo>
                  <a:pt x="21829" y="10426"/>
                  <a:pt x="21826" y="10430"/>
                  <a:pt x="21853" y="10368"/>
                </a:cubicBezTo>
                <a:cubicBezTo>
                  <a:pt x="21819" y="10336"/>
                  <a:pt x="21803" y="10319"/>
                  <a:pt x="21779" y="102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Y=x</a:t>
            </a:r>
            <a:r>
              <a:rPr b="1" lang="en-US" sz="4400" spc="-1" strike="noStrike" baseline="30000">
                <a:solidFill>
                  <a:srgbClr val="dddddd"/>
                </a:solidFill>
                <a:latin typeface="Garamond"/>
              </a:rPr>
              <a:t>2</a:t>
            </a: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-8x+16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87" name="handygraph1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4010040" cy="4114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902200" y="1419120"/>
            <a:ext cx="679680" cy="536760"/>
          </a:xfrm>
          <a:custGeom>
            <a:avLst/>
            <a:gdLst/>
            <a:ahLst/>
            <a:rect l="l" t="t" r="r" b="b"/>
            <a:pathLst>
              <a:path w="1886" h="1489">
                <a:moveTo>
                  <a:pt x="16694" y="4018"/>
                </a:moveTo>
                <a:cubicBezTo>
                  <a:pt x="16648" y="4127"/>
                  <a:pt x="16598" y="4233"/>
                  <a:pt x="16545" y="4341"/>
                </a:cubicBezTo>
                <a:cubicBezTo>
                  <a:pt x="16474" y="4486"/>
                  <a:pt x="16450" y="4633"/>
                  <a:pt x="16421" y="4787"/>
                </a:cubicBezTo>
                <a:cubicBezTo>
                  <a:pt x="16398" y="4907"/>
                  <a:pt x="16375" y="5016"/>
                  <a:pt x="16421" y="5135"/>
                </a:cubicBezTo>
                <a:cubicBezTo>
                  <a:pt x="16434" y="5168"/>
                  <a:pt x="16490" y="5317"/>
                  <a:pt x="16545" y="5333"/>
                </a:cubicBezTo>
                <a:cubicBezTo>
                  <a:pt x="16591" y="5346"/>
                  <a:pt x="16632" y="5304"/>
                  <a:pt x="16669" y="5283"/>
                </a:cubicBezTo>
              </a:path>
              <a:path w="1886" h="1489">
                <a:moveTo>
                  <a:pt x="16892" y="4415"/>
                </a:moveTo>
                <a:cubicBezTo>
                  <a:pt x="16870" y="4526"/>
                  <a:pt x="16880" y="4655"/>
                  <a:pt x="16842" y="4762"/>
                </a:cubicBezTo>
                <a:cubicBezTo>
                  <a:pt x="16831" y="4794"/>
                  <a:pt x="16786" y="4859"/>
                  <a:pt x="16842" y="4887"/>
                </a:cubicBezTo>
                <a:cubicBezTo>
                  <a:pt x="16883" y="4908"/>
                  <a:pt x="16956" y="4877"/>
                  <a:pt x="16991" y="4862"/>
                </a:cubicBezTo>
                <a:cubicBezTo>
                  <a:pt x="17059" y="4832"/>
                  <a:pt x="17138" y="4823"/>
                  <a:pt x="17190" y="4762"/>
                </a:cubicBezTo>
                <a:cubicBezTo>
                  <a:pt x="17198" y="4746"/>
                  <a:pt x="17206" y="4729"/>
                  <a:pt x="17214" y="4713"/>
                </a:cubicBezTo>
              </a:path>
              <a:path w="1886" h="1489">
                <a:moveTo>
                  <a:pt x="17090" y="4118"/>
                </a:moveTo>
                <a:cubicBezTo>
                  <a:pt x="17090" y="4369"/>
                  <a:pt x="17095" y="4613"/>
                  <a:pt x="17115" y="4862"/>
                </a:cubicBezTo>
                <a:cubicBezTo>
                  <a:pt x="17126" y="4992"/>
                  <a:pt x="17051" y="5308"/>
                  <a:pt x="17140" y="5407"/>
                </a:cubicBezTo>
                <a:cubicBezTo>
                  <a:pt x="17179" y="5451"/>
                  <a:pt x="17181" y="5419"/>
                  <a:pt x="17190" y="5383"/>
                </a:cubicBezTo>
              </a:path>
              <a:path w="1886" h="1489">
                <a:moveTo>
                  <a:pt x="17388" y="5110"/>
                </a:moveTo>
                <a:cubicBezTo>
                  <a:pt x="17376" y="5205"/>
                  <a:pt x="17347" y="5301"/>
                  <a:pt x="17338" y="5383"/>
                </a:cubicBezTo>
                <a:cubicBezTo>
                  <a:pt x="17328" y="5468"/>
                  <a:pt x="17387" y="5335"/>
                  <a:pt x="17388" y="5333"/>
                </a:cubicBezTo>
              </a:path>
              <a:path w="1886" h="1489">
                <a:moveTo>
                  <a:pt x="17661" y="4440"/>
                </a:moveTo>
                <a:cubicBezTo>
                  <a:pt x="17612" y="4595"/>
                  <a:pt x="17587" y="4702"/>
                  <a:pt x="17587" y="4862"/>
                </a:cubicBezTo>
                <a:cubicBezTo>
                  <a:pt x="17587" y="4950"/>
                  <a:pt x="17576" y="5030"/>
                  <a:pt x="17611" y="5110"/>
                </a:cubicBezTo>
                <a:cubicBezTo>
                  <a:pt x="17631" y="5155"/>
                  <a:pt x="17660" y="5205"/>
                  <a:pt x="17711" y="5209"/>
                </a:cubicBezTo>
                <a:cubicBezTo>
                  <a:pt x="17757" y="5212"/>
                  <a:pt x="17813" y="5180"/>
                  <a:pt x="17835" y="5135"/>
                </a:cubicBezTo>
                <a:cubicBezTo>
                  <a:pt x="17877" y="5047"/>
                  <a:pt x="17908" y="4914"/>
                  <a:pt x="17884" y="4812"/>
                </a:cubicBezTo>
                <a:cubicBezTo>
                  <a:pt x="17869" y="4749"/>
                  <a:pt x="17817" y="4691"/>
                  <a:pt x="17785" y="4638"/>
                </a:cubicBezTo>
                <a:cubicBezTo>
                  <a:pt x="17759" y="4595"/>
                  <a:pt x="17698" y="4540"/>
                  <a:pt x="17686" y="4490"/>
                </a:cubicBezTo>
                <a:cubicBezTo>
                  <a:pt x="17686" y="4473"/>
                  <a:pt x="17686" y="4457"/>
                  <a:pt x="17686" y="4440"/>
                </a:cubicBezTo>
              </a:path>
              <a:path w="1886" h="1489">
                <a:moveTo>
                  <a:pt x="17760" y="3944"/>
                </a:moveTo>
                <a:cubicBezTo>
                  <a:pt x="17904" y="4076"/>
                  <a:pt x="18029" y="4197"/>
                  <a:pt x="18132" y="4366"/>
                </a:cubicBezTo>
                <a:cubicBezTo>
                  <a:pt x="18204" y="4484"/>
                  <a:pt x="18263" y="4624"/>
                  <a:pt x="18281" y="4762"/>
                </a:cubicBezTo>
                <a:cubicBezTo>
                  <a:pt x="18293" y="4858"/>
                  <a:pt x="18280" y="4951"/>
                  <a:pt x="18231" y="5035"/>
                </a:cubicBezTo>
                <a:cubicBezTo>
                  <a:pt x="18179" y="5114"/>
                  <a:pt x="18159" y="5143"/>
                  <a:pt x="18107" y="51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3840" y="1724040"/>
            <a:ext cx="893520" cy="330120"/>
          </a:xfrm>
          <a:custGeom>
            <a:avLst/>
            <a:gdLst/>
            <a:ahLst/>
            <a:rect l="l" t="t" r="r" b="b"/>
            <a:pathLst>
              <a:path w="2481" h="919">
                <a:moveTo>
                  <a:pt x="13345" y="5135"/>
                </a:moveTo>
                <a:cubicBezTo>
                  <a:pt x="13370" y="5193"/>
                  <a:pt x="13409" y="5271"/>
                  <a:pt x="13419" y="5333"/>
                </a:cubicBezTo>
                <a:cubicBezTo>
                  <a:pt x="13432" y="5416"/>
                  <a:pt x="13439" y="5525"/>
                  <a:pt x="13444" y="5606"/>
                </a:cubicBezTo>
                <a:cubicBezTo>
                  <a:pt x="13447" y="5667"/>
                  <a:pt x="13435" y="5660"/>
                  <a:pt x="13469" y="5705"/>
                </a:cubicBezTo>
                <a:cubicBezTo>
                  <a:pt x="13516" y="5689"/>
                  <a:pt x="13502" y="5657"/>
                  <a:pt x="13519" y="5606"/>
                </a:cubicBezTo>
                <a:cubicBezTo>
                  <a:pt x="13542" y="5539"/>
                  <a:pt x="13550" y="5474"/>
                  <a:pt x="13568" y="5407"/>
                </a:cubicBezTo>
                <a:cubicBezTo>
                  <a:pt x="13589" y="5325"/>
                  <a:pt x="13626" y="5240"/>
                  <a:pt x="13643" y="5159"/>
                </a:cubicBezTo>
                <a:cubicBezTo>
                  <a:pt x="13653" y="5110"/>
                  <a:pt x="13667" y="5062"/>
                  <a:pt x="13667" y="5011"/>
                </a:cubicBezTo>
              </a:path>
              <a:path w="2481" h="919">
                <a:moveTo>
                  <a:pt x="13692" y="5333"/>
                </a:moveTo>
                <a:cubicBezTo>
                  <a:pt x="13766" y="5365"/>
                  <a:pt x="13761" y="5363"/>
                  <a:pt x="13816" y="5308"/>
                </a:cubicBezTo>
                <a:cubicBezTo>
                  <a:pt x="13855" y="5269"/>
                  <a:pt x="13887" y="5242"/>
                  <a:pt x="13891" y="5184"/>
                </a:cubicBezTo>
                <a:cubicBezTo>
                  <a:pt x="13895" y="5121"/>
                  <a:pt x="13903" y="5058"/>
                  <a:pt x="13866" y="5011"/>
                </a:cubicBezTo>
                <a:cubicBezTo>
                  <a:pt x="13813" y="5011"/>
                  <a:pt x="13805" y="5022"/>
                  <a:pt x="13767" y="5060"/>
                </a:cubicBezTo>
                <a:cubicBezTo>
                  <a:pt x="13708" y="5119"/>
                  <a:pt x="13721" y="5184"/>
                  <a:pt x="13692" y="5259"/>
                </a:cubicBezTo>
                <a:cubicBezTo>
                  <a:pt x="13656" y="5352"/>
                  <a:pt x="13656" y="5458"/>
                  <a:pt x="13692" y="5556"/>
                </a:cubicBezTo>
                <a:cubicBezTo>
                  <a:pt x="13716" y="5621"/>
                  <a:pt x="13789" y="5627"/>
                  <a:pt x="13841" y="5631"/>
                </a:cubicBezTo>
                <a:cubicBezTo>
                  <a:pt x="13878" y="5633"/>
                  <a:pt x="13891" y="5606"/>
                  <a:pt x="13915" y="5581"/>
                </a:cubicBezTo>
              </a:path>
              <a:path w="2481" h="919">
                <a:moveTo>
                  <a:pt x="14039" y="5283"/>
                </a:moveTo>
                <a:cubicBezTo>
                  <a:pt x="14061" y="5364"/>
                  <a:pt x="14064" y="5423"/>
                  <a:pt x="14064" y="5507"/>
                </a:cubicBezTo>
                <a:cubicBezTo>
                  <a:pt x="14064" y="5548"/>
                  <a:pt x="14064" y="5590"/>
                  <a:pt x="14064" y="5631"/>
                </a:cubicBezTo>
                <a:cubicBezTo>
                  <a:pt x="14038" y="5587"/>
                  <a:pt x="14023" y="5514"/>
                  <a:pt x="14039" y="5457"/>
                </a:cubicBezTo>
                <a:cubicBezTo>
                  <a:pt x="14064" y="5368"/>
                  <a:pt x="14091" y="5311"/>
                  <a:pt x="14139" y="5234"/>
                </a:cubicBezTo>
                <a:cubicBezTo>
                  <a:pt x="14183" y="5163"/>
                  <a:pt x="14230" y="5097"/>
                  <a:pt x="14288" y="5035"/>
                </a:cubicBezTo>
                <a:cubicBezTo>
                  <a:pt x="14336" y="4984"/>
                  <a:pt x="14378" y="4948"/>
                  <a:pt x="14436" y="4911"/>
                </a:cubicBezTo>
              </a:path>
              <a:path w="2481" h="919">
                <a:moveTo>
                  <a:pt x="14560" y="4787"/>
                </a:moveTo>
                <a:cubicBezTo>
                  <a:pt x="14560" y="4923"/>
                  <a:pt x="14551" y="5052"/>
                  <a:pt x="14536" y="5184"/>
                </a:cubicBezTo>
                <a:cubicBezTo>
                  <a:pt x="14523" y="5296"/>
                  <a:pt x="14536" y="5417"/>
                  <a:pt x="14536" y="5531"/>
                </a:cubicBezTo>
              </a:path>
              <a:path w="2481" h="919">
                <a:moveTo>
                  <a:pt x="14263" y="5209"/>
                </a:moveTo>
                <a:cubicBezTo>
                  <a:pt x="14340" y="5166"/>
                  <a:pt x="14397" y="5140"/>
                  <a:pt x="14486" y="5135"/>
                </a:cubicBezTo>
                <a:cubicBezTo>
                  <a:pt x="14503" y="5135"/>
                  <a:pt x="14519" y="5135"/>
                  <a:pt x="14536" y="5135"/>
                </a:cubicBezTo>
              </a:path>
              <a:path w="2481" h="919">
                <a:moveTo>
                  <a:pt x="14759" y="5308"/>
                </a:moveTo>
                <a:cubicBezTo>
                  <a:pt x="14814" y="5350"/>
                  <a:pt x="14804" y="5326"/>
                  <a:pt x="14858" y="5308"/>
                </a:cubicBezTo>
                <a:cubicBezTo>
                  <a:pt x="14909" y="5291"/>
                  <a:pt x="14906" y="5273"/>
                  <a:pt x="14932" y="5234"/>
                </a:cubicBezTo>
                <a:cubicBezTo>
                  <a:pt x="14964" y="5185"/>
                  <a:pt x="14957" y="5145"/>
                  <a:pt x="14957" y="5085"/>
                </a:cubicBezTo>
              </a:path>
              <a:path w="2481" h="919">
                <a:moveTo>
                  <a:pt x="14833" y="5060"/>
                </a:moveTo>
                <a:cubicBezTo>
                  <a:pt x="14761" y="5139"/>
                  <a:pt x="14718" y="5193"/>
                  <a:pt x="14684" y="5283"/>
                </a:cubicBezTo>
                <a:cubicBezTo>
                  <a:pt x="14654" y="5361"/>
                  <a:pt x="14651" y="5374"/>
                  <a:pt x="14709" y="5432"/>
                </a:cubicBezTo>
                <a:cubicBezTo>
                  <a:pt x="14740" y="5463"/>
                  <a:pt x="14840" y="5514"/>
                  <a:pt x="14883" y="5507"/>
                </a:cubicBezTo>
                <a:cubicBezTo>
                  <a:pt x="14927" y="5500"/>
                  <a:pt x="14987" y="5457"/>
                  <a:pt x="15032" y="5432"/>
                </a:cubicBezTo>
              </a:path>
              <a:path w="2481" h="919">
                <a:moveTo>
                  <a:pt x="15106" y="5159"/>
                </a:moveTo>
                <a:cubicBezTo>
                  <a:pt x="15141" y="5243"/>
                  <a:pt x="15168" y="5339"/>
                  <a:pt x="15230" y="5407"/>
                </a:cubicBezTo>
                <a:cubicBezTo>
                  <a:pt x="15267" y="5447"/>
                  <a:pt x="15298" y="5476"/>
                  <a:pt x="15354" y="5482"/>
                </a:cubicBezTo>
                <a:cubicBezTo>
                  <a:pt x="15381" y="5485"/>
                  <a:pt x="15437" y="5454"/>
                  <a:pt x="15453" y="5432"/>
                </a:cubicBezTo>
                <a:cubicBezTo>
                  <a:pt x="15461" y="5416"/>
                  <a:pt x="15470" y="5399"/>
                  <a:pt x="15478" y="5383"/>
                </a:cubicBezTo>
              </a:path>
              <a:path w="2481" h="919">
                <a:moveTo>
                  <a:pt x="15354" y="5159"/>
                </a:moveTo>
                <a:cubicBezTo>
                  <a:pt x="15278" y="5242"/>
                  <a:pt x="15211" y="5327"/>
                  <a:pt x="15131" y="5407"/>
                </a:cubicBezTo>
                <a:cubicBezTo>
                  <a:pt x="15097" y="5441"/>
                  <a:pt x="15067" y="5463"/>
                  <a:pt x="15056" y="5507"/>
                </a:cubicBezTo>
                <a:cubicBezTo>
                  <a:pt x="15081" y="5482"/>
                  <a:pt x="15089" y="5474"/>
                  <a:pt x="15106" y="5457"/>
                </a:cubicBezTo>
              </a:path>
              <a:path w="2481" h="919">
                <a:moveTo>
                  <a:pt x="15825" y="4837"/>
                </a:moveTo>
                <a:cubicBezTo>
                  <a:pt x="15825" y="4862"/>
                  <a:pt x="15825" y="4870"/>
                  <a:pt x="15801" y="4862"/>
                </a:cubicBezTo>
              </a:path>
              <a:path w="2481" h="919">
                <a:moveTo>
                  <a:pt x="15776" y="5184"/>
                </a:moveTo>
                <a:cubicBezTo>
                  <a:pt x="15776" y="5217"/>
                  <a:pt x="15776" y="5234"/>
                  <a:pt x="15776" y="52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1800" y="2268360"/>
            <a:ext cx="1357200" cy="1143000"/>
          </a:xfrm>
          <a:custGeom>
            <a:avLst/>
            <a:gdLst/>
            <a:ahLst/>
            <a:rect l="l" t="t" r="r" b="b"/>
            <a:pathLst>
              <a:path w="3771" h="3176">
                <a:moveTo>
                  <a:pt x="10641" y="9451"/>
                </a:moveTo>
                <a:cubicBezTo>
                  <a:pt x="10716" y="9401"/>
                  <a:pt x="10678" y="9409"/>
                  <a:pt x="10666" y="9327"/>
                </a:cubicBezTo>
                <a:cubicBezTo>
                  <a:pt x="10635" y="9342"/>
                  <a:pt x="10596" y="9370"/>
                  <a:pt x="10592" y="9401"/>
                </a:cubicBezTo>
                <a:cubicBezTo>
                  <a:pt x="10588" y="9431"/>
                  <a:pt x="10602" y="9468"/>
                  <a:pt x="10616" y="9475"/>
                </a:cubicBezTo>
                <a:cubicBezTo>
                  <a:pt x="10659" y="9496"/>
                  <a:pt x="10681" y="9456"/>
                  <a:pt x="10691" y="9451"/>
                </a:cubicBezTo>
                <a:cubicBezTo>
                  <a:pt x="10724" y="9435"/>
                  <a:pt x="10716" y="9447"/>
                  <a:pt x="10716" y="9401"/>
                </a:cubicBezTo>
                <a:cubicBezTo>
                  <a:pt x="10709" y="9379"/>
                  <a:pt x="10677" y="9356"/>
                  <a:pt x="10641" y="9376"/>
                </a:cubicBezTo>
                <a:cubicBezTo>
                  <a:pt x="10605" y="9396"/>
                  <a:pt x="10577" y="9397"/>
                  <a:pt x="10567" y="9426"/>
                </a:cubicBezTo>
                <a:cubicBezTo>
                  <a:pt x="10611" y="9459"/>
                  <a:pt x="10633" y="9451"/>
                  <a:pt x="10691" y="9451"/>
                </a:cubicBezTo>
              </a:path>
              <a:path w="3771" h="3176">
                <a:moveTo>
                  <a:pt x="9748" y="8483"/>
                </a:moveTo>
                <a:cubicBezTo>
                  <a:pt x="9722" y="8527"/>
                  <a:pt x="9723" y="8554"/>
                  <a:pt x="9723" y="8607"/>
                </a:cubicBezTo>
                <a:cubicBezTo>
                  <a:pt x="9774" y="8607"/>
                  <a:pt x="9808" y="8616"/>
                  <a:pt x="9847" y="8582"/>
                </a:cubicBezTo>
                <a:cubicBezTo>
                  <a:pt x="9874" y="8558"/>
                  <a:pt x="9875" y="8477"/>
                  <a:pt x="9823" y="8483"/>
                </a:cubicBezTo>
                <a:cubicBezTo>
                  <a:pt x="9787" y="8487"/>
                  <a:pt x="9727" y="8519"/>
                  <a:pt x="9723" y="8558"/>
                </a:cubicBezTo>
                <a:cubicBezTo>
                  <a:pt x="9723" y="8586"/>
                  <a:pt x="9726" y="8596"/>
                  <a:pt x="9748" y="8607"/>
                </a:cubicBezTo>
              </a:path>
              <a:path w="3771" h="3176">
                <a:moveTo>
                  <a:pt x="11683" y="8458"/>
                </a:moveTo>
                <a:cubicBezTo>
                  <a:pt x="11691" y="8458"/>
                  <a:pt x="11700" y="8458"/>
                  <a:pt x="11708" y="8458"/>
                </a:cubicBezTo>
                <a:cubicBezTo>
                  <a:pt x="11653" y="8418"/>
                  <a:pt x="11662" y="8441"/>
                  <a:pt x="11609" y="8458"/>
                </a:cubicBezTo>
                <a:cubicBezTo>
                  <a:pt x="11584" y="8458"/>
                  <a:pt x="11576" y="8458"/>
                  <a:pt x="11584" y="8483"/>
                </a:cubicBezTo>
              </a:path>
              <a:path w="3771" h="3176">
                <a:moveTo>
                  <a:pt x="9004" y="6548"/>
                </a:moveTo>
                <a:cubicBezTo>
                  <a:pt x="9017" y="6621"/>
                  <a:pt x="9018" y="6695"/>
                  <a:pt x="9029" y="6772"/>
                </a:cubicBezTo>
                <a:cubicBezTo>
                  <a:pt x="9044" y="6880"/>
                  <a:pt x="9062" y="6987"/>
                  <a:pt x="9079" y="7094"/>
                </a:cubicBezTo>
                <a:cubicBezTo>
                  <a:pt x="9097" y="7210"/>
                  <a:pt x="9126" y="7329"/>
                  <a:pt x="9153" y="7441"/>
                </a:cubicBezTo>
                <a:cubicBezTo>
                  <a:pt x="9182" y="7560"/>
                  <a:pt x="9238" y="7654"/>
                  <a:pt x="9277" y="7764"/>
                </a:cubicBezTo>
                <a:cubicBezTo>
                  <a:pt x="9330" y="7916"/>
                  <a:pt x="9379" y="8042"/>
                  <a:pt x="9451" y="8186"/>
                </a:cubicBezTo>
                <a:cubicBezTo>
                  <a:pt x="9511" y="8306"/>
                  <a:pt x="9585" y="8416"/>
                  <a:pt x="9649" y="8533"/>
                </a:cubicBezTo>
                <a:cubicBezTo>
                  <a:pt x="9719" y="8662"/>
                  <a:pt x="9788" y="8762"/>
                  <a:pt x="9872" y="8880"/>
                </a:cubicBezTo>
                <a:cubicBezTo>
                  <a:pt x="9944" y="8982"/>
                  <a:pt x="10014" y="9084"/>
                  <a:pt x="10096" y="9178"/>
                </a:cubicBezTo>
                <a:cubicBezTo>
                  <a:pt x="10160" y="9251"/>
                  <a:pt x="10274" y="9341"/>
                  <a:pt x="10368" y="9376"/>
                </a:cubicBezTo>
                <a:cubicBezTo>
                  <a:pt x="10461" y="9411"/>
                  <a:pt x="10572" y="9399"/>
                  <a:pt x="10666" y="9376"/>
                </a:cubicBezTo>
                <a:cubicBezTo>
                  <a:pt x="10761" y="9353"/>
                  <a:pt x="10838" y="9334"/>
                  <a:pt x="10939" y="9302"/>
                </a:cubicBezTo>
                <a:cubicBezTo>
                  <a:pt x="11056" y="9265"/>
                  <a:pt x="11161" y="9163"/>
                  <a:pt x="11286" y="9103"/>
                </a:cubicBezTo>
                <a:cubicBezTo>
                  <a:pt x="11426" y="9036"/>
                  <a:pt x="11473" y="8987"/>
                  <a:pt x="11584" y="8880"/>
                </a:cubicBezTo>
                <a:cubicBezTo>
                  <a:pt x="11681" y="8787"/>
                  <a:pt x="11739" y="8698"/>
                  <a:pt x="11807" y="8582"/>
                </a:cubicBezTo>
                <a:cubicBezTo>
                  <a:pt x="11877" y="8462"/>
                  <a:pt x="11913" y="8317"/>
                  <a:pt x="11956" y="8186"/>
                </a:cubicBezTo>
                <a:cubicBezTo>
                  <a:pt x="11999" y="8054"/>
                  <a:pt x="12035" y="7921"/>
                  <a:pt x="12080" y="7789"/>
                </a:cubicBezTo>
                <a:cubicBezTo>
                  <a:pt x="12130" y="7642"/>
                  <a:pt x="12173" y="7486"/>
                  <a:pt x="12229" y="7342"/>
                </a:cubicBezTo>
                <a:cubicBezTo>
                  <a:pt x="12284" y="7201"/>
                  <a:pt x="12353" y="7064"/>
                  <a:pt x="12402" y="6921"/>
                </a:cubicBezTo>
                <a:cubicBezTo>
                  <a:pt x="12443" y="6800"/>
                  <a:pt x="12444" y="6666"/>
                  <a:pt x="12477" y="6548"/>
                </a:cubicBezTo>
                <a:cubicBezTo>
                  <a:pt x="12490" y="6500"/>
                  <a:pt x="12561" y="6372"/>
                  <a:pt x="12551" y="6325"/>
                </a:cubicBezTo>
                <a:cubicBezTo>
                  <a:pt x="12529" y="6303"/>
                  <a:pt x="12524" y="6294"/>
                  <a:pt x="12502" y="6300"/>
                </a:cubicBezTo>
                <a:cubicBezTo>
                  <a:pt x="12461" y="6351"/>
                  <a:pt x="12419" y="6398"/>
                  <a:pt x="12378" y="6449"/>
                </a:cubicBezTo>
                <a:cubicBezTo>
                  <a:pt x="12330" y="6509"/>
                  <a:pt x="12284" y="6547"/>
                  <a:pt x="12229" y="6598"/>
                </a:cubicBezTo>
                <a:cubicBezTo>
                  <a:pt x="12191" y="6633"/>
                  <a:pt x="12165" y="6663"/>
                  <a:pt x="12129" y="6697"/>
                </a:cubicBezTo>
                <a:cubicBezTo>
                  <a:pt x="12161" y="6650"/>
                  <a:pt x="12180" y="6595"/>
                  <a:pt x="12229" y="6548"/>
                </a:cubicBezTo>
                <a:cubicBezTo>
                  <a:pt x="12282" y="6497"/>
                  <a:pt x="12379" y="6422"/>
                  <a:pt x="12452" y="6400"/>
                </a:cubicBezTo>
                <a:cubicBezTo>
                  <a:pt x="12543" y="6372"/>
                  <a:pt x="12503" y="6375"/>
                  <a:pt x="12576" y="6424"/>
                </a:cubicBezTo>
                <a:cubicBezTo>
                  <a:pt x="12610" y="6447"/>
                  <a:pt x="12643" y="6542"/>
                  <a:pt x="12675" y="6573"/>
                </a:cubicBezTo>
                <a:cubicBezTo>
                  <a:pt x="12709" y="6606"/>
                  <a:pt x="12749" y="6645"/>
                  <a:pt x="12774" y="66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91040" y="2071800"/>
            <a:ext cx="1359000" cy="652320"/>
          </a:xfrm>
          <a:custGeom>
            <a:avLst/>
            <a:gdLst/>
            <a:ahLst/>
            <a:rect l="l" t="t" r="r" b="b"/>
            <a:pathLst>
              <a:path w="3771" h="1811">
                <a:moveTo>
                  <a:pt x="13940" y="6424"/>
                </a:moveTo>
                <a:cubicBezTo>
                  <a:pt x="13986" y="6516"/>
                  <a:pt x="14032" y="6639"/>
                  <a:pt x="14089" y="6722"/>
                </a:cubicBezTo>
                <a:cubicBezTo>
                  <a:pt x="14139" y="6795"/>
                  <a:pt x="14180" y="6876"/>
                  <a:pt x="14238" y="6945"/>
                </a:cubicBezTo>
                <a:cubicBezTo>
                  <a:pt x="14291" y="7008"/>
                  <a:pt x="14342" y="7008"/>
                  <a:pt x="14387" y="7045"/>
                </a:cubicBezTo>
                <a:cubicBezTo>
                  <a:pt x="14403" y="7058"/>
                  <a:pt x="14420" y="7044"/>
                  <a:pt x="14436" y="6995"/>
                </a:cubicBezTo>
                <a:cubicBezTo>
                  <a:pt x="14436" y="6987"/>
                  <a:pt x="14436" y="6978"/>
                  <a:pt x="14436" y="6970"/>
                </a:cubicBezTo>
              </a:path>
              <a:path w="3771" h="1811">
                <a:moveTo>
                  <a:pt x="14263" y="6300"/>
                </a:moveTo>
                <a:cubicBezTo>
                  <a:pt x="14229" y="6367"/>
                  <a:pt x="14203" y="6464"/>
                  <a:pt x="14163" y="6524"/>
                </a:cubicBezTo>
                <a:cubicBezTo>
                  <a:pt x="14109" y="6605"/>
                  <a:pt x="14056" y="6755"/>
                  <a:pt x="13990" y="6821"/>
                </a:cubicBezTo>
                <a:cubicBezTo>
                  <a:pt x="13965" y="6846"/>
                  <a:pt x="13918" y="6932"/>
                  <a:pt x="13891" y="6945"/>
                </a:cubicBezTo>
                <a:cubicBezTo>
                  <a:pt x="13835" y="6973"/>
                  <a:pt x="13909" y="6925"/>
                  <a:pt x="13915" y="6921"/>
                </a:cubicBezTo>
              </a:path>
              <a:path w="3771" h="1811">
                <a:moveTo>
                  <a:pt x="14486" y="6524"/>
                </a:moveTo>
                <a:cubicBezTo>
                  <a:pt x="14569" y="6524"/>
                  <a:pt x="14651" y="6524"/>
                  <a:pt x="14734" y="6524"/>
                </a:cubicBezTo>
              </a:path>
              <a:path w="3771" h="1811">
                <a:moveTo>
                  <a:pt x="14585" y="6697"/>
                </a:moveTo>
                <a:cubicBezTo>
                  <a:pt x="14623" y="6725"/>
                  <a:pt x="14636" y="6722"/>
                  <a:pt x="14684" y="6722"/>
                </a:cubicBezTo>
                <a:cubicBezTo>
                  <a:pt x="14742" y="6722"/>
                  <a:pt x="14800" y="6722"/>
                  <a:pt x="14858" y="6722"/>
                </a:cubicBezTo>
                <a:cubicBezTo>
                  <a:pt x="14822" y="6710"/>
                  <a:pt x="14822" y="6709"/>
                  <a:pt x="14858" y="6697"/>
                </a:cubicBezTo>
              </a:path>
              <a:path w="3771" h="1811">
                <a:moveTo>
                  <a:pt x="15602" y="5854"/>
                </a:moveTo>
                <a:cubicBezTo>
                  <a:pt x="15541" y="5921"/>
                  <a:pt x="15481" y="5987"/>
                  <a:pt x="15453" y="6077"/>
                </a:cubicBezTo>
                <a:cubicBezTo>
                  <a:pt x="15440" y="6120"/>
                  <a:pt x="15522" y="6169"/>
                  <a:pt x="15553" y="6176"/>
                </a:cubicBezTo>
                <a:cubicBezTo>
                  <a:pt x="15620" y="6191"/>
                  <a:pt x="15691" y="6173"/>
                  <a:pt x="15751" y="6152"/>
                </a:cubicBezTo>
                <a:cubicBezTo>
                  <a:pt x="15836" y="6122"/>
                  <a:pt x="15904" y="6106"/>
                  <a:pt x="15949" y="6028"/>
                </a:cubicBezTo>
                <a:cubicBezTo>
                  <a:pt x="15999" y="5943"/>
                  <a:pt x="15996" y="5947"/>
                  <a:pt x="15974" y="5854"/>
                </a:cubicBezTo>
                <a:cubicBezTo>
                  <a:pt x="15962" y="5804"/>
                  <a:pt x="15877" y="5765"/>
                  <a:pt x="15825" y="5755"/>
                </a:cubicBezTo>
                <a:cubicBezTo>
                  <a:pt x="15748" y="5740"/>
                  <a:pt x="15640" y="5759"/>
                  <a:pt x="15577" y="5804"/>
                </a:cubicBezTo>
                <a:cubicBezTo>
                  <a:pt x="15536" y="5846"/>
                  <a:pt x="15528" y="5854"/>
                  <a:pt x="15503" y="5879"/>
                </a:cubicBezTo>
              </a:path>
              <a:path w="3771" h="1811">
                <a:moveTo>
                  <a:pt x="15478" y="6226"/>
                </a:moveTo>
                <a:cubicBezTo>
                  <a:pt x="15441" y="6286"/>
                  <a:pt x="15346" y="6388"/>
                  <a:pt x="15379" y="6474"/>
                </a:cubicBezTo>
                <a:cubicBezTo>
                  <a:pt x="15401" y="6531"/>
                  <a:pt x="15482" y="6524"/>
                  <a:pt x="15528" y="6524"/>
                </a:cubicBezTo>
                <a:cubicBezTo>
                  <a:pt x="15607" y="6524"/>
                  <a:pt x="15684" y="6524"/>
                  <a:pt x="15751" y="6474"/>
                </a:cubicBezTo>
                <a:cubicBezTo>
                  <a:pt x="15798" y="6439"/>
                  <a:pt x="15887" y="6357"/>
                  <a:pt x="15900" y="6300"/>
                </a:cubicBezTo>
                <a:cubicBezTo>
                  <a:pt x="15914" y="6234"/>
                  <a:pt x="15879" y="6186"/>
                  <a:pt x="15825" y="6152"/>
                </a:cubicBezTo>
                <a:cubicBezTo>
                  <a:pt x="15785" y="6126"/>
                  <a:pt x="15699" y="6109"/>
                  <a:pt x="15652" y="6127"/>
                </a:cubicBezTo>
                <a:cubicBezTo>
                  <a:pt x="15619" y="6140"/>
                  <a:pt x="15614" y="6167"/>
                  <a:pt x="15577" y="6176"/>
                </a:cubicBezTo>
              </a:path>
              <a:path w="3771" h="1811">
                <a:moveTo>
                  <a:pt x="15106" y="6623"/>
                </a:moveTo>
                <a:cubicBezTo>
                  <a:pt x="15165" y="6659"/>
                  <a:pt x="15230" y="6669"/>
                  <a:pt x="15304" y="6672"/>
                </a:cubicBezTo>
                <a:cubicBezTo>
                  <a:pt x="15585" y="6682"/>
                  <a:pt x="16318" y="6848"/>
                  <a:pt x="16098" y="6672"/>
                </a:cubicBezTo>
                <a:cubicBezTo>
                  <a:pt x="16070" y="6645"/>
                  <a:pt x="16056" y="6637"/>
                  <a:pt x="16024" y="6648"/>
                </a:cubicBezTo>
              </a:path>
              <a:path w="3771" h="1811">
                <a:moveTo>
                  <a:pt x="15180" y="7069"/>
                </a:moveTo>
                <a:cubicBezTo>
                  <a:pt x="15180" y="7028"/>
                  <a:pt x="15180" y="7020"/>
                  <a:pt x="15180" y="6995"/>
                </a:cubicBezTo>
                <a:cubicBezTo>
                  <a:pt x="15259" y="6995"/>
                  <a:pt x="15339" y="6985"/>
                  <a:pt x="15404" y="7020"/>
                </a:cubicBezTo>
                <a:cubicBezTo>
                  <a:pt x="15486" y="7064"/>
                  <a:pt x="15478" y="7107"/>
                  <a:pt x="15478" y="7193"/>
                </a:cubicBezTo>
                <a:cubicBezTo>
                  <a:pt x="15478" y="7298"/>
                  <a:pt x="15432" y="7338"/>
                  <a:pt x="15379" y="7417"/>
                </a:cubicBezTo>
                <a:cubicBezTo>
                  <a:pt x="15345" y="7467"/>
                  <a:pt x="15272" y="7553"/>
                  <a:pt x="15205" y="7565"/>
                </a:cubicBezTo>
                <a:cubicBezTo>
                  <a:pt x="15177" y="7570"/>
                  <a:pt x="15006" y="7588"/>
                  <a:pt x="14982" y="7541"/>
                </a:cubicBezTo>
                <a:cubicBezTo>
                  <a:pt x="14958" y="7494"/>
                  <a:pt x="15013" y="7449"/>
                  <a:pt x="15032" y="7417"/>
                </a:cubicBezTo>
                <a:cubicBezTo>
                  <a:pt x="15065" y="7361"/>
                  <a:pt x="15113" y="7329"/>
                  <a:pt x="15180" y="7317"/>
                </a:cubicBezTo>
                <a:cubicBezTo>
                  <a:pt x="15232" y="7308"/>
                  <a:pt x="15293" y="7335"/>
                  <a:pt x="15329" y="7367"/>
                </a:cubicBezTo>
                <a:cubicBezTo>
                  <a:pt x="15360" y="7395"/>
                  <a:pt x="15397" y="7476"/>
                  <a:pt x="15404" y="7491"/>
                </a:cubicBezTo>
                <a:cubicBezTo>
                  <a:pt x="15415" y="7513"/>
                  <a:pt x="15406" y="7584"/>
                  <a:pt x="15429" y="7516"/>
                </a:cubicBezTo>
              </a:path>
              <a:path w="3771" h="1811">
                <a:moveTo>
                  <a:pt x="15677" y="7218"/>
                </a:moveTo>
                <a:cubicBezTo>
                  <a:pt x="15705" y="7218"/>
                  <a:pt x="15715" y="7215"/>
                  <a:pt x="15726" y="7193"/>
                </a:cubicBezTo>
              </a:path>
              <a:path w="3771" h="1811">
                <a:moveTo>
                  <a:pt x="16024" y="6945"/>
                </a:moveTo>
                <a:cubicBezTo>
                  <a:pt x="16024" y="7034"/>
                  <a:pt x="16009" y="7111"/>
                  <a:pt x="15999" y="7193"/>
                </a:cubicBezTo>
                <a:cubicBezTo>
                  <a:pt x="15988" y="7282"/>
                  <a:pt x="16024" y="7374"/>
                  <a:pt x="16024" y="7466"/>
                </a:cubicBezTo>
                <a:cubicBezTo>
                  <a:pt x="16024" y="7484"/>
                  <a:pt x="16049" y="7573"/>
                  <a:pt x="16049" y="7516"/>
                </a:cubicBezTo>
              </a:path>
              <a:path w="3771" h="1811">
                <a:moveTo>
                  <a:pt x="16495" y="6722"/>
                </a:moveTo>
                <a:cubicBezTo>
                  <a:pt x="16569" y="6722"/>
                  <a:pt x="16623" y="6703"/>
                  <a:pt x="16694" y="6697"/>
                </a:cubicBezTo>
                <a:cubicBezTo>
                  <a:pt x="16729" y="6697"/>
                  <a:pt x="16746" y="6702"/>
                  <a:pt x="16768" y="6722"/>
                </a:cubicBezTo>
              </a:path>
              <a:path w="3771" h="1811">
                <a:moveTo>
                  <a:pt x="16570" y="6921"/>
                </a:moveTo>
                <a:cubicBezTo>
                  <a:pt x="16601" y="6967"/>
                  <a:pt x="16638" y="6941"/>
                  <a:pt x="16694" y="6921"/>
                </a:cubicBezTo>
                <a:cubicBezTo>
                  <a:pt x="16719" y="6913"/>
                  <a:pt x="16743" y="6904"/>
                  <a:pt x="16768" y="6896"/>
                </a:cubicBezTo>
              </a:path>
              <a:path w="3771" h="1811">
                <a:moveTo>
                  <a:pt x="17314" y="6102"/>
                </a:moveTo>
                <a:cubicBezTo>
                  <a:pt x="17296" y="6195"/>
                  <a:pt x="17288" y="6295"/>
                  <a:pt x="17264" y="6375"/>
                </a:cubicBezTo>
                <a:cubicBezTo>
                  <a:pt x="17248" y="6427"/>
                  <a:pt x="17223" y="6430"/>
                  <a:pt x="17239" y="6424"/>
                </a:cubicBezTo>
                <a:cubicBezTo>
                  <a:pt x="17288" y="6404"/>
                  <a:pt x="17393" y="6409"/>
                  <a:pt x="17438" y="6400"/>
                </a:cubicBezTo>
                <a:cubicBezTo>
                  <a:pt x="17507" y="6387"/>
                  <a:pt x="17552" y="6411"/>
                  <a:pt x="17611" y="6375"/>
                </a:cubicBezTo>
              </a:path>
              <a:path w="3771" h="1811">
                <a:moveTo>
                  <a:pt x="17587" y="5928"/>
                </a:moveTo>
                <a:cubicBezTo>
                  <a:pt x="17587" y="6034"/>
                  <a:pt x="17601" y="6123"/>
                  <a:pt x="17611" y="6226"/>
                </a:cubicBezTo>
                <a:cubicBezTo>
                  <a:pt x="17619" y="6310"/>
                  <a:pt x="17649" y="6444"/>
                  <a:pt x="17636" y="6524"/>
                </a:cubicBezTo>
                <a:cubicBezTo>
                  <a:pt x="17621" y="6610"/>
                  <a:pt x="17611" y="6683"/>
                  <a:pt x="17611" y="6772"/>
                </a:cubicBezTo>
                <a:cubicBezTo>
                  <a:pt x="17611" y="6800"/>
                  <a:pt x="17609" y="6810"/>
                  <a:pt x="17587" y="68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4040" y="2928960"/>
            <a:ext cx="393840" cy="393840"/>
          </a:xfrm>
          <a:custGeom>
            <a:avLst/>
            <a:gdLst/>
            <a:ahLst/>
            <a:rect l="l" t="t" r="r" b="b"/>
            <a:pathLst>
              <a:path w="1093" h="1092">
                <a:moveTo>
                  <a:pt x="13791" y="8161"/>
                </a:moveTo>
                <a:cubicBezTo>
                  <a:pt x="13834" y="8214"/>
                  <a:pt x="13887" y="8270"/>
                  <a:pt x="13915" y="8334"/>
                </a:cubicBezTo>
                <a:cubicBezTo>
                  <a:pt x="13951" y="8418"/>
                  <a:pt x="14011" y="8509"/>
                  <a:pt x="14064" y="8582"/>
                </a:cubicBezTo>
                <a:cubicBezTo>
                  <a:pt x="14107" y="8642"/>
                  <a:pt x="14160" y="8703"/>
                  <a:pt x="14213" y="8756"/>
                </a:cubicBezTo>
                <a:cubicBezTo>
                  <a:pt x="14247" y="8790"/>
                  <a:pt x="14251" y="8793"/>
                  <a:pt x="14263" y="8756"/>
                </a:cubicBezTo>
              </a:path>
              <a:path w="1093" h="1092">
                <a:moveTo>
                  <a:pt x="14312" y="8136"/>
                </a:moveTo>
                <a:cubicBezTo>
                  <a:pt x="14292" y="8259"/>
                  <a:pt x="14253" y="8387"/>
                  <a:pt x="14238" y="8508"/>
                </a:cubicBezTo>
                <a:cubicBezTo>
                  <a:pt x="14224" y="8626"/>
                  <a:pt x="14221" y="8740"/>
                  <a:pt x="14188" y="8855"/>
                </a:cubicBezTo>
                <a:cubicBezTo>
                  <a:pt x="14170" y="8918"/>
                  <a:pt x="14139" y="9053"/>
                  <a:pt x="14114" y="9103"/>
                </a:cubicBezTo>
                <a:cubicBezTo>
                  <a:pt x="14110" y="9112"/>
                  <a:pt x="14085" y="9243"/>
                  <a:pt x="14089" y="9227"/>
                </a:cubicBezTo>
                <a:cubicBezTo>
                  <a:pt x="14089" y="9211"/>
                  <a:pt x="14089" y="9194"/>
                  <a:pt x="14089" y="9178"/>
                </a:cubicBezTo>
              </a:path>
              <a:path w="1093" h="1092">
                <a:moveTo>
                  <a:pt x="14585" y="8310"/>
                </a:moveTo>
                <a:cubicBezTo>
                  <a:pt x="14670" y="8310"/>
                  <a:pt x="14737" y="8320"/>
                  <a:pt x="14808" y="8334"/>
                </a:cubicBezTo>
                <a:cubicBezTo>
                  <a:pt x="14825" y="8334"/>
                  <a:pt x="14841" y="8334"/>
                  <a:pt x="14858" y="8334"/>
                </a:cubicBezTo>
              </a:path>
              <a:path w="1093" h="1092">
                <a:moveTo>
                  <a:pt x="14635" y="8533"/>
                </a:moveTo>
                <a:cubicBezTo>
                  <a:pt x="14674" y="8562"/>
                  <a:pt x="14732" y="8573"/>
                  <a:pt x="14784" y="8558"/>
                </a:cubicBezTo>
                <a:cubicBezTo>
                  <a:pt x="14832" y="8534"/>
                  <a:pt x="14846" y="8525"/>
                  <a:pt x="14883" y="85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91080" y="2732040"/>
            <a:ext cx="2009880" cy="465120"/>
          </a:xfrm>
          <a:custGeom>
            <a:avLst/>
            <a:gdLst/>
            <a:ahLst/>
            <a:rect l="l" t="t" r="r" b="b"/>
            <a:pathLst>
              <a:path w="5582" h="1291">
                <a:moveTo>
                  <a:pt x="15354" y="8136"/>
                </a:moveTo>
                <a:cubicBezTo>
                  <a:pt x="15317" y="8216"/>
                  <a:pt x="15276" y="8300"/>
                  <a:pt x="15255" y="8384"/>
                </a:cubicBezTo>
                <a:cubicBezTo>
                  <a:pt x="15245" y="8422"/>
                  <a:pt x="15268" y="8451"/>
                  <a:pt x="15304" y="8458"/>
                </a:cubicBezTo>
                <a:cubicBezTo>
                  <a:pt x="15389" y="8476"/>
                  <a:pt x="15422" y="8472"/>
                  <a:pt x="15503" y="8458"/>
                </a:cubicBezTo>
                <a:cubicBezTo>
                  <a:pt x="15555" y="8449"/>
                  <a:pt x="15599" y="8440"/>
                  <a:pt x="15652" y="8434"/>
                </a:cubicBezTo>
              </a:path>
              <a:path w="5582" h="1291">
                <a:moveTo>
                  <a:pt x="15627" y="7962"/>
                </a:moveTo>
                <a:cubicBezTo>
                  <a:pt x="15601" y="8091"/>
                  <a:pt x="15615" y="8161"/>
                  <a:pt x="15627" y="8285"/>
                </a:cubicBezTo>
                <a:cubicBezTo>
                  <a:pt x="15642" y="8443"/>
                  <a:pt x="15624" y="8603"/>
                  <a:pt x="15602" y="8756"/>
                </a:cubicBezTo>
                <a:cubicBezTo>
                  <a:pt x="15594" y="8811"/>
                  <a:pt x="15626" y="8864"/>
                  <a:pt x="15577" y="8880"/>
                </a:cubicBezTo>
                <a:cubicBezTo>
                  <a:pt x="15584" y="8846"/>
                  <a:pt x="15595" y="8815"/>
                  <a:pt x="15602" y="8781"/>
                </a:cubicBezTo>
              </a:path>
              <a:path w="5582" h="1291">
                <a:moveTo>
                  <a:pt x="15850" y="7665"/>
                </a:moveTo>
                <a:cubicBezTo>
                  <a:pt x="15892" y="7665"/>
                  <a:pt x="15997" y="7646"/>
                  <a:pt x="16024" y="7689"/>
                </a:cubicBezTo>
                <a:cubicBezTo>
                  <a:pt x="16053" y="7735"/>
                  <a:pt x="16043" y="7790"/>
                  <a:pt x="16024" y="7838"/>
                </a:cubicBezTo>
                <a:cubicBezTo>
                  <a:pt x="15997" y="7904"/>
                  <a:pt x="15927" y="7902"/>
                  <a:pt x="15900" y="7962"/>
                </a:cubicBezTo>
                <a:cubicBezTo>
                  <a:pt x="15900" y="7970"/>
                  <a:pt x="15900" y="7979"/>
                  <a:pt x="15900" y="7987"/>
                </a:cubicBezTo>
                <a:cubicBezTo>
                  <a:pt x="15933" y="8021"/>
                  <a:pt x="16006" y="8012"/>
                  <a:pt x="16073" y="8012"/>
                </a:cubicBezTo>
                <a:cubicBezTo>
                  <a:pt x="16123" y="8012"/>
                  <a:pt x="16172" y="8012"/>
                  <a:pt x="16222" y="8012"/>
                </a:cubicBezTo>
              </a:path>
              <a:path w="5582" h="1291">
                <a:moveTo>
                  <a:pt x="15949" y="8434"/>
                </a:moveTo>
                <a:cubicBezTo>
                  <a:pt x="16029" y="8427"/>
                  <a:pt x="16091" y="8409"/>
                  <a:pt x="16173" y="8409"/>
                </a:cubicBezTo>
                <a:cubicBezTo>
                  <a:pt x="16206" y="8409"/>
                  <a:pt x="16239" y="8409"/>
                  <a:pt x="16272" y="8409"/>
                </a:cubicBezTo>
              </a:path>
              <a:path w="5582" h="1291">
                <a:moveTo>
                  <a:pt x="16966" y="7938"/>
                </a:moveTo>
                <a:cubicBezTo>
                  <a:pt x="16864" y="7922"/>
                  <a:pt x="16837" y="7920"/>
                  <a:pt x="16743" y="7962"/>
                </a:cubicBezTo>
                <a:cubicBezTo>
                  <a:pt x="16672" y="7994"/>
                  <a:pt x="16600" y="8027"/>
                  <a:pt x="16594" y="8111"/>
                </a:cubicBezTo>
                <a:cubicBezTo>
                  <a:pt x="16589" y="8188"/>
                  <a:pt x="16648" y="8254"/>
                  <a:pt x="16694" y="8310"/>
                </a:cubicBezTo>
                <a:cubicBezTo>
                  <a:pt x="16760" y="8389"/>
                  <a:pt x="16815" y="8468"/>
                  <a:pt x="16867" y="8558"/>
                </a:cubicBezTo>
                <a:cubicBezTo>
                  <a:pt x="16896" y="8609"/>
                  <a:pt x="16916" y="8707"/>
                  <a:pt x="16867" y="8756"/>
                </a:cubicBezTo>
                <a:cubicBezTo>
                  <a:pt x="16834" y="8789"/>
                  <a:pt x="16747" y="8833"/>
                  <a:pt x="16694" y="8806"/>
                </a:cubicBezTo>
                <a:cubicBezTo>
                  <a:pt x="16669" y="8793"/>
                  <a:pt x="16610" y="8736"/>
                  <a:pt x="16619" y="8706"/>
                </a:cubicBezTo>
                <a:cubicBezTo>
                  <a:pt x="16640" y="8635"/>
                  <a:pt x="16689" y="8551"/>
                  <a:pt x="16718" y="8483"/>
                </a:cubicBezTo>
                <a:cubicBezTo>
                  <a:pt x="16752" y="8404"/>
                  <a:pt x="16827" y="8352"/>
                  <a:pt x="16842" y="8260"/>
                </a:cubicBezTo>
                <a:cubicBezTo>
                  <a:pt x="16859" y="8158"/>
                  <a:pt x="16895" y="8081"/>
                  <a:pt x="16942" y="7987"/>
                </a:cubicBezTo>
              </a:path>
              <a:path w="5582" h="1291">
                <a:moveTo>
                  <a:pt x="17289" y="7913"/>
                </a:moveTo>
                <a:cubicBezTo>
                  <a:pt x="17240" y="8032"/>
                  <a:pt x="17170" y="8122"/>
                  <a:pt x="17115" y="8235"/>
                </a:cubicBezTo>
                <a:cubicBezTo>
                  <a:pt x="17081" y="8306"/>
                  <a:pt x="17019" y="8454"/>
                  <a:pt x="17041" y="8533"/>
                </a:cubicBezTo>
                <a:cubicBezTo>
                  <a:pt x="17067" y="8629"/>
                  <a:pt x="17120" y="8702"/>
                  <a:pt x="17214" y="8731"/>
                </a:cubicBezTo>
                <a:cubicBezTo>
                  <a:pt x="17248" y="8741"/>
                  <a:pt x="17303" y="8731"/>
                  <a:pt x="17338" y="8731"/>
                </a:cubicBezTo>
              </a:path>
              <a:path w="5582" h="1291">
                <a:moveTo>
                  <a:pt x="17462" y="8062"/>
                </a:moveTo>
                <a:cubicBezTo>
                  <a:pt x="17476" y="8136"/>
                  <a:pt x="17453" y="8218"/>
                  <a:pt x="17487" y="8285"/>
                </a:cubicBezTo>
                <a:cubicBezTo>
                  <a:pt x="17521" y="8352"/>
                  <a:pt x="17556" y="8334"/>
                  <a:pt x="17636" y="8334"/>
                </a:cubicBezTo>
                <a:cubicBezTo>
                  <a:pt x="17674" y="8334"/>
                  <a:pt x="17685" y="8311"/>
                  <a:pt x="17711" y="8285"/>
                </a:cubicBezTo>
              </a:path>
              <a:path w="5582" h="1291">
                <a:moveTo>
                  <a:pt x="17711" y="7913"/>
                </a:moveTo>
                <a:cubicBezTo>
                  <a:pt x="17694" y="8067"/>
                  <a:pt x="17686" y="8205"/>
                  <a:pt x="17686" y="8359"/>
                </a:cubicBezTo>
                <a:cubicBezTo>
                  <a:pt x="17686" y="8428"/>
                  <a:pt x="17686" y="8670"/>
                  <a:pt x="17686" y="8657"/>
                </a:cubicBezTo>
                <a:cubicBezTo>
                  <a:pt x="17686" y="8632"/>
                  <a:pt x="17686" y="8607"/>
                  <a:pt x="17686" y="8582"/>
                </a:cubicBezTo>
              </a:path>
              <a:path w="5582" h="1291">
                <a:moveTo>
                  <a:pt x="17835" y="7590"/>
                </a:moveTo>
                <a:cubicBezTo>
                  <a:pt x="17949" y="7705"/>
                  <a:pt x="18016" y="7799"/>
                  <a:pt x="18058" y="7962"/>
                </a:cubicBezTo>
                <a:cubicBezTo>
                  <a:pt x="18097" y="8113"/>
                  <a:pt x="18107" y="8254"/>
                  <a:pt x="18107" y="8409"/>
                </a:cubicBezTo>
                <a:cubicBezTo>
                  <a:pt x="18107" y="8508"/>
                  <a:pt x="18096" y="8617"/>
                  <a:pt x="18058" y="8706"/>
                </a:cubicBezTo>
                <a:cubicBezTo>
                  <a:pt x="18054" y="8716"/>
                  <a:pt x="17990" y="8838"/>
                  <a:pt x="17959" y="8806"/>
                </a:cubicBezTo>
                <a:cubicBezTo>
                  <a:pt x="17959" y="8771"/>
                  <a:pt x="17963" y="8753"/>
                  <a:pt x="17983" y="8731"/>
                </a:cubicBezTo>
              </a:path>
              <a:path w="5582" h="1291">
                <a:moveTo>
                  <a:pt x="18554" y="7913"/>
                </a:moveTo>
                <a:cubicBezTo>
                  <a:pt x="18554" y="8081"/>
                  <a:pt x="18542" y="8250"/>
                  <a:pt x="18579" y="8409"/>
                </a:cubicBezTo>
                <a:cubicBezTo>
                  <a:pt x="18586" y="8439"/>
                  <a:pt x="18579" y="8477"/>
                  <a:pt x="18579" y="8508"/>
                </a:cubicBezTo>
              </a:path>
              <a:path w="5582" h="1291">
                <a:moveTo>
                  <a:pt x="18430" y="8285"/>
                </a:moveTo>
                <a:cubicBezTo>
                  <a:pt x="18509" y="8278"/>
                  <a:pt x="18599" y="8275"/>
                  <a:pt x="18678" y="8260"/>
                </a:cubicBezTo>
                <a:cubicBezTo>
                  <a:pt x="18703" y="8252"/>
                  <a:pt x="18727" y="8243"/>
                  <a:pt x="18752" y="8235"/>
                </a:cubicBezTo>
              </a:path>
              <a:path w="5582" h="1291">
                <a:moveTo>
                  <a:pt x="18976" y="7863"/>
                </a:moveTo>
                <a:cubicBezTo>
                  <a:pt x="18976" y="8128"/>
                  <a:pt x="18976" y="8392"/>
                  <a:pt x="18976" y="8657"/>
                </a:cubicBezTo>
                <a:cubicBezTo>
                  <a:pt x="19015" y="8644"/>
                  <a:pt x="19000" y="8637"/>
                  <a:pt x="19000" y="8582"/>
                </a:cubicBezTo>
              </a:path>
              <a:path w="5582" h="1291">
                <a:moveTo>
                  <a:pt x="19199" y="7813"/>
                </a:moveTo>
                <a:cubicBezTo>
                  <a:pt x="19167" y="7932"/>
                  <a:pt x="19147" y="8043"/>
                  <a:pt x="19124" y="8161"/>
                </a:cubicBezTo>
                <a:cubicBezTo>
                  <a:pt x="19104" y="8263"/>
                  <a:pt x="19100" y="8352"/>
                  <a:pt x="19100" y="8458"/>
                </a:cubicBezTo>
                <a:cubicBezTo>
                  <a:pt x="19100" y="8527"/>
                  <a:pt x="19128" y="8581"/>
                  <a:pt x="19174" y="8632"/>
                </a:cubicBezTo>
                <a:cubicBezTo>
                  <a:pt x="19205" y="8667"/>
                  <a:pt x="19278" y="8670"/>
                  <a:pt x="19323" y="8657"/>
                </a:cubicBezTo>
                <a:cubicBezTo>
                  <a:pt x="19387" y="8639"/>
                  <a:pt x="19456" y="8511"/>
                  <a:pt x="19472" y="8458"/>
                </a:cubicBezTo>
                <a:cubicBezTo>
                  <a:pt x="19494" y="8383"/>
                  <a:pt x="19459" y="8364"/>
                  <a:pt x="19397" y="8359"/>
                </a:cubicBezTo>
                <a:cubicBezTo>
                  <a:pt x="19324" y="8353"/>
                  <a:pt x="19285" y="8413"/>
                  <a:pt x="19248" y="8458"/>
                </a:cubicBezTo>
                <a:cubicBezTo>
                  <a:pt x="19235" y="8473"/>
                  <a:pt x="19199" y="8562"/>
                  <a:pt x="19224" y="8582"/>
                </a:cubicBezTo>
                <a:cubicBezTo>
                  <a:pt x="19255" y="8607"/>
                  <a:pt x="19305" y="8607"/>
                  <a:pt x="19348" y="8607"/>
                </a:cubicBezTo>
              </a:path>
              <a:path w="5582" h="1291">
                <a:moveTo>
                  <a:pt x="19720" y="8136"/>
                </a:moveTo>
                <a:cubicBezTo>
                  <a:pt x="19803" y="8136"/>
                  <a:pt x="19885" y="8136"/>
                  <a:pt x="19968" y="8136"/>
                </a:cubicBezTo>
              </a:path>
              <a:path w="5582" h="1291">
                <a:moveTo>
                  <a:pt x="19695" y="8384"/>
                </a:moveTo>
                <a:cubicBezTo>
                  <a:pt x="19769" y="8384"/>
                  <a:pt x="19826" y="8368"/>
                  <a:pt x="19893" y="8359"/>
                </a:cubicBezTo>
                <a:cubicBezTo>
                  <a:pt x="19918" y="8359"/>
                  <a:pt x="19943" y="8359"/>
                  <a:pt x="19968" y="8359"/>
                </a:cubicBezTo>
              </a:path>
              <a:path w="5582" h="1291">
                <a:moveTo>
                  <a:pt x="20315" y="7987"/>
                </a:moveTo>
                <a:cubicBezTo>
                  <a:pt x="20287" y="8093"/>
                  <a:pt x="20235" y="8203"/>
                  <a:pt x="20216" y="8310"/>
                </a:cubicBezTo>
                <a:cubicBezTo>
                  <a:pt x="20202" y="8388"/>
                  <a:pt x="20190" y="8457"/>
                  <a:pt x="20216" y="8533"/>
                </a:cubicBezTo>
                <a:cubicBezTo>
                  <a:pt x="20238" y="8597"/>
                  <a:pt x="20306" y="8679"/>
                  <a:pt x="20365" y="8706"/>
                </a:cubicBezTo>
                <a:cubicBezTo>
                  <a:pt x="20443" y="8742"/>
                  <a:pt x="20560" y="8749"/>
                  <a:pt x="20638" y="8706"/>
                </a:cubicBezTo>
                <a:cubicBezTo>
                  <a:pt x="20730" y="8654"/>
                  <a:pt x="20818" y="8566"/>
                  <a:pt x="20836" y="8458"/>
                </a:cubicBezTo>
                <a:cubicBezTo>
                  <a:pt x="20853" y="8355"/>
                  <a:pt x="20818" y="8280"/>
                  <a:pt x="20786" y="8186"/>
                </a:cubicBezTo>
                <a:cubicBezTo>
                  <a:pt x="20746" y="8070"/>
                  <a:pt x="20663" y="8008"/>
                  <a:pt x="20563" y="7938"/>
                </a:cubicBezTo>
                <a:cubicBezTo>
                  <a:pt x="20484" y="7885"/>
                  <a:pt x="20456" y="7864"/>
                  <a:pt x="20414" y="78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43280" y="3224160"/>
            <a:ext cx="3036960" cy="812880"/>
          </a:xfrm>
          <a:custGeom>
            <a:avLst/>
            <a:gdLst/>
            <a:ahLst/>
            <a:rect l="l" t="t" r="r" b="b"/>
            <a:pathLst>
              <a:path w="8435" h="2259">
                <a:moveTo>
                  <a:pt x="12923" y="9475"/>
                </a:moveTo>
                <a:cubicBezTo>
                  <a:pt x="12935" y="9418"/>
                  <a:pt x="12910" y="9422"/>
                  <a:pt x="12923" y="9376"/>
                </a:cubicBezTo>
                <a:cubicBezTo>
                  <a:pt x="12939" y="9316"/>
                  <a:pt x="12950" y="9278"/>
                  <a:pt x="12998" y="9227"/>
                </a:cubicBezTo>
                <a:cubicBezTo>
                  <a:pt x="13066" y="9154"/>
                  <a:pt x="13155" y="9115"/>
                  <a:pt x="13246" y="9079"/>
                </a:cubicBezTo>
                <a:cubicBezTo>
                  <a:pt x="13377" y="9027"/>
                  <a:pt x="13471" y="9033"/>
                  <a:pt x="13618" y="9029"/>
                </a:cubicBezTo>
                <a:cubicBezTo>
                  <a:pt x="13785" y="9025"/>
                  <a:pt x="13907" y="9056"/>
                  <a:pt x="14064" y="9103"/>
                </a:cubicBezTo>
                <a:cubicBezTo>
                  <a:pt x="14241" y="9156"/>
                  <a:pt x="14373" y="9246"/>
                  <a:pt x="14536" y="9327"/>
                </a:cubicBezTo>
                <a:cubicBezTo>
                  <a:pt x="14687" y="9401"/>
                  <a:pt x="14859" y="9491"/>
                  <a:pt x="15032" y="9525"/>
                </a:cubicBezTo>
                <a:cubicBezTo>
                  <a:pt x="15343" y="9586"/>
                  <a:pt x="15886" y="9613"/>
                  <a:pt x="16197" y="9525"/>
                </a:cubicBezTo>
                <a:cubicBezTo>
                  <a:pt x="16470" y="9447"/>
                  <a:pt x="16739" y="9391"/>
                  <a:pt x="16991" y="9252"/>
                </a:cubicBezTo>
                <a:cubicBezTo>
                  <a:pt x="17165" y="9156"/>
                  <a:pt x="17324" y="9088"/>
                  <a:pt x="17512" y="9029"/>
                </a:cubicBezTo>
                <a:cubicBezTo>
                  <a:pt x="17711" y="8966"/>
                  <a:pt x="17797" y="8986"/>
                  <a:pt x="17983" y="9004"/>
                </a:cubicBezTo>
                <a:cubicBezTo>
                  <a:pt x="18153" y="9021"/>
                  <a:pt x="18313" y="9056"/>
                  <a:pt x="18479" y="9079"/>
                </a:cubicBezTo>
                <a:cubicBezTo>
                  <a:pt x="18686" y="9107"/>
                  <a:pt x="18906" y="9120"/>
                  <a:pt x="19100" y="9178"/>
                </a:cubicBezTo>
                <a:cubicBezTo>
                  <a:pt x="19338" y="9249"/>
                  <a:pt x="19582" y="9265"/>
                  <a:pt x="19819" y="9327"/>
                </a:cubicBezTo>
                <a:cubicBezTo>
                  <a:pt x="20076" y="9394"/>
                  <a:pt x="20321" y="9415"/>
                  <a:pt x="20588" y="9451"/>
                </a:cubicBezTo>
                <a:cubicBezTo>
                  <a:pt x="20818" y="9482"/>
                  <a:pt x="21020" y="9550"/>
                  <a:pt x="21258" y="9550"/>
                </a:cubicBezTo>
                <a:cubicBezTo>
                  <a:pt x="21302" y="9550"/>
                  <a:pt x="21316" y="9553"/>
                  <a:pt x="21332" y="9525"/>
                </a:cubicBezTo>
              </a:path>
              <a:path w="8435" h="2259">
                <a:moveTo>
                  <a:pt x="13940" y="10120"/>
                </a:moveTo>
                <a:cubicBezTo>
                  <a:pt x="13920" y="10080"/>
                  <a:pt x="13901" y="10064"/>
                  <a:pt x="13940" y="10071"/>
                </a:cubicBezTo>
                <a:cubicBezTo>
                  <a:pt x="13995" y="10112"/>
                  <a:pt x="14001" y="10199"/>
                  <a:pt x="14039" y="10269"/>
                </a:cubicBezTo>
                <a:cubicBezTo>
                  <a:pt x="14085" y="10354"/>
                  <a:pt x="14125" y="10468"/>
                  <a:pt x="14188" y="10542"/>
                </a:cubicBezTo>
                <a:cubicBezTo>
                  <a:pt x="14221" y="10581"/>
                  <a:pt x="14294" y="10665"/>
                  <a:pt x="14362" y="10641"/>
                </a:cubicBezTo>
                <a:cubicBezTo>
                  <a:pt x="14432" y="10616"/>
                  <a:pt x="14427" y="10605"/>
                  <a:pt x="14436" y="10542"/>
                </a:cubicBezTo>
              </a:path>
              <a:path w="8435" h="2259">
                <a:moveTo>
                  <a:pt x="14486" y="9847"/>
                </a:moveTo>
                <a:cubicBezTo>
                  <a:pt x="14518" y="9973"/>
                  <a:pt x="14497" y="10044"/>
                  <a:pt x="14486" y="10170"/>
                </a:cubicBezTo>
                <a:cubicBezTo>
                  <a:pt x="14473" y="10319"/>
                  <a:pt x="14448" y="10468"/>
                  <a:pt x="14436" y="10616"/>
                </a:cubicBezTo>
                <a:cubicBezTo>
                  <a:pt x="14425" y="10750"/>
                  <a:pt x="14401" y="10882"/>
                  <a:pt x="14387" y="11013"/>
                </a:cubicBezTo>
                <a:cubicBezTo>
                  <a:pt x="14379" y="11086"/>
                  <a:pt x="14397" y="11152"/>
                  <a:pt x="14412" y="11187"/>
                </a:cubicBezTo>
                <a:cubicBezTo>
                  <a:pt x="14412" y="11215"/>
                  <a:pt x="14414" y="11221"/>
                  <a:pt x="14436" y="11187"/>
                </a:cubicBezTo>
              </a:path>
              <a:path w="8435" h="2259">
                <a:moveTo>
                  <a:pt x="14908" y="10195"/>
                </a:moveTo>
                <a:cubicBezTo>
                  <a:pt x="14922" y="10319"/>
                  <a:pt x="14932" y="10421"/>
                  <a:pt x="14932" y="10542"/>
                </a:cubicBezTo>
                <a:cubicBezTo>
                  <a:pt x="14932" y="10584"/>
                  <a:pt x="14942" y="10580"/>
                  <a:pt x="14908" y="10592"/>
                </a:cubicBezTo>
              </a:path>
              <a:path w="8435" h="2259">
                <a:moveTo>
                  <a:pt x="14908" y="9847"/>
                </a:moveTo>
                <a:cubicBezTo>
                  <a:pt x="14931" y="9775"/>
                  <a:pt x="14938" y="9749"/>
                  <a:pt x="14982" y="9823"/>
                </a:cubicBezTo>
              </a:path>
              <a:path w="8435" h="2259">
                <a:moveTo>
                  <a:pt x="15131" y="10418"/>
                </a:moveTo>
                <a:cubicBezTo>
                  <a:pt x="15111" y="10478"/>
                  <a:pt x="15092" y="10493"/>
                  <a:pt x="15131" y="10517"/>
                </a:cubicBezTo>
                <a:cubicBezTo>
                  <a:pt x="15143" y="10469"/>
                  <a:pt x="15171" y="10422"/>
                  <a:pt x="15180" y="10368"/>
                </a:cubicBezTo>
                <a:cubicBezTo>
                  <a:pt x="15193" y="10286"/>
                  <a:pt x="15221" y="10196"/>
                  <a:pt x="15255" y="10120"/>
                </a:cubicBezTo>
                <a:cubicBezTo>
                  <a:pt x="15277" y="10077"/>
                  <a:pt x="15281" y="10066"/>
                  <a:pt x="15304" y="10046"/>
                </a:cubicBezTo>
                <a:cubicBezTo>
                  <a:pt x="15349" y="10134"/>
                  <a:pt x="15310" y="10217"/>
                  <a:pt x="15329" y="10319"/>
                </a:cubicBezTo>
                <a:cubicBezTo>
                  <a:pt x="15347" y="10413"/>
                  <a:pt x="15429" y="10480"/>
                  <a:pt x="15478" y="10542"/>
                </a:cubicBezTo>
                <a:cubicBezTo>
                  <a:pt x="15534" y="10613"/>
                  <a:pt x="15566" y="10605"/>
                  <a:pt x="15652" y="10592"/>
                </a:cubicBezTo>
                <a:cubicBezTo>
                  <a:pt x="15717" y="10582"/>
                  <a:pt x="15715" y="10568"/>
                  <a:pt x="15751" y="10517"/>
                </a:cubicBezTo>
              </a:path>
              <a:path w="8435" h="2259">
                <a:moveTo>
                  <a:pt x="15850" y="9922"/>
                </a:moveTo>
                <a:cubicBezTo>
                  <a:pt x="15836" y="9835"/>
                  <a:pt x="15855" y="9767"/>
                  <a:pt x="15801" y="9748"/>
                </a:cubicBezTo>
                <a:cubicBezTo>
                  <a:pt x="15801" y="9820"/>
                  <a:pt x="15779" y="9848"/>
                  <a:pt x="15776" y="9922"/>
                </a:cubicBezTo>
                <a:cubicBezTo>
                  <a:pt x="15771" y="10051"/>
                  <a:pt x="15787" y="10170"/>
                  <a:pt x="15801" y="10294"/>
                </a:cubicBezTo>
                <a:cubicBezTo>
                  <a:pt x="15810" y="10372"/>
                  <a:pt x="15825" y="10437"/>
                  <a:pt x="15825" y="10517"/>
                </a:cubicBezTo>
                <a:cubicBezTo>
                  <a:pt x="15825" y="10554"/>
                  <a:pt x="15832" y="10578"/>
                  <a:pt x="15850" y="10542"/>
                </a:cubicBezTo>
              </a:path>
              <a:path w="8435" h="2259">
                <a:moveTo>
                  <a:pt x="15602" y="9922"/>
                </a:moveTo>
                <a:cubicBezTo>
                  <a:pt x="15673" y="9895"/>
                  <a:pt x="15730" y="9855"/>
                  <a:pt x="15801" y="9847"/>
                </a:cubicBezTo>
                <a:cubicBezTo>
                  <a:pt x="15852" y="9847"/>
                  <a:pt x="15870" y="9846"/>
                  <a:pt x="15900" y="9823"/>
                </a:cubicBezTo>
              </a:path>
              <a:path w="8435" h="2259">
                <a:moveTo>
                  <a:pt x="16123" y="9823"/>
                </a:moveTo>
                <a:cubicBezTo>
                  <a:pt x="16133" y="9874"/>
                  <a:pt x="16173" y="9905"/>
                  <a:pt x="16123" y="9922"/>
                </a:cubicBezTo>
              </a:path>
              <a:path w="8435" h="2259">
                <a:moveTo>
                  <a:pt x="16049" y="10344"/>
                </a:moveTo>
                <a:cubicBezTo>
                  <a:pt x="16088" y="10383"/>
                  <a:pt x="16089" y="10399"/>
                  <a:pt x="16123" y="103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70760" y="3438360"/>
            <a:ext cx="884160" cy="463680"/>
          </a:xfrm>
          <a:custGeom>
            <a:avLst/>
            <a:gdLst/>
            <a:ahLst/>
            <a:rect l="l" t="t" r="r" b="b"/>
            <a:pathLst>
              <a:path w="2457" h="1291">
                <a:moveTo>
                  <a:pt x="17338" y="9550"/>
                </a:moveTo>
                <a:cubicBezTo>
                  <a:pt x="17271" y="9677"/>
                  <a:pt x="17210" y="9787"/>
                  <a:pt x="17165" y="9922"/>
                </a:cubicBezTo>
                <a:cubicBezTo>
                  <a:pt x="17130" y="10027"/>
                  <a:pt x="17124" y="10159"/>
                  <a:pt x="17140" y="10269"/>
                </a:cubicBezTo>
                <a:cubicBezTo>
                  <a:pt x="17155" y="10371"/>
                  <a:pt x="17199" y="10486"/>
                  <a:pt x="17264" y="10567"/>
                </a:cubicBezTo>
                <a:cubicBezTo>
                  <a:pt x="17319" y="10635"/>
                  <a:pt x="17407" y="10656"/>
                  <a:pt x="17487" y="10666"/>
                </a:cubicBezTo>
              </a:path>
              <a:path w="2457" h="1291">
                <a:moveTo>
                  <a:pt x="17711" y="9823"/>
                </a:moveTo>
                <a:cubicBezTo>
                  <a:pt x="17683" y="9928"/>
                  <a:pt x="17648" y="10038"/>
                  <a:pt x="17636" y="10145"/>
                </a:cubicBezTo>
                <a:cubicBezTo>
                  <a:pt x="17625" y="10241"/>
                  <a:pt x="17672" y="10333"/>
                  <a:pt x="17711" y="10418"/>
                </a:cubicBezTo>
                <a:cubicBezTo>
                  <a:pt x="17745" y="10490"/>
                  <a:pt x="17807" y="10514"/>
                  <a:pt x="17884" y="10517"/>
                </a:cubicBezTo>
                <a:cubicBezTo>
                  <a:pt x="17950" y="10520"/>
                  <a:pt x="18035" y="10524"/>
                  <a:pt x="18083" y="10468"/>
                </a:cubicBezTo>
                <a:cubicBezTo>
                  <a:pt x="18133" y="10409"/>
                  <a:pt x="18168" y="10269"/>
                  <a:pt x="18157" y="10195"/>
                </a:cubicBezTo>
                <a:cubicBezTo>
                  <a:pt x="18146" y="10119"/>
                  <a:pt x="18093" y="9990"/>
                  <a:pt x="18058" y="9922"/>
                </a:cubicBezTo>
                <a:cubicBezTo>
                  <a:pt x="17988" y="9787"/>
                  <a:pt x="17832" y="9741"/>
                  <a:pt x="17686" y="9773"/>
                </a:cubicBezTo>
                <a:cubicBezTo>
                  <a:pt x="17602" y="9791"/>
                  <a:pt x="17639" y="9885"/>
                  <a:pt x="17661" y="9922"/>
                </a:cubicBezTo>
              </a:path>
              <a:path w="2457" h="1291">
                <a:moveTo>
                  <a:pt x="18430" y="10492"/>
                </a:moveTo>
                <a:cubicBezTo>
                  <a:pt x="18406" y="10591"/>
                  <a:pt x="18380" y="10666"/>
                  <a:pt x="18380" y="10765"/>
                </a:cubicBezTo>
                <a:cubicBezTo>
                  <a:pt x="18380" y="10807"/>
                  <a:pt x="18380" y="10815"/>
                  <a:pt x="18380" y="10840"/>
                </a:cubicBezTo>
              </a:path>
              <a:path w="2457" h="1291">
                <a:moveTo>
                  <a:pt x="18628" y="9823"/>
                </a:moveTo>
                <a:cubicBezTo>
                  <a:pt x="18628" y="9952"/>
                  <a:pt x="18650" y="10070"/>
                  <a:pt x="18653" y="10195"/>
                </a:cubicBezTo>
                <a:cubicBezTo>
                  <a:pt x="18656" y="10317"/>
                  <a:pt x="18678" y="10402"/>
                  <a:pt x="18678" y="10517"/>
                </a:cubicBezTo>
                <a:cubicBezTo>
                  <a:pt x="18678" y="10525"/>
                  <a:pt x="18678" y="10534"/>
                  <a:pt x="18678" y="10542"/>
                </a:cubicBezTo>
              </a:path>
              <a:path w="2457" h="1291">
                <a:moveTo>
                  <a:pt x="18802" y="9922"/>
                </a:moveTo>
                <a:cubicBezTo>
                  <a:pt x="18810" y="9914"/>
                  <a:pt x="18819" y="9905"/>
                  <a:pt x="18827" y="9897"/>
                </a:cubicBezTo>
                <a:cubicBezTo>
                  <a:pt x="18870" y="9911"/>
                  <a:pt x="18863" y="9993"/>
                  <a:pt x="18852" y="10046"/>
                </a:cubicBezTo>
                <a:cubicBezTo>
                  <a:pt x="18836" y="10122"/>
                  <a:pt x="18801" y="10238"/>
                  <a:pt x="18827" y="10319"/>
                </a:cubicBezTo>
                <a:cubicBezTo>
                  <a:pt x="18857" y="10414"/>
                  <a:pt x="18917" y="10473"/>
                  <a:pt x="19000" y="10517"/>
                </a:cubicBezTo>
                <a:cubicBezTo>
                  <a:pt x="19064" y="10551"/>
                  <a:pt x="19090" y="10548"/>
                  <a:pt x="19149" y="10517"/>
                </a:cubicBezTo>
                <a:cubicBezTo>
                  <a:pt x="19214" y="10482"/>
                  <a:pt x="19244" y="10439"/>
                  <a:pt x="19248" y="10368"/>
                </a:cubicBezTo>
                <a:cubicBezTo>
                  <a:pt x="19249" y="10342"/>
                  <a:pt x="19246" y="10230"/>
                  <a:pt x="19224" y="10220"/>
                </a:cubicBezTo>
                <a:cubicBezTo>
                  <a:pt x="19164" y="10193"/>
                  <a:pt x="19126" y="10199"/>
                  <a:pt x="19075" y="10244"/>
                </a:cubicBezTo>
                <a:cubicBezTo>
                  <a:pt x="19036" y="10279"/>
                  <a:pt x="18983" y="10363"/>
                  <a:pt x="19000" y="10418"/>
                </a:cubicBezTo>
                <a:cubicBezTo>
                  <a:pt x="19017" y="10473"/>
                  <a:pt x="19081" y="10468"/>
                  <a:pt x="19124" y="10468"/>
                </a:cubicBezTo>
              </a:path>
              <a:path w="2457" h="1291">
                <a:moveTo>
                  <a:pt x="19248" y="9550"/>
                </a:moveTo>
                <a:cubicBezTo>
                  <a:pt x="19346" y="9696"/>
                  <a:pt x="19430" y="9832"/>
                  <a:pt x="19496" y="9996"/>
                </a:cubicBezTo>
                <a:cubicBezTo>
                  <a:pt x="19545" y="10118"/>
                  <a:pt x="19579" y="10286"/>
                  <a:pt x="19596" y="10418"/>
                </a:cubicBezTo>
                <a:cubicBezTo>
                  <a:pt x="19614" y="10560"/>
                  <a:pt x="19513" y="10626"/>
                  <a:pt x="19422" y="10716"/>
                </a:cubicBezTo>
                <a:cubicBezTo>
                  <a:pt x="19370" y="10767"/>
                  <a:pt x="19351" y="10784"/>
                  <a:pt x="19298" y="107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68920" y="4089240"/>
            <a:ext cx="366480" cy="519120"/>
          </a:xfrm>
          <a:custGeom>
            <a:avLst/>
            <a:gdLst/>
            <a:ahLst/>
            <a:rect l="l" t="t" r="r" b="b"/>
            <a:pathLst>
              <a:path w="1018" h="1439">
                <a:moveTo>
                  <a:pt x="13246" y="11609"/>
                </a:moveTo>
                <a:cubicBezTo>
                  <a:pt x="13284" y="11712"/>
                  <a:pt x="13334" y="11789"/>
                  <a:pt x="13395" y="11881"/>
                </a:cubicBezTo>
                <a:cubicBezTo>
                  <a:pt x="13446" y="11958"/>
                  <a:pt x="13493" y="12072"/>
                  <a:pt x="13568" y="12129"/>
                </a:cubicBezTo>
                <a:cubicBezTo>
                  <a:pt x="13611" y="12162"/>
                  <a:pt x="13642" y="12154"/>
                  <a:pt x="13692" y="12154"/>
                </a:cubicBezTo>
              </a:path>
              <a:path w="1018" h="1439">
                <a:moveTo>
                  <a:pt x="13742" y="11361"/>
                </a:moveTo>
                <a:cubicBezTo>
                  <a:pt x="13715" y="11527"/>
                  <a:pt x="13690" y="11692"/>
                  <a:pt x="13667" y="11857"/>
                </a:cubicBezTo>
                <a:cubicBezTo>
                  <a:pt x="13645" y="12016"/>
                  <a:pt x="13637" y="12171"/>
                  <a:pt x="13618" y="12328"/>
                </a:cubicBezTo>
                <a:cubicBezTo>
                  <a:pt x="13603" y="12454"/>
                  <a:pt x="13574" y="12575"/>
                  <a:pt x="13568" y="12700"/>
                </a:cubicBezTo>
                <a:cubicBezTo>
                  <a:pt x="13564" y="12781"/>
                  <a:pt x="13547" y="12810"/>
                  <a:pt x="13593" y="12750"/>
                </a:cubicBezTo>
              </a:path>
              <a:path w="1018" h="1439">
                <a:moveTo>
                  <a:pt x="13940" y="11658"/>
                </a:moveTo>
                <a:cubicBezTo>
                  <a:pt x="14054" y="11663"/>
                  <a:pt x="14133" y="11683"/>
                  <a:pt x="14238" y="11683"/>
                </a:cubicBezTo>
              </a:path>
              <a:path w="1018" h="1439">
                <a:moveTo>
                  <a:pt x="13965" y="11857"/>
                </a:moveTo>
                <a:cubicBezTo>
                  <a:pt x="14082" y="11872"/>
                  <a:pt x="14149" y="11863"/>
                  <a:pt x="14263" y="118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13240" y="3919680"/>
            <a:ext cx="1490760" cy="501480"/>
          </a:xfrm>
          <a:custGeom>
            <a:avLst/>
            <a:gdLst/>
            <a:ahLst/>
            <a:rect l="l" t="t" r="r" b="b"/>
            <a:pathLst>
              <a:path w="4143" h="1390">
                <a:moveTo>
                  <a:pt x="14932" y="11261"/>
                </a:moveTo>
                <a:cubicBezTo>
                  <a:pt x="14901" y="11348"/>
                  <a:pt x="14875" y="11452"/>
                  <a:pt x="14833" y="11534"/>
                </a:cubicBezTo>
                <a:cubicBezTo>
                  <a:pt x="14790" y="11618"/>
                  <a:pt x="14763" y="11683"/>
                  <a:pt x="14759" y="11782"/>
                </a:cubicBezTo>
                <a:cubicBezTo>
                  <a:pt x="14756" y="11845"/>
                  <a:pt x="14782" y="11958"/>
                  <a:pt x="14833" y="12005"/>
                </a:cubicBezTo>
                <a:cubicBezTo>
                  <a:pt x="14895" y="12062"/>
                  <a:pt x="14979" y="12055"/>
                  <a:pt x="15056" y="12055"/>
                </a:cubicBezTo>
                <a:cubicBezTo>
                  <a:pt x="15137" y="12055"/>
                  <a:pt x="15193" y="12002"/>
                  <a:pt x="15230" y="11931"/>
                </a:cubicBezTo>
                <a:cubicBezTo>
                  <a:pt x="15262" y="11871"/>
                  <a:pt x="15272" y="11749"/>
                  <a:pt x="15255" y="11683"/>
                </a:cubicBezTo>
                <a:cubicBezTo>
                  <a:pt x="15236" y="11610"/>
                  <a:pt x="15180" y="11538"/>
                  <a:pt x="15131" y="11485"/>
                </a:cubicBezTo>
                <a:cubicBezTo>
                  <a:pt x="15095" y="11446"/>
                  <a:pt x="15046" y="11424"/>
                  <a:pt x="15007" y="11385"/>
                </a:cubicBezTo>
                <a:cubicBezTo>
                  <a:pt x="14963" y="11342"/>
                  <a:pt x="14966" y="11348"/>
                  <a:pt x="14957" y="11286"/>
                </a:cubicBezTo>
              </a:path>
              <a:path w="4143" h="1390">
                <a:moveTo>
                  <a:pt x="15180" y="10914"/>
                </a:moveTo>
                <a:cubicBezTo>
                  <a:pt x="15315" y="10896"/>
                  <a:pt x="15347" y="10900"/>
                  <a:pt x="15453" y="10964"/>
                </a:cubicBezTo>
                <a:cubicBezTo>
                  <a:pt x="15516" y="11002"/>
                  <a:pt x="15549" y="11039"/>
                  <a:pt x="15553" y="11112"/>
                </a:cubicBezTo>
                <a:cubicBezTo>
                  <a:pt x="15559" y="11207"/>
                  <a:pt x="15520" y="11209"/>
                  <a:pt x="15478" y="11286"/>
                </a:cubicBezTo>
                <a:cubicBezTo>
                  <a:pt x="15471" y="11300"/>
                  <a:pt x="15478" y="11345"/>
                  <a:pt x="15478" y="11361"/>
                </a:cubicBezTo>
                <a:cubicBezTo>
                  <a:pt x="15551" y="11361"/>
                  <a:pt x="15585" y="11377"/>
                  <a:pt x="15652" y="11361"/>
                </a:cubicBezTo>
              </a:path>
              <a:path w="4143" h="1390">
                <a:moveTo>
                  <a:pt x="15652" y="11708"/>
                </a:moveTo>
                <a:cubicBezTo>
                  <a:pt x="15776" y="11708"/>
                  <a:pt x="15801" y="11708"/>
                  <a:pt x="15875" y="11708"/>
                </a:cubicBezTo>
              </a:path>
              <a:path w="4143" h="1390">
                <a:moveTo>
                  <a:pt x="16396" y="11311"/>
                </a:moveTo>
                <a:cubicBezTo>
                  <a:pt x="16346" y="11281"/>
                  <a:pt x="16309" y="11286"/>
                  <a:pt x="16247" y="11286"/>
                </a:cubicBezTo>
                <a:cubicBezTo>
                  <a:pt x="16202" y="11286"/>
                  <a:pt x="16126" y="11297"/>
                  <a:pt x="16098" y="11336"/>
                </a:cubicBezTo>
                <a:cubicBezTo>
                  <a:pt x="16053" y="11400"/>
                  <a:pt x="16089" y="11470"/>
                  <a:pt x="16123" y="11534"/>
                </a:cubicBezTo>
                <a:cubicBezTo>
                  <a:pt x="16188" y="11657"/>
                  <a:pt x="16254" y="11749"/>
                  <a:pt x="16297" y="11881"/>
                </a:cubicBezTo>
                <a:cubicBezTo>
                  <a:pt x="16321" y="11954"/>
                  <a:pt x="16362" y="12010"/>
                  <a:pt x="16321" y="12080"/>
                </a:cubicBezTo>
                <a:cubicBezTo>
                  <a:pt x="16277" y="12156"/>
                  <a:pt x="16162" y="12116"/>
                  <a:pt x="16123" y="12055"/>
                </a:cubicBezTo>
                <a:cubicBezTo>
                  <a:pt x="16093" y="12009"/>
                  <a:pt x="16086" y="11935"/>
                  <a:pt x="16098" y="11881"/>
                </a:cubicBezTo>
                <a:cubicBezTo>
                  <a:pt x="16119" y="11785"/>
                  <a:pt x="16171" y="11734"/>
                  <a:pt x="16222" y="11658"/>
                </a:cubicBezTo>
                <a:cubicBezTo>
                  <a:pt x="16270" y="11586"/>
                  <a:pt x="16322" y="11521"/>
                  <a:pt x="16346" y="11435"/>
                </a:cubicBezTo>
                <a:cubicBezTo>
                  <a:pt x="16346" y="11427"/>
                  <a:pt x="16346" y="11418"/>
                  <a:pt x="16346" y="11410"/>
                </a:cubicBezTo>
              </a:path>
              <a:path w="4143" h="1390">
                <a:moveTo>
                  <a:pt x="16718" y="11212"/>
                </a:moveTo>
                <a:cubicBezTo>
                  <a:pt x="16665" y="11279"/>
                  <a:pt x="16646" y="11354"/>
                  <a:pt x="16619" y="11435"/>
                </a:cubicBezTo>
                <a:cubicBezTo>
                  <a:pt x="16583" y="11542"/>
                  <a:pt x="16570" y="11620"/>
                  <a:pt x="16570" y="11733"/>
                </a:cubicBezTo>
                <a:cubicBezTo>
                  <a:pt x="16570" y="11823"/>
                  <a:pt x="16568" y="11925"/>
                  <a:pt x="16619" y="12005"/>
                </a:cubicBezTo>
                <a:cubicBezTo>
                  <a:pt x="16683" y="12105"/>
                  <a:pt x="16729" y="12122"/>
                  <a:pt x="16842" y="12154"/>
                </a:cubicBezTo>
              </a:path>
              <a:path w="4143" h="1390">
                <a:moveTo>
                  <a:pt x="16966" y="11435"/>
                </a:moveTo>
                <a:cubicBezTo>
                  <a:pt x="16905" y="11532"/>
                  <a:pt x="16896" y="11581"/>
                  <a:pt x="16867" y="11683"/>
                </a:cubicBezTo>
                <a:cubicBezTo>
                  <a:pt x="16837" y="11788"/>
                  <a:pt x="16853" y="11808"/>
                  <a:pt x="16892" y="11906"/>
                </a:cubicBezTo>
                <a:cubicBezTo>
                  <a:pt x="16932" y="12008"/>
                  <a:pt x="16952" y="12079"/>
                  <a:pt x="17066" y="12129"/>
                </a:cubicBezTo>
                <a:cubicBezTo>
                  <a:pt x="17119" y="12152"/>
                  <a:pt x="17180" y="12112"/>
                  <a:pt x="17214" y="12080"/>
                </a:cubicBezTo>
                <a:cubicBezTo>
                  <a:pt x="17283" y="12015"/>
                  <a:pt x="17288" y="11916"/>
                  <a:pt x="17264" y="11832"/>
                </a:cubicBezTo>
                <a:cubicBezTo>
                  <a:pt x="17231" y="11721"/>
                  <a:pt x="17194" y="11644"/>
                  <a:pt x="17115" y="11559"/>
                </a:cubicBezTo>
                <a:cubicBezTo>
                  <a:pt x="17062" y="11502"/>
                  <a:pt x="16997" y="11485"/>
                  <a:pt x="16942" y="11435"/>
                </a:cubicBezTo>
                <a:cubicBezTo>
                  <a:pt x="16919" y="11412"/>
                  <a:pt x="16911" y="11408"/>
                  <a:pt x="16917" y="11385"/>
                </a:cubicBezTo>
              </a:path>
              <a:path w="4143" h="1390">
                <a:moveTo>
                  <a:pt x="17190" y="11162"/>
                </a:moveTo>
                <a:cubicBezTo>
                  <a:pt x="17281" y="11263"/>
                  <a:pt x="17326" y="11362"/>
                  <a:pt x="17388" y="11485"/>
                </a:cubicBezTo>
                <a:cubicBezTo>
                  <a:pt x="17456" y="11619"/>
                  <a:pt x="17470" y="11762"/>
                  <a:pt x="17512" y="11906"/>
                </a:cubicBezTo>
                <a:cubicBezTo>
                  <a:pt x="17540" y="12001"/>
                  <a:pt x="17519" y="12071"/>
                  <a:pt x="17462" y="12154"/>
                </a:cubicBezTo>
                <a:cubicBezTo>
                  <a:pt x="17428" y="12203"/>
                  <a:pt x="17393" y="12134"/>
                  <a:pt x="17363" y="12105"/>
                </a:cubicBezTo>
              </a:path>
              <a:path w="4143" h="1390">
                <a:moveTo>
                  <a:pt x="17686" y="11336"/>
                </a:moveTo>
                <a:cubicBezTo>
                  <a:pt x="17704" y="11459"/>
                  <a:pt x="17700" y="11590"/>
                  <a:pt x="17735" y="11708"/>
                </a:cubicBezTo>
                <a:cubicBezTo>
                  <a:pt x="17763" y="11804"/>
                  <a:pt x="17766" y="11889"/>
                  <a:pt x="17810" y="11981"/>
                </a:cubicBezTo>
                <a:cubicBezTo>
                  <a:pt x="17830" y="12021"/>
                  <a:pt x="17839" y="12027"/>
                  <a:pt x="17835" y="12055"/>
                </a:cubicBezTo>
              </a:path>
              <a:path w="4143" h="1390">
                <a:moveTo>
                  <a:pt x="17562" y="11658"/>
                </a:moveTo>
                <a:cubicBezTo>
                  <a:pt x="17639" y="11638"/>
                  <a:pt x="17718" y="11658"/>
                  <a:pt x="17810" y="11658"/>
                </a:cubicBezTo>
                <a:cubicBezTo>
                  <a:pt x="17884" y="11658"/>
                  <a:pt x="17909" y="11658"/>
                  <a:pt x="17959" y="11658"/>
                </a:cubicBezTo>
              </a:path>
              <a:path w="4143" h="1390">
                <a:moveTo>
                  <a:pt x="18231" y="11435"/>
                </a:moveTo>
                <a:cubicBezTo>
                  <a:pt x="18231" y="11644"/>
                  <a:pt x="18230" y="11810"/>
                  <a:pt x="18256" y="12005"/>
                </a:cubicBezTo>
                <a:cubicBezTo>
                  <a:pt x="18264" y="12065"/>
                  <a:pt x="18268" y="12103"/>
                  <a:pt x="18281" y="12154"/>
                </a:cubicBezTo>
              </a:path>
              <a:path w="4143" h="1390">
                <a:moveTo>
                  <a:pt x="18479" y="11460"/>
                </a:moveTo>
                <a:cubicBezTo>
                  <a:pt x="18463" y="11624"/>
                  <a:pt x="18434" y="11772"/>
                  <a:pt x="18479" y="11931"/>
                </a:cubicBezTo>
                <a:cubicBezTo>
                  <a:pt x="18509" y="12036"/>
                  <a:pt x="18548" y="12093"/>
                  <a:pt x="18604" y="12179"/>
                </a:cubicBezTo>
                <a:cubicBezTo>
                  <a:pt x="18628" y="12215"/>
                  <a:pt x="18691" y="12302"/>
                  <a:pt x="18752" y="12278"/>
                </a:cubicBezTo>
                <a:cubicBezTo>
                  <a:pt x="18790" y="12263"/>
                  <a:pt x="18852" y="12216"/>
                  <a:pt x="18876" y="12179"/>
                </a:cubicBezTo>
                <a:cubicBezTo>
                  <a:pt x="18901" y="12140"/>
                  <a:pt x="18913" y="12064"/>
                  <a:pt x="18876" y="12030"/>
                </a:cubicBezTo>
                <a:cubicBezTo>
                  <a:pt x="18832" y="11989"/>
                  <a:pt x="18772" y="12000"/>
                  <a:pt x="18728" y="12030"/>
                </a:cubicBezTo>
                <a:cubicBezTo>
                  <a:pt x="18696" y="12052"/>
                  <a:pt x="18637" y="12120"/>
                  <a:pt x="18628" y="12154"/>
                </a:cubicBezTo>
                <a:cubicBezTo>
                  <a:pt x="18619" y="12189"/>
                  <a:pt x="18628" y="12241"/>
                  <a:pt x="18628" y="122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68920" y="4749840"/>
            <a:ext cx="473040" cy="420480"/>
          </a:xfrm>
          <a:custGeom>
            <a:avLst/>
            <a:gdLst/>
            <a:ahLst/>
            <a:rect l="l" t="t" r="r" b="b"/>
            <a:pathLst>
              <a:path w="1315" h="1167">
                <a:moveTo>
                  <a:pt x="13444" y="13320"/>
                </a:moveTo>
                <a:cubicBezTo>
                  <a:pt x="13394" y="13383"/>
                  <a:pt x="13382" y="13450"/>
                  <a:pt x="13345" y="13519"/>
                </a:cubicBezTo>
                <a:cubicBezTo>
                  <a:pt x="13286" y="13628"/>
                  <a:pt x="13236" y="13737"/>
                  <a:pt x="13246" y="13866"/>
                </a:cubicBezTo>
                <a:cubicBezTo>
                  <a:pt x="13256" y="13989"/>
                  <a:pt x="13268" y="14175"/>
                  <a:pt x="13370" y="14263"/>
                </a:cubicBezTo>
                <a:cubicBezTo>
                  <a:pt x="13438" y="14322"/>
                  <a:pt x="13550" y="14379"/>
                  <a:pt x="13643" y="14362"/>
                </a:cubicBezTo>
                <a:cubicBezTo>
                  <a:pt x="13729" y="14346"/>
                  <a:pt x="13806" y="14294"/>
                  <a:pt x="13841" y="14213"/>
                </a:cubicBezTo>
                <a:cubicBezTo>
                  <a:pt x="13917" y="14039"/>
                  <a:pt x="13907" y="13870"/>
                  <a:pt x="13891" y="13692"/>
                </a:cubicBezTo>
                <a:cubicBezTo>
                  <a:pt x="13880" y="13569"/>
                  <a:pt x="13870" y="13473"/>
                  <a:pt x="13791" y="13370"/>
                </a:cubicBezTo>
                <a:cubicBezTo>
                  <a:pt x="13722" y="13280"/>
                  <a:pt x="13620" y="13255"/>
                  <a:pt x="13519" y="13221"/>
                </a:cubicBezTo>
                <a:cubicBezTo>
                  <a:pt x="13464" y="13203"/>
                  <a:pt x="13355" y="13173"/>
                  <a:pt x="13295" y="13196"/>
                </a:cubicBezTo>
                <a:cubicBezTo>
                  <a:pt x="13266" y="13207"/>
                  <a:pt x="13229" y="13262"/>
                  <a:pt x="13246" y="13295"/>
                </a:cubicBezTo>
                <a:cubicBezTo>
                  <a:pt x="13246" y="13330"/>
                  <a:pt x="13255" y="13343"/>
                  <a:pt x="13295" y="13345"/>
                </a:cubicBezTo>
              </a:path>
              <a:path w="1315" h="1167">
                <a:moveTo>
                  <a:pt x="14163" y="13593"/>
                </a:moveTo>
                <a:cubicBezTo>
                  <a:pt x="14253" y="13593"/>
                  <a:pt x="14326" y="13606"/>
                  <a:pt x="14412" y="13618"/>
                </a:cubicBezTo>
                <a:cubicBezTo>
                  <a:pt x="14461" y="13618"/>
                  <a:pt x="14478" y="13618"/>
                  <a:pt x="14511" y="13618"/>
                </a:cubicBezTo>
              </a:path>
              <a:path w="1315" h="1167">
                <a:moveTo>
                  <a:pt x="14263" y="13742"/>
                </a:moveTo>
                <a:cubicBezTo>
                  <a:pt x="14328" y="13779"/>
                  <a:pt x="14366" y="13798"/>
                  <a:pt x="14436" y="13816"/>
                </a:cubicBezTo>
                <a:cubicBezTo>
                  <a:pt x="14501" y="13838"/>
                  <a:pt x="14516" y="13846"/>
                  <a:pt x="14560" y="138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29160" y="4768920"/>
            <a:ext cx="1465200" cy="455400"/>
          </a:xfrm>
          <a:custGeom>
            <a:avLst/>
            <a:gdLst/>
            <a:ahLst/>
            <a:rect l="l" t="t" r="r" b="b"/>
            <a:pathLst>
              <a:path w="4069" h="1266">
                <a:moveTo>
                  <a:pt x="15081" y="13543"/>
                </a:moveTo>
                <a:cubicBezTo>
                  <a:pt x="15151" y="13633"/>
                  <a:pt x="15201" y="13736"/>
                  <a:pt x="15255" y="13841"/>
                </a:cubicBezTo>
                <a:cubicBezTo>
                  <a:pt x="15331" y="13989"/>
                  <a:pt x="15427" y="14156"/>
                  <a:pt x="15528" y="14288"/>
                </a:cubicBezTo>
                <a:cubicBezTo>
                  <a:pt x="15589" y="14367"/>
                  <a:pt x="15673" y="14427"/>
                  <a:pt x="15751" y="14486"/>
                </a:cubicBezTo>
              </a:path>
              <a:path w="4069" h="1266">
                <a:moveTo>
                  <a:pt x="15553" y="13419"/>
                </a:moveTo>
                <a:cubicBezTo>
                  <a:pt x="15452" y="13552"/>
                  <a:pt x="15357" y="13670"/>
                  <a:pt x="15329" y="13841"/>
                </a:cubicBezTo>
                <a:cubicBezTo>
                  <a:pt x="15307" y="13977"/>
                  <a:pt x="15275" y="14087"/>
                  <a:pt x="15230" y="14213"/>
                </a:cubicBezTo>
                <a:cubicBezTo>
                  <a:pt x="15199" y="14302"/>
                  <a:pt x="15173" y="14377"/>
                  <a:pt x="15131" y="14461"/>
                </a:cubicBezTo>
              </a:path>
              <a:path w="4069" h="1266">
                <a:moveTo>
                  <a:pt x="15776" y="13271"/>
                </a:moveTo>
                <a:cubicBezTo>
                  <a:pt x="15881" y="13259"/>
                  <a:pt x="16005" y="13230"/>
                  <a:pt x="16073" y="13345"/>
                </a:cubicBezTo>
                <a:cubicBezTo>
                  <a:pt x="16126" y="13435"/>
                  <a:pt x="16085" y="13509"/>
                  <a:pt x="16049" y="13593"/>
                </a:cubicBezTo>
              </a:path>
              <a:path w="4069" h="1266">
                <a:moveTo>
                  <a:pt x="15974" y="13667"/>
                </a:moveTo>
                <a:cubicBezTo>
                  <a:pt x="15900" y="13679"/>
                  <a:pt x="15726" y="13692"/>
                  <a:pt x="15801" y="13692"/>
                </a:cubicBezTo>
                <a:cubicBezTo>
                  <a:pt x="15872" y="13648"/>
                  <a:pt x="15941" y="13667"/>
                  <a:pt x="16024" y="13692"/>
                </a:cubicBezTo>
                <a:cubicBezTo>
                  <a:pt x="16094" y="13713"/>
                  <a:pt x="16151" y="13734"/>
                  <a:pt x="16222" y="13742"/>
                </a:cubicBezTo>
              </a:path>
              <a:path w="4069" h="1266">
                <a:moveTo>
                  <a:pt x="16073" y="13940"/>
                </a:moveTo>
                <a:cubicBezTo>
                  <a:pt x="16157" y="13940"/>
                  <a:pt x="16239" y="13977"/>
                  <a:pt x="16321" y="13965"/>
                </a:cubicBezTo>
                <a:cubicBezTo>
                  <a:pt x="16346" y="13957"/>
                  <a:pt x="16371" y="13948"/>
                  <a:pt x="16396" y="13940"/>
                </a:cubicBezTo>
              </a:path>
              <a:path w="4069" h="1266">
                <a:moveTo>
                  <a:pt x="17140" y="13667"/>
                </a:moveTo>
                <a:cubicBezTo>
                  <a:pt x="17066" y="13569"/>
                  <a:pt x="17028" y="13568"/>
                  <a:pt x="16917" y="13543"/>
                </a:cubicBezTo>
                <a:cubicBezTo>
                  <a:pt x="16839" y="13526"/>
                  <a:pt x="16782" y="13490"/>
                  <a:pt x="16743" y="13568"/>
                </a:cubicBezTo>
                <a:cubicBezTo>
                  <a:pt x="16711" y="13631"/>
                  <a:pt x="16762" y="13751"/>
                  <a:pt x="16793" y="13816"/>
                </a:cubicBezTo>
                <a:cubicBezTo>
                  <a:pt x="16854" y="13944"/>
                  <a:pt x="16922" y="14051"/>
                  <a:pt x="16966" y="14188"/>
                </a:cubicBezTo>
                <a:cubicBezTo>
                  <a:pt x="17002" y="14302"/>
                  <a:pt x="16979" y="14292"/>
                  <a:pt x="16942" y="14387"/>
                </a:cubicBezTo>
                <a:cubicBezTo>
                  <a:pt x="16942" y="14395"/>
                  <a:pt x="16942" y="14404"/>
                  <a:pt x="16942" y="14412"/>
                </a:cubicBezTo>
                <a:cubicBezTo>
                  <a:pt x="16861" y="14400"/>
                  <a:pt x="16866" y="14396"/>
                  <a:pt x="16818" y="14337"/>
                </a:cubicBezTo>
                <a:cubicBezTo>
                  <a:pt x="16771" y="14279"/>
                  <a:pt x="16749" y="14167"/>
                  <a:pt x="16768" y="14089"/>
                </a:cubicBezTo>
                <a:cubicBezTo>
                  <a:pt x="16788" y="14006"/>
                  <a:pt x="16860" y="13948"/>
                  <a:pt x="16917" y="13891"/>
                </a:cubicBezTo>
                <a:cubicBezTo>
                  <a:pt x="16978" y="13829"/>
                  <a:pt x="17049" y="13818"/>
                  <a:pt x="17115" y="13767"/>
                </a:cubicBezTo>
                <a:cubicBezTo>
                  <a:pt x="17157" y="13725"/>
                  <a:pt x="17165" y="13717"/>
                  <a:pt x="17190" y="13692"/>
                </a:cubicBezTo>
              </a:path>
              <a:path w="4069" h="1266">
                <a:moveTo>
                  <a:pt x="17289" y="13990"/>
                </a:moveTo>
                <a:cubicBezTo>
                  <a:pt x="17401" y="14148"/>
                  <a:pt x="17506" y="14318"/>
                  <a:pt x="17636" y="14461"/>
                </a:cubicBezTo>
                <a:cubicBezTo>
                  <a:pt x="17653" y="14478"/>
                  <a:pt x="17669" y="14494"/>
                  <a:pt x="17686" y="14511"/>
                </a:cubicBezTo>
              </a:path>
              <a:path w="4069" h="1266">
                <a:moveTo>
                  <a:pt x="17587" y="13667"/>
                </a:moveTo>
                <a:cubicBezTo>
                  <a:pt x="17479" y="13806"/>
                  <a:pt x="17370" y="13932"/>
                  <a:pt x="17289" y="14089"/>
                </a:cubicBezTo>
                <a:cubicBezTo>
                  <a:pt x="17237" y="14190"/>
                  <a:pt x="17198" y="14294"/>
                  <a:pt x="17140" y="14387"/>
                </a:cubicBezTo>
                <a:cubicBezTo>
                  <a:pt x="17121" y="14418"/>
                  <a:pt x="17112" y="14432"/>
                  <a:pt x="17090" y="14461"/>
                </a:cubicBezTo>
              </a:path>
              <a:path w="4069" h="1266">
                <a:moveTo>
                  <a:pt x="17959" y="13791"/>
                </a:moveTo>
                <a:cubicBezTo>
                  <a:pt x="17941" y="13924"/>
                  <a:pt x="17890" y="14104"/>
                  <a:pt x="17909" y="14238"/>
                </a:cubicBezTo>
                <a:cubicBezTo>
                  <a:pt x="17931" y="14303"/>
                  <a:pt x="17939" y="14318"/>
                  <a:pt x="17934" y="14362"/>
                </a:cubicBezTo>
              </a:path>
              <a:path w="4069" h="1266">
                <a:moveTo>
                  <a:pt x="17785" y="13940"/>
                </a:moveTo>
                <a:cubicBezTo>
                  <a:pt x="17909" y="13976"/>
                  <a:pt x="18009" y="14004"/>
                  <a:pt x="18132" y="14015"/>
                </a:cubicBezTo>
              </a:path>
              <a:path w="4069" h="1266">
                <a:moveTo>
                  <a:pt x="18529" y="13444"/>
                </a:moveTo>
                <a:cubicBezTo>
                  <a:pt x="18481" y="13590"/>
                  <a:pt x="18455" y="13719"/>
                  <a:pt x="18430" y="13866"/>
                </a:cubicBezTo>
                <a:cubicBezTo>
                  <a:pt x="18408" y="13995"/>
                  <a:pt x="18401" y="14110"/>
                  <a:pt x="18430" y="14238"/>
                </a:cubicBezTo>
                <a:cubicBezTo>
                  <a:pt x="18449" y="14325"/>
                  <a:pt x="18448" y="14382"/>
                  <a:pt x="18504" y="14312"/>
                </a:cubicBezTo>
              </a:path>
              <a:path w="4069" h="1266">
                <a:moveTo>
                  <a:pt x="18802" y="13494"/>
                </a:moveTo>
                <a:cubicBezTo>
                  <a:pt x="18791" y="13589"/>
                  <a:pt x="18742" y="13673"/>
                  <a:pt x="18728" y="13767"/>
                </a:cubicBezTo>
                <a:cubicBezTo>
                  <a:pt x="18712" y="13876"/>
                  <a:pt x="18739" y="13987"/>
                  <a:pt x="18777" y="14089"/>
                </a:cubicBezTo>
                <a:cubicBezTo>
                  <a:pt x="18819" y="14203"/>
                  <a:pt x="18843" y="14279"/>
                  <a:pt x="18926" y="14362"/>
                </a:cubicBezTo>
                <a:cubicBezTo>
                  <a:pt x="18934" y="14370"/>
                  <a:pt x="18943" y="14379"/>
                  <a:pt x="18951" y="14387"/>
                </a:cubicBezTo>
                <a:cubicBezTo>
                  <a:pt x="19024" y="14366"/>
                  <a:pt x="19086" y="14296"/>
                  <a:pt x="19124" y="14213"/>
                </a:cubicBezTo>
                <a:cubicBezTo>
                  <a:pt x="19161" y="14133"/>
                  <a:pt x="19129" y="14056"/>
                  <a:pt x="19075" y="13990"/>
                </a:cubicBezTo>
                <a:cubicBezTo>
                  <a:pt x="19013" y="13914"/>
                  <a:pt x="18974" y="13955"/>
                  <a:pt x="18901" y="13965"/>
                </a:cubicBezTo>
                <a:cubicBezTo>
                  <a:pt x="18768" y="13983"/>
                  <a:pt x="18772" y="14026"/>
                  <a:pt x="18703" y="14139"/>
                </a:cubicBezTo>
                <a:cubicBezTo>
                  <a:pt x="18656" y="14216"/>
                  <a:pt x="18632" y="14276"/>
                  <a:pt x="18604" y="143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3840" y="5249880"/>
            <a:ext cx="411120" cy="393840"/>
          </a:xfrm>
          <a:custGeom>
            <a:avLst/>
            <a:gdLst/>
            <a:ahLst/>
            <a:rect l="l" t="t" r="r" b="b"/>
            <a:pathLst>
              <a:path w="1142" h="1093">
                <a:moveTo>
                  <a:pt x="13643" y="14684"/>
                </a:moveTo>
                <a:cubicBezTo>
                  <a:pt x="13643" y="14763"/>
                  <a:pt x="13610" y="14841"/>
                  <a:pt x="13568" y="14908"/>
                </a:cubicBezTo>
                <a:cubicBezTo>
                  <a:pt x="13484" y="15043"/>
                  <a:pt x="13419" y="15152"/>
                  <a:pt x="13370" y="15304"/>
                </a:cubicBezTo>
                <a:cubicBezTo>
                  <a:pt x="13333" y="15420"/>
                  <a:pt x="13329" y="15500"/>
                  <a:pt x="13395" y="15602"/>
                </a:cubicBezTo>
                <a:cubicBezTo>
                  <a:pt x="13442" y="15675"/>
                  <a:pt x="13509" y="15695"/>
                  <a:pt x="13593" y="15677"/>
                </a:cubicBezTo>
                <a:cubicBezTo>
                  <a:pt x="13708" y="15653"/>
                  <a:pt x="13759" y="15557"/>
                  <a:pt x="13791" y="15453"/>
                </a:cubicBezTo>
                <a:cubicBezTo>
                  <a:pt x="13830" y="15327"/>
                  <a:pt x="13860" y="15189"/>
                  <a:pt x="13841" y="15056"/>
                </a:cubicBezTo>
                <a:cubicBezTo>
                  <a:pt x="13821" y="14910"/>
                  <a:pt x="13763" y="14779"/>
                  <a:pt x="13692" y="14660"/>
                </a:cubicBezTo>
                <a:cubicBezTo>
                  <a:pt x="13668" y="14620"/>
                  <a:pt x="13546" y="14585"/>
                  <a:pt x="13593" y="14585"/>
                </a:cubicBezTo>
                <a:cubicBezTo>
                  <a:pt x="13601" y="14585"/>
                  <a:pt x="13610" y="14585"/>
                  <a:pt x="13618" y="14585"/>
                </a:cubicBezTo>
                <a:cubicBezTo>
                  <a:pt x="13678" y="14633"/>
                  <a:pt x="13750" y="14667"/>
                  <a:pt x="13816" y="14709"/>
                </a:cubicBezTo>
              </a:path>
              <a:path w="1142" h="1093">
                <a:moveTo>
                  <a:pt x="14039" y="14957"/>
                </a:moveTo>
                <a:cubicBezTo>
                  <a:pt x="14173" y="14979"/>
                  <a:pt x="14305" y="14999"/>
                  <a:pt x="14436" y="15032"/>
                </a:cubicBezTo>
              </a:path>
              <a:path w="1142" h="1093">
                <a:moveTo>
                  <a:pt x="14089" y="15255"/>
                </a:moveTo>
                <a:cubicBezTo>
                  <a:pt x="14197" y="15363"/>
                  <a:pt x="14249" y="15406"/>
                  <a:pt x="14412" y="15379"/>
                </a:cubicBezTo>
                <a:cubicBezTo>
                  <a:pt x="14437" y="15371"/>
                  <a:pt x="14461" y="15362"/>
                  <a:pt x="14486" y="153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84880" y="5295960"/>
            <a:ext cx="1276200" cy="438120"/>
          </a:xfrm>
          <a:custGeom>
            <a:avLst/>
            <a:gdLst/>
            <a:ahLst/>
            <a:rect l="l" t="t" r="r" b="b"/>
            <a:pathLst>
              <a:path w="3548" h="1217">
                <a:moveTo>
                  <a:pt x="15081" y="14709"/>
                </a:moveTo>
                <a:cubicBezTo>
                  <a:pt x="15006" y="14850"/>
                  <a:pt x="14961" y="14919"/>
                  <a:pt x="14957" y="15081"/>
                </a:cubicBezTo>
                <a:cubicBezTo>
                  <a:pt x="14952" y="15252"/>
                  <a:pt x="14998" y="15395"/>
                  <a:pt x="15106" y="15528"/>
                </a:cubicBezTo>
                <a:cubicBezTo>
                  <a:pt x="15131" y="15553"/>
                  <a:pt x="15155" y="15577"/>
                  <a:pt x="15180" y="15602"/>
                </a:cubicBezTo>
              </a:path>
              <a:path w="3548" h="1217">
                <a:moveTo>
                  <a:pt x="16446" y="14908"/>
                </a:moveTo>
                <a:cubicBezTo>
                  <a:pt x="16605" y="15075"/>
                  <a:pt x="16727" y="15203"/>
                  <a:pt x="16793" y="15429"/>
                </a:cubicBezTo>
                <a:cubicBezTo>
                  <a:pt x="16831" y="15558"/>
                  <a:pt x="16847" y="15720"/>
                  <a:pt x="16743" y="15825"/>
                </a:cubicBezTo>
                <a:cubicBezTo>
                  <a:pt x="16701" y="15867"/>
                  <a:pt x="16556" y="15932"/>
                  <a:pt x="16495" y="15925"/>
                </a:cubicBezTo>
                <a:cubicBezTo>
                  <a:pt x="16447" y="15901"/>
                  <a:pt x="16431" y="15894"/>
                  <a:pt x="16446" y="15850"/>
                </a:cubicBezTo>
              </a:path>
              <a:path w="3548" h="1217">
                <a:moveTo>
                  <a:pt x="17016" y="14957"/>
                </a:moveTo>
                <a:cubicBezTo>
                  <a:pt x="16940" y="15049"/>
                  <a:pt x="16865" y="15147"/>
                  <a:pt x="16892" y="15280"/>
                </a:cubicBezTo>
                <a:cubicBezTo>
                  <a:pt x="16951" y="15573"/>
                  <a:pt x="17173" y="15697"/>
                  <a:pt x="17413" y="15825"/>
                </a:cubicBezTo>
              </a:path>
              <a:path w="3548" h="1217">
                <a:moveTo>
                  <a:pt x="15056" y="15081"/>
                </a:moveTo>
                <a:cubicBezTo>
                  <a:pt x="15119" y="15223"/>
                  <a:pt x="15180" y="15329"/>
                  <a:pt x="15304" y="15429"/>
                </a:cubicBezTo>
                <a:cubicBezTo>
                  <a:pt x="15368" y="15471"/>
                  <a:pt x="15380" y="15487"/>
                  <a:pt x="15429" y="15478"/>
                </a:cubicBezTo>
              </a:path>
              <a:path w="3548" h="1217">
                <a:moveTo>
                  <a:pt x="15404" y="14908"/>
                </a:moveTo>
                <a:cubicBezTo>
                  <a:pt x="15313" y="15016"/>
                  <a:pt x="15193" y="15125"/>
                  <a:pt x="15131" y="15255"/>
                </a:cubicBezTo>
                <a:cubicBezTo>
                  <a:pt x="15094" y="15331"/>
                  <a:pt x="15056" y="15394"/>
                  <a:pt x="15056" y="15478"/>
                </a:cubicBezTo>
                <a:cubicBezTo>
                  <a:pt x="15056" y="15506"/>
                  <a:pt x="15058" y="15512"/>
                  <a:pt x="15081" y="15478"/>
                </a:cubicBezTo>
              </a:path>
              <a:path w="3548" h="1217">
                <a:moveTo>
                  <a:pt x="15429" y="15156"/>
                </a:moveTo>
                <a:cubicBezTo>
                  <a:pt x="15532" y="15176"/>
                  <a:pt x="15625" y="15196"/>
                  <a:pt x="15726" y="15205"/>
                </a:cubicBezTo>
              </a:path>
              <a:path w="3548" h="1217">
                <a:moveTo>
                  <a:pt x="15825" y="15032"/>
                </a:moveTo>
                <a:cubicBezTo>
                  <a:pt x="15801" y="15121"/>
                  <a:pt x="15790" y="15157"/>
                  <a:pt x="15850" y="15230"/>
                </a:cubicBezTo>
                <a:cubicBezTo>
                  <a:pt x="15909" y="15302"/>
                  <a:pt x="15938" y="15296"/>
                  <a:pt x="16024" y="15304"/>
                </a:cubicBezTo>
              </a:path>
              <a:path w="3548" h="1217">
                <a:moveTo>
                  <a:pt x="16123" y="14908"/>
                </a:moveTo>
                <a:cubicBezTo>
                  <a:pt x="16109" y="14991"/>
                  <a:pt x="16059" y="15072"/>
                  <a:pt x="16049" y="15156"/>
                </a:cubicBezTo>
                <a:cubicBezTo>
                  <a:pt x="16031" y="15300"/>
                  <a:pt x="16071" y="15437"/>
                  <a:pt x="16098" y="15577"/>
                </a:cubicBezTo>
              </a:path>
              <a:path w="3548" h="1217">
                <a:moveTo>
                  <a:pt x="17214" y="15280"/>
                </a:moveTo>
                <a:cubicBezTo>
                  <a:pt x="17319" y="15429"/>
                  <a:pt x="17446" y="15649"/>
                  <a:pt x="17587" y="15776"/>
                </a:cubicBezTo>
                <a:cubicBezTo>
                  <a:pt x="17603" y="15784"/>
                  <a:pt x="17620" y="15793"/>
                  <a:pt x="17636" y="15801"/>
                </a:cubicBezTo>
              </a:path>
              <a:path w="3548" h="1217">
                <a:moveTo>
                  <a:pt x="17537" y="15180"/>
                </a:moveTo>
                <a:cubicBezTo>
                  <a:pt x="17311" y="15377"/>
                  <a:pt x="17314" y="15350"/>
                  <a:pt x="17214" y="15553"/>
                </a:cubicBezTo>
                <a:cubicBezTo>
                  <a:pt x="17194" y="15593"/>
                  <a:pt x="17186" y="15600"/>
                  <a:pt x="17190" y="15627"/>
                </a:cubicBezTo>
              </a:path>
              <a:path w="3548" h="1217">
                <a:moveTo>
                  <a:pt x="17686" y="15404"/>
                </a:moveTo>
                <a:cubicBezTo>
                  <a:pt x="17810" y="15429"/>
                  <a:pt x="17851" y="15437"/>
                  <a:pt x="17934" y="15404"/>
                </a:cubicBezTo>
              </a:path>
              <a:path w="3548" h="1217">
                <a:moveTo>
                  <a:pt x="18157" y="15106"/>
                </a:moveTo>
                <a:cubicBezTo>
                  <a:pt x="18112" y="15167"/>
                  <a:pt x="18145" y="15159"/>
                  <a:pt x="18157" y="15230"/>
                </a:cubicBezTo>
                <a:cubicBezTo>
                  <a:pt x="18169" y="15300"/>
                  <a:pt x="18185" y="15325"/>
                  <a:pt x="18256" y="15354"/>
                </a:cubicBezTo>
              </a:path>
              <a:path w="3548" h="1217">
                <a:moveTo>
                  <a:pt x="18504" y="14908"/>
                </a:moveTo>
                <a:cubicBezTo>
                  <a:pt x="18485" y="15102"/>
                  <a:pt x="18479" y="15284"/>
                  <a:pt x="18479" y="15478"/>
                </a:cubicBezTo>
                <a:cubicBezTo>
                  <a:pt x="18479" y="15595"/>
                  <a:pt x="18481" y="15629"/>
                  <a:pt x="18455" y="157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66000" y="5392800"/>
            <a:ext cx="106200" cy="438120"/>
          </a:xfrm>
          <a:custGeom>
            <a:avLst/>
            <a:gdLst/>
            <a:ahLst/>
            <a:rect l="l" t="t" r="r" b="b"/>
            <a:pathLst>
              <a:path w="298" h="1216">
                <a:moveTo>
                  <a:pt x="19348" y="14982"/>
                </a:moveTo>
                <a:cubicBezTo>
                  <a:pt x="19524" y="15100"/>
                  <a:pt x="19581" y="15215"/>
                  <a:pt x="19621" y="15429"/>
                </a:cubicBezTo>
                <a:cubicBezTo>
                  <a:pt x="19661" y="15647"/>
                  <a:pt x="19650" y="15858"/>
                  <a:pt x="19596" y="16073"/>
                </a:cubicBezTo>
                <a:cubicBezTo>
                  <a:pt x="19566" y="16194"/>
                  <a:pt x="19499" y="16210"/>
                  <a:pt x="19397" y="161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52880" y="2224080"/>
            <a:ext cx="268200" cy="98280"/>
          </a:xfrm>
          <a:custGeom>
            <a:avLst/>
            <a:gdLst/>
            <a:ahLst/>
            <a:rect l="l" t="t" r="r" b="b"/>
            <a:pathLst>
              <a:path w="745" h="274">
                <a:moveTo>
                  <a:pt x="8756" y="6449"/>
                </a:moveTo>
                <a:cubicBezTo>
                  <a:pt x="8811" y="6449"/>
                  <a:pt x="8819" y="6431"/>
                  <a:pt x="8855" y="6375"/>
                </a:cubicBezTo>
                <a:cubicBezTo>
                  <a:pt x="8899" y="6307"/>
                  <a:pt x="8930" y="6267"/>
                  <a:pt x="9004" y="6226"/>
                </a:cubicBezTo>
                <a:cubicBezTo>
                  <a:pt x="9078" y="6185"/>
                  <a:pt x="9124" y="6156"/>
                  <a:pt x="9203" y="6201"/>
                </a:cubicBezTo>
                <a:cubicBezTo>
                  <a:pt x="9312" y="6263"/>
                  <a:pt x="9407" y="6339"/>
                  <a:pt x="9500" y="64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57880" y="5724360"/>
            <a:ext cx="849240" cy="588960"/>
          </a:xfrm>
          <a:custGeom>
            <a:avLst/>
            <a:gdLst/>
            <a:ahLst/>
            <a:rect l="l" t="t" r="r" b="b"/>
            <a:pathLst>
              <a:path w="2357" h="1638">
                <a:moveTo>
                  <a:pt x="15528" y="16321"/>
                </a:moveTo>
                <a:cubicBezTo>
                  <a:pt x="15506" y="16381"/>
                  <a:pt x="15444" y="16464"/>
                  <a:pt x="15429" y="16520"/>
                </a:cubicBezTo>
                <a:cubicBezTo>
                  <a:pt x="15417" y="16565"/>
                  <a:pt x="15404" y="16597"/>
                  <a:pt x="15404" y="16644"/>
                </a:cubicBezTo>
                <a:cubicBezTo>
                  <a:pt x="15404" y="16686"/>
                  <a:pt x="15439" y="16715"/>
                  <a:pt x="15478" y="16718"/>
                </a:cubicBezTo>
                <a:cubicBezTo>
                  <a:pt x="15549" y="16723"/>
                  <a:pt x="15601" y="16757"/>
                  <a:pt x="15677" y="16768"/>
                </a:cubicBezTo>
                <a:cubicBezTo>
                  <a:pt x="15755" y="16779"/>
                  <a:pt x="15824" y="16758"/>
                  <a:pt x="15900" y="16743"/>
                </a:cubicBezTo>
              </a:path>
              <a:path w="2357" h="1638">
                <a:moveTo>
                  <a:pt x="15900" y="16024"/>
                </a:moveTo>
                <a:cubicBezTo>
                  <a:pt x="15842" y="16280"/>
                  <a:pt x="15825" y="16440"/>
                  <a:pt x="15825" y="16694"/>
                </a:cubicBezTo>
                <a:cubicBezTo>
                  <a:pt x="15825" y="16847"/>
                  <a:pt x="15844" y="16990"/>
                  <a:pt x="15850" y="17140"/>
                </a:cubicBezTo>
                <a:cubicBezTo>
                  <a:pt x="15850" y="17181"/>
                  <a:pt x="15850" y="17189"/>
                  <a:pt x="15850" y="17214"/>
                </a:cubicBezTo>
              </a:path>
              <a:path w="2357" h="1638">
                <a:moveTo>
                  <a:pt x="16222" y="16942"/>
                </a:moveTo>
                <a:cubicBezTo>
                  <a:pt x="16197" y="17082"/>
                  <a:pt x="16165" y="17223"/>
                  <a:pt x="16148" y="17363"/>
                </a:cubicBezTo>
                <a:cubicBezTo>
                  <a:pt x="16146" y="17382"/>
                  <a:pt x="16133" y="17502"/>
                  <a:pt x="16123" y="17512"/>
                </a:cubicBezTo>
                <a:cubicBezTo>
                  <a:pt x="16098" y="17512"/>
                  <a:pt x="16090" y="17512"/>
                  <a:pt x="16098" y="17537"/>
                </a:cubicBezTo>
                <a:cubicBezTo>
                  <a:pt x="16125" y="17501"/>
                  <a:pt x="16128" y="17484"/>
                  <a:pt x="16148" y="17438"/>
                </a:cubicBezTo>
              </a:path>
              <a:path w="2357" h="1638">
                <a:moveTo>
                  <a:pt x="16619" y="16495"/>
                </a:moveTo>
                <a:cubicBezTo>
                  <a:pt x="16548" y="16592"/>
                  <a:pt x="16450" y="16687"/>
                  <a:pt x="16470" y="16818"/>
                </a:cubicBezTo>
                <a:cubicBezTo>
                  <a:pt x="16482" y="16901"/>
                  <a:pt x="16527" y="17079"/>
                  <a:pt x="16619" y="17115"/>
                </a:cubicBezTo>
                <a:cubicBezTo>
                  <a:pt x="16661" y="17131"/>
                  <a:pt x="16807" y="17125"/>
                  <a:pt x="16842" y="17090"/>
                </a:cubicBezTo>
                <a:cubicBezTo>
                  <a:pt x="16900" y="17033"/>
                  <a:pt x="16944" y="16920"/>
                  <a:pt x="16966" y="16842"/>
                </a:cubicBezTo>
                <a:cubicBezTo>
                  <a:pt x="17017" y="16665"/>
                  <a:pt x="16975" y="16572"/>
                  <a:pt x="16867" y="16421"/>
                </a:cubicBezTo>
                <a:cubicBezTo>
                  <a:pt x="16808" y="16338"/>
                  <a:pt x="16743" y="16302"/>
                  <a:pt x="16644" y="16297"/>
                </a:cubicBezTo>
                <a:cubicBezTo>
                  <a:pt x="16627" y="16297"/>
                  <a:pt x="16611" y="16297"/>
                  <a:pt x="16594" y="16297"/>
                </a:cubicBezTo>
              </a:path>
              <a:path w="2357" h="1638">
                <a:moveTo>
                  <a:pt x="15007" y="15900"/>
                </a:moveTo>
                <a:cubicBezTo>
                  <a:pt x="14920" y="16040"/>
                  <a:pt x="14854" y="16172"/>
                  <a:pt x="14883" y="16346"/>
                </a:cubicBezTo>
                <a:cubicBezTo>
                  <a:pt x="14925" y="16597"/>
                  <a:pt x="15066" y="16761"/>
                  <a:pt x="15230" y="16942"/>
                </a:cubicBezTo>
              </a:path>
              <a:path w="2357" h="1638">
                <a:moveTo>
                  <a:pt x="17190" y="16297"/>
                </a:moveTo>
                <a:cubicBezTo>
                  <a:pt x="17254" y="16540"/>
                  <a:pt x="17234" y="16745"/>
                  <a:pt x="17190" y="16991"/>
                </a:cubicBezTo>
                <a:cubicBezTo>
                  <a:pt x="17167" y="17121"/>
                  <a:pt x="17122" y="17250"/>
                  <a:pt x="17016" y="17338"/>
                </a:cubicBezTo>
                <a:cubicBezTo>
                  <a:pt x="16946" y="17385"/>
                  <a:pt x="16926" y="17402"/>
                  <a:pt x="16867" y="173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38800" y="4348080"/>
            <a:ext cx="3187440" cy="403200"/>
          </a:xfrm>
          <a:custGeom>
            <a:avLst/>
            <a:gdLst/>
            <a:ahLst/>
            <a:rect l="l" t="t" r="r" b="b"/>
            <a:pathLst>
              <a:path w="8856" h="1117">
                <a:moveTo>
                  <a:pt x="12353" y="12402"/>
                </a:moveTo>
                <a:cubicBezTo>
                  <a:pt x="12390" y="12368"/>
                  <a:pt x="12389" y="12360"/>
                  <a:pt x="12427" y="12328"/>
                </a:cubicBezTo>
                <a:cubicBezTo>
                  <a:pt x="12485" y="12279"/>
                  <a:pt x="12524" y="12243"/>
                  <a:pt x="12601" y="12204"/>
                </a:cubicBezTo>
                <a:cubicBezTo>
                  <a:pt x="12727" y="12141"/>
                  <a:pt x="12819" y="12091"/>
                  <a:pt x="12973" y="12080"/>
                </a:cubicBezTo>
                <a:cubicBezTo>
                  <a:pt x="13082" y="12073"/>
                  <a:pt x="13221" y="12108"/>
                  <a:pt x="13320" y="12154"/>
                </a:cubicBezTo>
                <a:cubicBezTo>
                  <a:pt x="13425" y="12203"/>
                  <a:pt x="13525" y="12288"/>
                  <a:pt x="13618" y="12353"/>
                </a:cubicBezTo>
                <a:cubicBezTo>
                  <a:pt x="13737" y="12436"/>
                  <a:pt x="13840" y="12547"/>
                  <a:pt x="13965" y="12626"/>
                </a:cubicBezTo>
                <a:cubicBezTo>
                  <a:pt x="14177" y="12760"/>
                  <a:pt x="14443" y="12840"/>
                  <a:pt x="14684" y="12898"/>
                </a:cubicBezTo>
                <a:cubicBezTo>
                  <a:pt x="14875" y="12944"/>
                  <a:pt x="15060" y="12946"/>
                  <a:pt x="15255" y="12948"/>
                </a:cubicBezTo>
                <a:cubicBezTo>
                  <a:pt x="15512" y="12951"/>
                  <a:pt x="15748" y="12913"/>
                  <a:pt x="15999" y="12874"/>
                </a:cubicBezTo>
                <a:cubicBezTo>
                  <a:pt x="16160" y="12849"/>
                  <a:pt x="16310" y="12815"/>
                  <a:pt x="16470" y="12774"/>
                </a:cubicBezTo>
                <a:cubicBezTo>
                  <a:pt x="16712" y="12711"/>
                  <a:pt x="16990" y="12621"/>
                  <a:pt x="17239" y="12626"/>
                </a:cubicBezTo>
                <a:cubicBezTo>
                  <a:pt x="17433" y="12630"/>
                  <a:pt x="17652" y="12720"/>
                  <a:pt x="17835" y="12774"/>
                </a:cubicBezTo>
                <a:cubicBezTo>
                  <a:pt x="18010" y="12825"/>
                  <a:pt x="18175" y="12888"/>
                  <a:pt x="18355" y="12923"/>
                </a:cubicBezTo>
                <a:cubicBezTo>
                  <a:pt x="18548" y="12960"/>
                  <a:pt x="18734" y="13011"/>
                  <a:pt x="18926" y="13047"/>
                </a:cubicBezTo>
                <a:cubicBezTo>
                  <a:pt x="19125" y="13084"/>
                  <a:pt x="19317" y="13157"/>
                  <a:pt x="19521" y="13171"/>
                </a:cubicBezTo>
                <a:cubicBezTo>
                  <a:pt x="19745" y="13186"/>
                  <a:pt x="19966" y="13194"/>
                  <a:pt x="20191" y="13196"/>
                </a:cubicBezTo>
                <a:cubicBezTo>
                  <a:pt x="20377" y="13198"/>
                  <a:pt x="20554" y="13189"/>
                  <a:pt x="20737" y="13171"/>
                </a:cubicBezTo>
                <a:cubicBezTo>
                  <a:pt x="20840" y="13161"/>
                  <a:pt x="20966" y="13171"/>
                  <a:pt x="21059" y="13122"/>
                </a:cubicBezTo>
                <a:cubicBezTo>
                  <a:pt x="21164" y="13067"/>
                  <a:pt x="21180" y="13067"/>
                  <a:pt x="21183" y="12948"/>
                </a:cubicBezTo>
                <a:cubicBezTo>
                  <a:pt x="21158" y="12907"/>
                  <a:pt x="21134" y="12865"/>
                  <a:pt x="21109" y="128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Y=x</a:t>
            </a:r>
            <a:r>
              <a:rPr b="1" lang="en-US" sz="4400" spc="-1" strike="noStrike" baseline="30000">
                <a:solidFill>
                  <a:srgbClr val="dddddd"/>
                </a:solidFill>
                <a:latin typeface="Garamond"/>
              </a:rPr>
              <a:t>2</a:t>
            </a: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-x+5/4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207" name="handygraph1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233960" cy="43434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48200" y="1357200"/>
            <a:ext cx="822600" cy="581040"/>
          </a:xfrm>
          <a:custGeom>
            <a:avLst/>
            <a:gdLst/>
            <a:ahLst/>
            <a:rect l="l" t="t" r="r" b="b"/>
            <a:pathLst>
              <a:path w="2283" h="1614">
                <a:moveTo>
                  <a:pt x="16594" y="3845"/>
                </a:moveTo>
                <a:cubicBezTo>
                  <a:pt x="16551" y="3897"/>
                  <a:pt x="16526" y="3953"/>
                  <a:pt x="16495" y="4018"/>
                </a:cubicBezTo>
                <a:cubicBezTo>
                  <a:pt x="16432" y="4149"/>
                  <a:pt x="16362" y="4301"/>
                  <a:pt x="16321" y="4440"/>
                </a:cubicBezTo>
                <a:cubicBezTo>
                  <a:pt x="16278" y="4586"/>
                  <a:pt x="16251" y="4759"/>
                  <a:pt x="16247" y="4911"/>
                </a:cubicBezTo>
                <a:cubicBezTo>
                  <a:pt x="16244" y="5041"/>
                  <a:pt x="16270" y="5209"/>
                  <a:pt x="16396" y="5283"/>
                </a:cubicBezTo>
                <a:cubicBezTo>
                  <a:pt x="16549" y="5372"/>
                  <a:pt x="16712" y="5297"/>
                  <a:pt x="16867" y="5259"/>
                </a:cubicBezTo>
              </a:path>
              <a:path w="2283" h="1614">
                <a:moveTo>
                  <a:pt x="17041" y="4018"/>
                </a:moveTo>
                <a:cubicBezTo>
                  <a:pt x="17047" y="4159"/>
                  <a:pt x="17063" y="4260"/>
                  <a:pt x="17090" y="4390"/>
                </a:cubicBezTo>
                <a:cubicBezTo>
                  <a:pt x="17096" y="4421"/>
                  <a:pt x="17107" y="4435"/>
                  <a:pt x="17115" y="4465"/>
                </a:cubicBezTo>
              </a:path>
              <a:path w="2283" h="1614">
                <a:moveTo>
                  <a:pt x="16818" y="4465"/>
                </a:moveTo>
                <a:cubicBezTo>
                  <a:pt x="16959" y="4449"/>
                  <a:pt x="17104" y="4449"/>
                  <a:pt x="17239" y="4415"/>
                </a:cubicBezTo>
              </a:path>
              <a:path w="2283" h="1614">
                <a:moveTo>
                  <a:pt x="16867" y="4762"/>
                </a:moveTo>
                <a:cubicBezTo>
                  <a:pt x="16971" y="4755"/>
                  <a:pt x="17063" y="4721"/>
                  <a:pt x="17165" y="4713"/>
                </a:cubicBezTo>
                <a:cubicBezTo>
                  <a:pt x="17259" y="4713"/>
                  <a:pt x="17280" y="4692"/>
                  <a:pt x="17314" y="4738"/>
                </a:cubicBezTo>
                <a:cubicBezTo>
                  <a:pt x="17314" y="4805"/>
                  <a:pt x="17304" y="4854"/>
                  <a:pt x="17264" y="4911"/>
                </a:cubicBezTo>
                <a:cubicBezTo>
                  <a:pt x="17222" y="4972"/>
                  <a:pt x="17160" y="5027"/>
                  <a:pt x="17115" y="5085"/>
                </a:cubicBezTo>
                <a:cubicBezTo>
                  <a:pt x="17090" y="5110"/>
                  <a:pt x="17082" y="5118"/>
                  <a:pt x="17066" y="5135"/>
                </a:cubicBezTo>
                <a:cubicBezTo>
                  <a:pt x="17130" y="5173"/>
                  <a:pt x="17190" y="5163"/>
                  <a:pt x="17264" y="5135"/>
                </a:cubicBezTo>
                <a:cubicBezTo>
                  <a:pt x="17324" y="5105"/>
                  <a:pt x="17350" y="5090"/>
                  <a:pt x="17388" y="5060"/>
                </a:cubicBezTo>
              </a:path>
              <a:path w="2283" h="1614">
                <a:moveTo>
                  <a:pt x="17636" y="4986"/>
                </a:moveTo>
                <a:cubicBezTo>
                  <a:pt x="17609" y="5151"/>
                  <a:pt x="17587" y="5236"/>
                  <a:pt x="17587" y="5383"/>
                </a:cubicBezTo>
              </a:path>
              <a:path w="2283" h="1614">
                <a:moveTo>
                  <a:pt x="17934" y="4217"/>
                </a:moveTo>
                <a:cubicBezTo>
                  <a:pt x="17969" y="4356"/>
                  <a:pt x="18004" y="4496"/>
                  <a:pt x="18008" y="4638"/>
                </a:cubicBezTo>
                <a:cubicBezTo>
                  <a:pt x="18009" y="4683"/>
                  <a:pt x="17993" y="4898"/>
                  <a:pt x="18008" y="4862"/>
                </a:cubicBezTo>
                <a:cubicBezTo>
                  <a:pt x="18016" y="4845"/>
                  <a:pt x="18025" y="4829"/>
                  <a:pt x="18033" y="4812"/>
                </a:cubicBezTo>
              </a:path>
              <a:path w="2283" h="1614">
                <a:moveTo>
                  <a:pt x="18107" y="3770"/>
                </a:moveTo>
                <a:cubicBezTo>
                  <a:pt x="18278" y="3957"/>
                  <a:pt x="18371" y="4101"/>
                  <a:pt x="18455" y="4341"/>
                </a:cubicBezTo>
                <a:cubicBezTo>
                  <a:pt x="18517" y="4519"/>
                  <a:pt x="18566" y="4663"/>
                  <a:pt x="18479" y="4837"/>
                </a:cubicBezTo>
                <a:cubicBezTo>
                  <a:pt x="18430" y="4911"/>
                  <a:pt x="18413" y="4936"/>
                  <a:pt x="18380" y="49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37080" y="1776240"/>
            <a:ext cx="911160" cy="339840"/>
          </a:xfrm>
          <a:custGeom>
            <a:avLst/>
            <a:gdLst/>
            <a:ahLst/>
            <a:rect l="l" t="t" r="r" b="b"/>
            <a:pathLst>
              <a:path w="2531" h="944">
                <a:moveTo>
                  <a:pt x="12601" y="5333"/>
                </a:moveTo>
                <a:cubicBezTo>
                  <a:pt x="12610" y="5411"/>
                  <a:pt x="12629" y="5507"/>
                  <a:pt x="12650" y="5581"/>
                </a:cubicBezTo>
                <a:cubicBezTo>
                  <a:pt x="12673" y="5662"/>
                  <a:pt x="12694" y="5745"/>
                  <a:pt x="12700" y="5829"/>
                </a:cubicBezTo>
                <a:cubicBezTo>
                  <a:pt x="12700" y="5857"/>
                  <a:pt x="12702" y="5868"/>
                  <a:pt x="12725" y="5879"/>
                </a:cubicBezTo>
                <a:cubicBezTo>
                  <a:pt x="12751" y="5870"/>
                  <a:pt x="12789" y="5822"/>
                  <a:pt x="12799" y="5779"/>
                </a:cubicBezTo>
                <a:cubicBezTo>
                  <a:pt x="12818" y="5698"/>
                  <a:pt x="12859" y="5615"/>
                  <a:pt x="12874" y="5531"/>
                </a:cubicBezTo>
                <a:cubicBezTo>
                  <a:pt x="12893" y="5425"/>
                  <a:pt x="12935" y="5313"/>
                  <a:pt x="12948" y="5209"/>
                </a:cubicBezTo>
                <a:cubicBezTo>
                  <a:pt x="12958" y="5131"/>
                  <a:pt x="12980" y="5084"/>
                  <a:pt x="12998" y="5011"/>
                </a:cubicBezTo>
                <a:cubicBezTo>
                  <a:pt x="12998" y="5003"/>
                  <a:pt x="12998" y="4994"/>
                  <a:pt x="12998" y="4986"/>
                </a:cubicBezTo>
              </a:path>
              <a:path w="2531" h="944">
                <a:moveTo>
                  <a:pt x="12998" y="5507"/>
                </a:moveTo>
                <a:cubicBezTo>
                  <a:pt x="13079" y="5547"/>
                  <a:pt x="13082" y="5564"/>
                  <a:pt x="13146" y="5507"/>
                </a:cubicBezTo>
                <a:cubicBezTo>
                  <a:pt x="13185" y="5472"/>
                  <a:pt x="13235" y="5385"/>
                  <a:pt x="13246" y="5333"/>
                </a:cubicBezTo>
                <a:cubicBezTo>
                  <a:pt x="13256" y="5286"/>
                  <a:pt x="13241" y="5195"/>
                  <a:pt x="13221" y="5159"/>
                </a:cubicBezTo>
                <a:cubicBezTo>
                  <a:pt x="13203" y="5127"/>
                  <a:pt x="13175" y="5117"/>
                  <a:pt x="13146" y="5110"/>
                </a:cubicBezTo>
                <a:cubicBezTo>
                  <a:pt x="13128" y="5186"/>
                  <a:pt x="13080" y="5245"/>
                  <a:pt x="13072" y="5333"/>
                </a:cubicBezTo>
                <a:cubicBezTo>
                  <a:pt x="13065" y="5412"/>
                  <a:pt x="13026" y="5500"/>
                  <a:pt x="13047" y="5581"/>
                </a:cubicBezTo>
                <a:cubicBezTo>
                  <a:pt x="13064" y="5646"/>
                  <a:pt x="13082" y="5720"/>
                  <a:pt x="13122" y="5779"/>
                </a:cubicBezTo>
                <a:cubicBezTo>
                  <a:pt x="13151" y="5822"/>
                  <a:pt x="13174" y="5829"/>
                  <a:pt x="13221" y="5829"/>
                </a:cubicBezTo>
                <a:cubicBezTo>
                  <a:pt x="13264" y="5829"/>
                  <a:pt x="13290" y="5784"/>
                  <a:pt x="13320" y="5755"/>
                </a:cubicBezTo>
              </a:path>
              <a:path w="2531" h="944">
                <a:moveTo>
                  <a:pt x="13444" y="5383"/>
                </a:moveTo>
                <a:cubicBezTo>
                  <a:pt x="13444" y="5418"/>
                  <a:pt x="13444" y="5710"/>
                  <a:pt x="13444" y="5680"/>
                </a:cubicBezTo>
                <a:cubicBezTo>
                  <a:pt x="13444" y="5633"/>
                  <a:pt x="13422" y="5601"/>
                  <a:pt x="13419" y="5556"/>
                </a:cubicBezTo>
                <a:cubicBezTo>
                  <a:pt x="13415" y="5493"/>
                  <a:pt x="13444" y="5415"/>
                  <a:pt x="13469" y="5358"/>
                </a:cubicBezTo>
                <a:cubicBezTo>
                  <a:pt x="13503" y="5281"/>
                  <a:pt x="13561" y="5234"/>
                  <a:pt x="13618" y="5184"/>
                </a:cubicBezTo>
                <a:cubicBezTo>
                  <a:pt x="13634" y="5168"/>
                  <a:pt x="13651" y="5151"/>
                  <a:pt x="13667" y="5135"/>
                </a:cubicBezTo>
              </a:path>
              <a:path w="2531" h="944">
                <a:moveTo>
                  <a:pt x="13990" y="4936"/>
                </a:moveTo>
                <a:cubicBezTo>
                  <a:pt x="14009" y="5065"/>
                  <a:pt x="14015" y="5178"/>
                  <a:pt x="14015" y="5308"/>
                </a:cubicBezTo>
                <a:cubicBezTo>
                  <a:pt x="14015" y="5394"/>
                  <a:pt x="14039" y="5469"/>
                  <a:pt x="14039" y="5556"/>
                </a:cubicBezTo>
                <a:cubicBezTo>
                  <a:pt x="14039" y="5605"/>
                  <a:pt x="14054" y="5642"/>
                  <a:pt x="14015" y="5655"/>
                </a:cubicBezTo>
              </a:path>
              <a:path w="2531" h="944">
                <a:moveTo>
                  <a:pt x="13692" y="5358"/>
                </a:moveTo>
                <a:cubicBezTo>
                  <a:pt x="13781" y="5350"/>
                  <a:pt x="13852" y="5321"/>
                  <a:pt x="13940" y="5308"/>
                </a:cubicBezTo>
                <a:cubicBezTo>
                  <a:pt x="13992" y="5308"/>
                  <a:pt x="14010" y="5307"/>
                  <a:pt x="14039" y="5283"/>
                </a:cubicBezTo>
              </a:path>
              <a:path w="2531" h="944">
                <a:moveTo>
                  <a:pt x="14163" y="5482"/>
                </a:moveTo>
                <a:cubicBezTo>
                  <a:pt x="14222" y="5499"/>
                  <a:pt x="14240" y="5502"/>
                  <a:pt x="14288" y="5457"/>
                </a:cubicBezTo>
                <a:cubicBezTo>
                  <a:pt x="14342" y="5406"/>
                  <a:pt x="14370" y="5377"/>
                  <a:pt x="14387" y="5308"/>
                </a:cubicBezTo>
                <a:cubicBezTo>
                  <a:pt x="14395" y="5275"/>
                  <a:pt x="14404" y="5242"/>
                  <a:pt x="14412" y="5209"/>
                </a:cubicBezTo>
              </a:path>
              <a:path w="2531" h="944">
                <a:moveTo>
                  <a:pt x="14288" y="5159"/>
                </a:moveTo>
                <a:cubicBezTo>
                  <a:pt x="14210" y="5221"/>
                  <a:pt x="14161" y="5278"/>
                  <a:pt x="14139" y="5383"/>
                </a:cubicBezTo>
                <a:cubicBezTo>
                  <a:pt x="14121" y="5469"/>
                  <a:pt x="14158" y="5562"/>
                  <a:pt x="14238" y="5606"/>
                </a:cubicBezTo>
                <a:cubicBezTo>
                  <a:pt x="14291" y="5635"/>
                  <a:pt x="14411" y="5603"/>
                  <a:pt x="14461" y="5581"/>
                </a:cubicBezTo>
              </a:path>
              <a:path w="2531" h="944">
                <a:moveTo>
                  <a:pt x="14511" y="5209"/>
                </a:moveTo>
                <a:cubicBezTo>
                  <a:pt x="14537" y="5301"/>
                  <a:pt x="14567" y="5372"/>
                  <a:pt x="14610" y="5457"/>
                </a:cubicBezTo>
                <a:cubicBezTo>
                  <a:pt x="14635" y="5506"/>
                  <a:pt x="14701" y="5567"/>
                  <a:pt x="14759" y="5581"/>
                </a:cubicBezTo>
                <a:cubicBezTo>
                  <a:pt x="14809" y="5593"/>
                  <a:pt x="14872" y="5589"/>
                  <a:pt x="14908" y="5556"/>
                </a:cubicBezTo>
                <a:cubicBezTo>
                  <a:pt x="14932" y="5531"/>
                  <a:pt x="14940" y="5523"/>
                  <a:pt x="14957" y="5507"/>
                </a:cubicBezTo>
              </a:path>
              <a:path w="2531" h="944">
                <a:moveTo>
                  <a:pt x="14734" y="5209"/>
                </a:moveTo>
                <a:cubicBezTo>
                  <a:pt x="14646" y="5319"/>
                  <a:pt x="14569" y="5404"/>
                  <a:pt x="14511" y="5531"/>
                </a:cubicBezTo>
                <a:cubicBezTo>
                  <a:pt x="14487" y="5583"/>
                  <a:pt x="14464" y="5618"/>
                  <a:pt x="14412" y="5631"/>
                </a:cubicBezTo>
                <a:cubicBezTo>
                  <a:pt x="14436" y="5606"/>
                  <a:pt x="14444" y="5597"/>
                  <a:pt x="14461" y="5581"/>
                </a:cubicBezTo>
              </a:path>
              <a:path w="2531" h="944">
                <a:moveTo>
                  <a:pt x="15131" y="5035"/>
                </a:moveTo>
                <a:cubicBezTo>
                  <a:pt x="15131" y="5043"/>
                  <a:pt x="15131" y="5052"/>
                  <a:pt x="15131" y="5060"/>
                </a:cubicBezTo>
              </a:path>
              <a:path w="2531" h="944">
                <a:moveTo>
                  <a:pt x="15056" y="5407"/>
                </a:moveTo>
                <a:cubicBezTo>
                  <a:pt x="15064" y="5415"/>
                  <a:pt x="15073" y="5424"/>
                  <a:pt x="15081" y="54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46760" y="2125800"/>
            <a:ext cx="1536480" cy="704880"/>
          </a:xfrm>
          <a:custGeom>
            <a:avLst/>
            <a:gdLst/>
            <a:ahLst/>
            <a:rect l="l" t="t" r="r" b="b"/>
            <a:pathLst>
              <a:path w="4267" h="1960">
                <a:moveTo>
                  <a:pt x="13915" y="6424"/>
                </a:moveTo>
                <a:cubicBezTo>
                  <a:pt x="13941" y="6533"/>
                  <a:pt x="13976" y="6597"/>
                  <a:pt x="14015" y="6697"/>
                </a:cubicBezTo>
                <a:cubicBezTo>
                  <a:pt x="14053" y="6795"/>
                  <a:pt x="14082" y="6824"/>
                  <a:pt x="14139" y="6896"/>
                </a:cubicBezTo>
                <a:cubicBezTo>
                  <a:pt x="14174" y="6939"/>
                  <a:pt x="14197" y="6979"/>
                  <a:pt x="14238" y="7020"/>
                </a:cubicBezTo>
                <a:cubicBezTo>
                  <a:pt x="14261" y="7043"/>
                  <a:pt x="14265" y="7051"/>
                  <a:pt x="14288" y="7045"/>
                </a:cubicBezTo>
              </a:path>
              <a:path w="4267" h="1960">
                <a:moveTo>
                  <a:pt x="14163" y="6350"/>
                </a:moveTo>
                <a:cubicBezTo>
                  <a:pt x="14096" y="6454"/>
                  <a:pt x="14033" y="6573"/>
                  <a:pt x="13965" y="6672"/>
                </a:cubicBezTo>
                <a:cubicBezTo>
                  <a:pt x="13939" y="6710"/>
                  <a:pt x="13856" y="6824"/>
                  <a:pt x="13816" y="6846"/>
                </a:cubicBezTo>
                <a:cubicBezTo>
                  <a:pt x="13795" y="6858"/>
                  <a:pt x="13767" y="6865"/>
                  <a:pt x="13742" y="6871"/>
                </a:cubicBezTo>
                <a:cubicBezTo>
                  <a:pt x="13742" y="6843"/>
                  <a:pt x="13744" y="6832"/>
                  <a:pt x="13767" y="6821"/>
                </a:cubicBezTo>
              </a:path>
              <a:path w="4267" h="1960">
                <a:moveTo>
                  <a:pt x="14387" y="6474"/>
                </a:moveTo>
                <a:cubicBezTo>
                  <a:pt x="14470" y="6474"/>
                  <a:pt x="14552" y="6474"/>
                  <a:pt x="14635" y="6474"/>
                </a:cubicBezTo>
              </a:path>
              <a:path w="4267" h="1960">
                <a:moveTo>
                  <a:pt x="14362" y="6672"/>
                </a:moveTo>
                <a:cubicBezTo>
                  <a:pt x="14420" y="6697"/>
                  <a:pt x="14447" y="6697"/>
                  <a:pt x="14511" y="6697"/>
                </a:cubicBezTo>
                <a:cubicBezTo>
                  <a:pt x="14516" y="6697"/>
                  <a:pt x="14647" y="6709"/>
                  <a:pt x="14635" y="6672"/>
                </a:cubicBezTo>
                <a:cubicBezTo>
                  <a:pt x="14610" y="6672"/>
                  <a:pt x="14602" y="6672"/>
                  <a:pt x="14635" y="6672"/>
                </a:cubicBezTo>
              </a:path>
              <a:path w="4267" h="1960">
                <a:moveTo>
                  <a:pt x="15577" y="5928"/>
                </a:moveTo>
                <a:cubicBezTo>
                  <a:pt x="15542" y="5905"/>
                  <a:pt x="15536" y="5960"/>
                  <a:pt x="15528" y="6028"/>
                </a:cubicBezTo>
                <a:cubicBezTo>
                  <a:pt x="15516" y="6131"/>
                  <a:pt x="15484" y="6245"/>
                  <a:pt x="15503" y="6350"/>
                </a:cubicBezTo>
                <a:cubicBezTo>
                  <a:pt x="15514" y="6412"/>
                  <a:pt x="15531" y="6491"/>
                  <a:pt x="15553" y="6548"/>
                </a:cubicBezTo>
                <a:cubicBezTo>
                  <a:pt x="15572" y="6595"/>
                  <a:pt x="15599" y="6652"/>
                  <a:pt x="15602" y="6697"/>
                </a:cubicBezTo>
                <a:cubicBezTo>
                  <a:pt x="15602" y="6739"/>
                  <a:pt x="15602" y="6747"/>
                  <a:pt x="15602" y="6772"/>
                </a:cubicBezTo>
              </a:path>
              <a:path w="4267" h="1960">
                <a:moveTo>
                  <a:pt x="15156" y="6896"/>
                </a:moveTo>
                <a:cubicBezTo>
                  <a:pt x="15271" y="6873"/>
                  <a:pt x="15388" y="6867"/>
                  <a:pt x="15503" y="6846"/>
                </a:cubicBezTo>
                <a:cubicBezTo>
                  <a:pt x="15619" y="6825"/>
                  <a:pt x="15736" y="6841"/>
                  <a:pt x="15850" y="6821"/>
                </a:cubicBezTo>
                <a:cubicBezTo>
                  <a:pt x="15937" y="6805"/>
                  <a:pt x="16009" y="6796"/>
                  <a:pt x="16098" y="6796"/>
                </a:cubicBezTo>
                <a:cubicBezTo>
                  <a:pt x="16140" y="6796"/>
                  <a:pt x="16148" y="6796"/>
                  <a:pt x="16173" y="6796"/>
                </a:cubicBezTo>
                <a:cubicBezTo>
                  <a:pt x="16162" y="6765"/>
                  <a:pt x="16093" y="6762"/>
                  <a:pt x="16123" y="6747"/>
                </a:cubicBezTo>
                <a:cubicBezTo>
                  <a:pt x="16131" y="6747"/>
                  <a:pt x="16140" y="6747"/>
                  <a:pt x="16148" y="6747"/>
                </a:cubicBezTo>
              </a:path>
              <a:path w="4267" h="1960">
                <a:moveTo>
                  <a:pt x="14932" y="7293"/>
                </a:moveTo>
                <a:cubicBezTo>
                  <a:pt x="14882" y="7259"/>
                  <a:pt x="14902" y="7309"/>
                  <a:pt x="14908" y="7293"/>
                </a:cubicBezTo>
                <a:cubicBezTo>
                  <a:pt x="14920" y="7264"/>
                  <a:pt x="14909" y="7230"/>
                  <a:pt x="14932" y="7218"/>
                </a:cubicBezTo>
                <a:cubicBezTo>
                  <a:pt x="14979" y="7194"/>
                  <a:pt x="15003" y="7182"/>
                  <a:pt x="15056" y="7218"/>
                </a:cubicBezTo>
                <a:cubicBezTo>
                  <a:pt x="15117" y="7259"/>
                  <a:pt x="15128" y="7323"/>
                  <a:pt x="15131" y="7392"/>
                </a:cubicBezTo>
                <a:cubicBezTo>
                  <a:pt x="15136" y="7501"/>
                  <a:pt x="15123" y="7588"/>
                  <a:pt x="15081" y="7689"/>
                </a:cubicBezTo>
                <a:cubicBezTo>
                  <a:pt x="15056" y="7750"/>
                  <a:pt x="15028" y="7793"/>
                  <a:pt x="14982" y="7838"/>
                </a:cubicBezTo>
                <a:cubicBezTo>
                  <a:pt x="14953" y="7867"/>
                  <a:pt x="14882" y="7886"/>
                  <a:pt x="14858" y="7838"/>
                </a:cubicBezTo>
                <a:cubicBezTo>
                  <a:pt x="14835" y="7792"/>
                  <a:pt x="14820" y="7761"/>
                  <a:pt x="14858" y="7714"/>
                </a:cubicBezTo>
                <a:cubicBezTo>
                  <a:pt x="14903" y="7658"/>
                  <a:pt x="14932" y="7718"/>
                  <a:pt x="14982" y="7739"/>
                </a:cubicBezTo>
                <a:cubicBezTo>
                  <a:pt x="15047" y="7766"/>
                  <a:pt x="15098" y="7812"/>
                  <a:pt x="15156" y="7838"/>
                </a:cubicBezTo>
                <a:cubicBezTo>
                  <a:pt x="15180" y="7838"/>
                  <a:pt x="15189" y="7838"/>
                  <a:pt x="15205" y="7838"/>
                </a:cubicBezTo>
              </a:path>
              <a:path w="4267" h="1960">
                <a:moveTo>
                  <a:pt x="15404" y="7293"/>
                </a:moveTo>
                <a:cubicBezTo>
                  <a:pt x="15393" y="7466"/>
                  <a:pt x="15302" y="7740"/>
                  <a:pt x="15528" y="7789"/>
                </a:cubicBezTo>
                <a:cubicBezTo>
                  <a:pt x="15578" y="7800"/>
                  <a:pt x="15608" y="7781"/>
                  <a:pt x="15652" y="7764"/>
                </a:cubicBezTo>
              </a:path>
              <a:path w="4267" h="1960">
                <a:moveTo>
                  <a:pt x="15850" y="7317"/>
                </a:moveTo>
                <a:cubicBezTo>
                  <a:pt x="15850" y="7457"/>
                  <a:pt x="15850" y="7580"/>
                  <a:pt x="15875" y="7714"/>
                </a:cubicBezTo>
                <a:cubicBezTo>
                  <a:pt x="15875" y="7722"/>
                  <a:pt x="15875" y="7731"/>
                  <a:pt x="15875" y="7739"/>
                </a:cubicBezTo>
              </a:path>
              <a:path w="4267" h="1960">
                <a:moveTo>
                  <a:pt x="15875" y="6995"/>
                </a:moveTo>
                <a:cubicBezTo>
                  <a:pt x="15989" y="7095"/>
                  <a:pt x="16112" y="7208"/>
                  <a:pt x="16148" y="7367"/>
                </a:cubicBezTo>
                <a:cubicBezTo>
                  <a:pt x="16168" y="7459"/>
                  <a:pt x="16155" y="7602"/>
                  <a:pt x="16123" y="7689"/>
                </a:cubicBezTo>
                <a:cubicBezTo>
                  <a:pt x="16117" y="7706"/>
                  <a:pt x="16020" y="7842"/>
                  <a:pt x="15999" y="7789"/>
                </a:cubicBezTo>
                <a:cubicBezTo>
                  <a:pt x="15999" y="7772"/>
                  <a:pt x="15999" y="7756"/>
                  <a:pt x="15999" y="7739"/>
                </a:cubicBezTo>
              </a:path>
              <a:path w="4267" h="1960">
                <a:moveTo>
                  <a:pt x="16520" y="6672"/>
                </a:moveTo>
                <a:cubicBezTo>
                  <a:pt x="16637" y="6633"/>
                  <a:pt x="16699" y="6623"/>
                  <a:pt x="16818" y="6623"/>
                </a:cubicBezTo>
              </a:path>
              <a:path w="4267" h="1960">
                <a:moveTo>
                  <a:pt x="16545" y="6921"/>
                </a:moveTo>
                <a:cubicBezTo>
                  <a:pt x="16682" y="6913"/>
                  <a:pt x="16703" y="6913"/>
                  <a:pt x="16818" y="6846"/>
                </a:cubicBezTo>
              </a:path>
              <a:path w="4267" h="1960">
                <a:moveTo>
                  <a:pt x="17338" y="5928"/>
                </a:moveTo>
                <a:cubicBezTo>
                  <a:pt x="17357" y="6059"/>
                  <a:pt x="17390" y="6173"/>
                  <a:pt x="17413" y="6300"/>
                </a:cubicBezTo>
                <a:cubicBezTo>
                  <a:pt x="17426" y="6371"/>
                  <a:pt x="17450" y="6413"/>
                  <a:pt x="17413" y="6474"/>
                </a:cubicBezTo>
              </a:path>
              <a:path w="4267" h="1960">
                <a:moveTo>
                  <a:pt x="17140" y="6573"/>
                </a:moveTo>
                <a:cubicBezTo>
                  <a:pt x="17284" y="6538"/>
                  <a:pt x="17420" y="6513"/>
                  <a:pt x="17562" y="6474"/>
                </a:cubicBezTo>
                <a:cubicBezTo>
                  <a:pt x="17646" y="6453"/>
                  <a:pt x="17665" y="6451"/>
                  <a:pt x="17711" y="6424"/>
                </a:cubicBezTo>
              </a:path>
              <a:path w="4267" h="1960">
                <a:moveTo>
                  <a:pt x="17314" y="6821"/>
                </a:moveTo>
                <a:cubicBezTo>
                  <a:pt x="17367" y="6810"/>
                  <a:pt x="17436" y="6789"/>
                  <a:pt x="17487" y="6772"/>
                </a:cubicBezTo>
                <a:cubicBezTo>
                  <a:pt x="17534" y="6756"/>
                  <a:pt x="17633" y="6716"/>
                  <a:pt x="17661" y="6796"/>
                </a:cubicBezTo>
                <a:cubicBezTo>
                  <a:pt x="17690" y="6877"/>
                  <a:pt x="17626" y="6957"/>
                  <a:pt x="17587" y="7020"/>
                </a:cubicBezTo>
                <a:cubicBezTo>
                  <a:pt x="17539" y="7097"/>
                  <a:pt x="17477" y="7154"/>
                  <a:pt x="17413" y="7218"/>
                </a:cubicBezTo>
                <a:cubicBezTo>
                  <a:pt x="17363" y="7268"/>
                  <a:pt x="17359" y="7259"/>
                  <a:pt x="17314" y="7293"/>
                </a:cubicBezTo>
                <a:cubicBezTo>
                  <a:pt x="17528" y="7293"/>
                  <a:pt x="17754" y="7274"/>
                  <a:pt x="17959" y="7317"/>
                </a:cubicBezTo>
                <a:cubicBezTo>
                  <a:pt x="18027" y="7331"/>
                  <a:pt x="18000" y="7317"/>
                  <a:pt x="17959" y="72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46760" y="2874960"/>
            <a:ext cx="2554200" cy="689040"/>
          </a:xfrm>
          <a:custGeom>
            <a:avLst/>
            <a:gdLst/>
            <a:ahLst/>
            <a:rect l="l" t="t" r="r" b="b"/>
            <a:pathLst>
              <a:path w="7095" h="1911">
                <a:moveTo>
                  <a:pt x="13742" y="8806"/>
                </a:moveTo>
                <a:cubicBezTo>
                  <a:pt x="13800" y="8905"/>
                  <a:pt x="13841" y="9013"/>
                  <a:pt x="13915" y="9103"/>
                </a:cubicBezTo>
                <a:cubicBezTo>
                  <a:pt x="13961" y="9159"/>
                  <a:pt x="14030" y="9217"/>
                  <a:pt x="14089" y="9227"/>
                </a:cubicBezTo>
                <a:cubicBezTo>
                  <a:pt x="14124" y="9227"/>
                  <a:pt x="14137" y="9218"/>
                  <a:pt x="14139" y="9178"/>
                </a:cubicBezTo>
              </a:path>
              <a:path w="7095" h="1911">
                <a:moveTo>
                  <a:pt x="14163" y="8582"/>
                </a:moveTo>
                <a:cubicBezTo>
                  <a:pt x="14152" y="8683"/>
                  <a:pt x="14133" y="8780"/>
                  <a:pt x="14114" y="8880"/>
                </a:cubicBezTo>
                <a:cubicBezTo>
                  <a:pt x="14082" y="9051"/>
                  <a:pt x="14068" y="9228"/>
                  <a:pt x="14064" y="9401"/>
                </a:cubicBezTo>
                <a:cubicBezTo>
                  <a:pt x="14062" y="9502"/>
                  <a:pt x="14064" y="9914"/>
                  <a:pt x="14064" y="9847"/>
                </a:cubicBezTo>
              </a:path>
              <a:path w="7095" h="1911">
                <a:moveTo>
                  <a:pt x="14560" y="8855"/>
                </a:moveTo>
                <a:cubicBezTo>
                  <a:pt x="14646" y="8862"/>
                  <a:pt x="14721" y="8880"/>
                  <a:pt x="14808" y="8880"/>
                </a:cubicBezTo>
                <a:cubicBezTo>
                  <a:pt x="14850" y="8880"/>
                  <a:pt x="14858" y="8880"/>
                  <a:pt x="14883" y="8880"/>
                </a:cubicBezTo>
              </a:path>
              <a:path w="7095" h="1911">
                <a:moveTo>
                  <a:pt x="14461" y="9103"/>
                </a:moveTo>
                <a:cubicBezTo>
                  <a:pt x="14585" y="9103"/>
                  <a:pt x="14709" y="9103"/>
                  <a:pt x="14833" y="9103"/>
                </a:cubicBezTo>
                <a:cubicBezTo>
                  <a:pt x="14770" y="9103"/>
                  <a:pt x="14784" y="9095"/>
                  <a:pt x="14784" y="9029"/>
                </a:cubicBezTo>
              </a:path>
              <a:path w="7095" h="1911">
                <a:moveTo>
                  <a:pt x="15453" y="8062"/>
                </a:moveTo>
                <a:cubicBezTo>
                  <a:pt x="15488" y="8140"/>
                  <a:pt x="15516" y="8225"/>
                  <a:pt x="15528" y="8310"/>
                </a:cubicBezTo>
                <a:cubicBezTo>
                  <a:pt x="15541" y="8401"/>
                  <a:pt x="15571" y="8489"/>
                  <a:pt x="15577" y="8582"/>
                </a:cubicBezTo>
                <a:cubicBezTo>
                  <a:pt x="15577" y="8607"/>
                  <a:pt x="15577" y="8615"/>
                  <a:pt x="15577" y="8632"/>
                </a:cubicBezTo>
              </a:path>
              <a:path w="7095" h="1911">
                <a:moveTo>
                  <a:pt x="15280" y="8682"/>
                </a:moveTo>
                <a:cubicBezTo>
                  <a:pt x="15437" y="8682"/>
                  <a:pt x="15594" y="8682"/>
                  <a:pt x="15751" y="8682"/>
                </a:cubicBezTo>
              </a:path>
              <a:path w="7095" h="1911">
                <a:moveTo>
                  <a:pt x="15379" y="8954"/>
                </a:moveTo>
                <a:cubicBezTo>
                  <a:pt x="15439" y="8954"/>
                  <a:pt x="15525" y="8955"/>
                  <a:pt x="15577" y="8930"/>
                </a:cubicBezTo>
                <a:cubicBezTo>
                  <a:pt x="15642" y="8899"/>
                  <a:pt x="15756" y="8843"/>
                  <a:pt x="15801" y="8954"/>
                </a:cubicBezTo>
                <a:cubicBezTo>
                  <a:pt x="15833" y="9034"/>
                  <a:pt x="15734" y="9122"/>
                  <a:pt x="15701" y="9178"/>
                </a:cubicBezTo>
                <a:cubicBezTo>
                  <a:pt x="15652" y="9260"/>
                  <a:pt x="15539" y="9357"/>
                  <a:pt x="15453" y="9401"/>
                </a:cubicBezTo>
                <a:cubicBezTo>
                  <a:pt x="15445" y="9401"/>
                  <a:pt x="15437" y="9401"/>
                  <a:pt x="15429" y="9401"/>
                </a:cubicBezTo>
                <a:cubicBezTo>
                  <a:pt x="15481" y="9441"/>
                  <a:pt x="15503" y="9448"/>
                  <a:pt x="15577" y="9451"/>
                </a:cubicBezTo>
                <a:cubicBezTo>
                  <a:pt x="15676" y="9455"/>
                  <a:pt x="15780" y="9425"/>
                  <a:pt x="15875" y="9401"/>
                </a:cubicBezTo>
              </a:path>
              <a:path w="7095" h="1911">
                <a:moveTo>
                  <a:pt x="15106" y="8161"/>
                </a:moveTo>
                <a:cubicBezTo>
                  <a:pt x="15081" y="8277"/>
                  <a:pt x="15058" y="8391"/>
                  <a:pt x="15032" y="8508"/>
                </a:cubicBezTo>
                <a:cubicBezTo>
                  <a:pt x="14999" y="8658"/>
                  <a:pt x="14967" y="8851"/>
                  <a:pt x="14982" y="9004"/>
                </a:cubicBezTo>
                <a:cubicBezTo>
                  <a:pt x="14997" y="9159"/>
                  <a:pt x="15021" y="9270"/>
                  <a:pt x="15106" y="9401"/>
                </a:cubicBezTo>
                <a:cubicBezTo>
                  <a:pt x="15199" y="9545"/>
                  <a:pt x="15241" y="9550"/>
                  <a:pt x="15404" y="9550"/>
                </a:cubicBezTo>
                <a:cubicBezTo>
                  <a:pt x="15429" y="9550"/>
                  <a:pt x="15453" y="9550"/>
                  <a:pt x="15478" y="9550"/>
                </a:cubicBezTo>
              </a:path>
              <a:path w="7095" h="1911">
                <a:moveTo>
                  <a:pt x="15875" y="8260"/>
                </a:moveTo>
                <a:cubicBezTo>
                  <a:pt x="15923" y="8356"/>
                  <a:pt x="15967" y="8456"/>
                  <a:pt x="15999" y="8558"/>
                </a:cubicBezTo>
                <a:cubicBezTo>
                  <a:pt x="16044" y="8698"/>
                  <a:pt x="16062" y="8858"/>
                  <a:pt x="16073" y="9004"/>
                </a:cubicBezTo>
                <a:cubicBezTo>
                  <a:pt x="16082" y="9131"/>
                  <a:pt x="16090" y="9281"/>
                  <a:pt x="16049" y="9401"/>
                </a:cubicBezTo>
                <a:cubicBezTo>
                  <a:pt x="16024" y="9473"/>
                  <a:pt x="16000" y="9551"/>
                  <a:pt x="15974" y="9599"/>
                </a:cubicBezTo>
                <a:cubicBezTo>
                  <a:pt x="15951" y="9622"/>
                  <a:pt x="15943" y="9633"/>
                  <a:pt x="15949" y="9599"/>
                </a:cubicBezTo>
              </a:path>
              <a:path w="7095" h="1911">
                <a:moveTo>
                  <a:pt x="16197" y="7987"/>
                </a:moveTo>
                <a:cubicBezTo>
                  <a:pt x="16278" y="8008"/>
                  <a:pt x="16427" y="8027"/>
                  <a:pt x="16421" y="8161"/>
                </a:cubicBezTo>
                <a:cubicBezTo>
                  <a:pt x="16417" y="8245"/>
                  <a:pt x="16351" y="8305"/>
                  <a:pt x="16297" y="8359"/>
                </a:cubicBezTo>
                <a:cubicBezTo>
                  <a:pt x="16275" y="8381"/>
                  <a:pt x="16221" y="8388"/>
                  <a:pt x="16247" y="8434"/>
                </a:cubicBezTo>
                <a:cubicBezTo>
                  <a:pt x="16288" y="8507"/>
                  <a:pt x="16382" y="8474"/>
                  <a:pt x="16446" y="8483"/>
                </a:cubicBezTo>
                <a:cubicBezTo>
                  <a:pt x="16487" y="8491"/>
                  <a:pt x="16529" y="8500"/>
                  <a:pt x="16570" y="8508"/>
                </a:cubicBezTo>
              </a:path>
              <a:path w="7095" h="1911">
                <a:moveTo>
                  <a:pt x="16570" y="8954"/>
                </a:moveTo>
                <a:cubicBezTo>
                  <a:pt x="16686" y="8954"/>
                  <a:pt x="16801" y="8954"/>
                  <a:pt x="16917" y="8954"/>
                </a:cubicBezTo>
              </a:path>
              <a:path w="7095" h="1911">
                <a:moveTo>
                  <a:pt x="17438" y="8186"/>
                </a:moveTo>
                <a:cubicBezTo>
                  <a:pt x="17414" y="8306"/>
                  <a:pt x="17413" y="8410"/>
                  <a:pt x="17413" y="8533"/>
                </a:cubicBezTo>
                <a:cubicBezTo>
                  <a:pt x="17413" y="8620"/>
                  <a:pt x="17438" y="8691"/>
                  <a:pt x="17438" y="8781"/>
                </a:cubicBezTo>
              </a:path>
              <a:path w="7095" h="1911">
                <a:moveTo>
                  <a:pt x="17214" y="8806"/>
                </a:moveTo>
                <a:cubicBezTo>
                  <a:pt x="17388" y="8806"/>
                  <a:pt x="17561" y="8806"/>
                  <a:pt x="17735" y="8806"/>
                </a:cubicBezTo>
              </a:path>
              <a:path w="7095" h="1911">
                <a:moveTo>
                  <a:pt x="17314" y="9178"/>
                </a:moveTo>
                <a:cubicBezTo>
                  <a:pt x="17438" y="9178"/>
                  <a:pt x="17565" y="9152"/>
                  <a:pt x="17661" y="9227"/>
                </a:cubicBezTo>
                <a:cubicBezTo>
                  <a:pt x="17727" y="9278"/>
                  <a:pt x="17659" y="9342"/>
                  <a:pt x="17611" y="9376"/>
                </a:cubicBezTo>
                <a:cubicBezTo>
                  <a:pt x="17558" y="9414"/>
                  <a:pt x="17489" y="9435"/>
                  <a:pt x="17438" y="9475"/>
                </a:cubicBezTo>
                <a:cubicBezTo>
                  <a:pt x="17388" y="9514"/>
                  <a:pt x="17380" y="9518"/>
                  <a:pt x="17338" y="9550"/>
                </a:cubicBezTo>
                <a:cubicBezTo>
                  <a:pt x="17492" y="9550"/>
                  <a:pt x="17758" y="9601"/>
                  <a:pt x="17884" y="9525"/>
                </a:cubicBezTo>
              </a:path>
              <a:path w="7095" h="1911">
                <a:moveTo>
                  <a:pt x="18405" y="8434"/>
                </a:moveTo>
                <a:cubicBezTo>
                  <a:pt x="18395" y="8511"/>
                  <a:pt x="18369" y="8580"/>
                  <a:pt x="18355" y="8657"/>
                </a:cubicBezTo>
                <a:cubicBezTo>
                  <a:pt x="18335" y="8763"/>
                  <a:pt x="18365" y="8814"/>
                  <a:pt x="18380" y="8880"/>
                </a:cubicBezTo>
                <a:cubicBezTo>
                  <a:pt x="18380" y="8925"/>
                  <a:pt x="18376" y="8938"/>
                  <a:pt x="18405" y="8954"/>
                </a:cubicBezTo>
              </a:path>
              <a:path w="7095" h="1911">
                <a:moveTo>
                  <a:pt x="18182" y="8706"/>
                </a:moveTo>
                <a:cubicBezTo>
                  <a:pt x="18302" y="8706"/>
                  <a:pt x="18390" y="8694"/>
                  <a:pt x="18504" y="8682"/>
                </a:cubicBezTo>
              </a:path>
              <a:path w="7095" h="1911">
                <a:moveTo>
                  <a:pt x="18951" y="8210"/>
                </a:moveTo>
                <a:cubicBezTo>
                  <a:pt x="19039" y="8210"/>
                  <a:pt x="19123" y="8213"/>
                  <a:pt x="19199" y="8186"/>
                </a:cubicBezTo>
              </a:path>
              <a:path w="7095" h="1911">
                <a:moveTo>
                  <a:pt x="18802" y="8161"/>
                </a:moveTo>
                <a:cubicBezTo>
                  <a:pt x="18759" y="8213"/>
                  <a:pt x="18681" y="8279"/>
                  <a:pt x="18728" y="8334"/>
                </a:cubicBezTo>
                <a:cubicBezTo>
                  <a:pt x="18777" y="8392"/>
                  <a:pt x="18852" y="8405"/>
                  <a:pt x="18926" y="8409"/>
                </a:cubicBezTo>
                <a:cubicBezTo>
                  <a:pt x="19002" y="8413"/>
                  <a:pt x="19054" y="8403"/>
                  <a:pt x="19124" y="8434"/>
                </a:cubicBezTo>
                <a:cubicBezTo>
                  <a:pt x="19181" y="8459"/>
                  <a:pt x="19199" y="8543"/>
                  <a:pt x="19174" y="8607"/>
                </a:cubicBezTo>
                <a:cubicBezTo>
                  <a:pt x="19159" y="8645"/>
                  <a:pt x="19037" y="8698"/>
                  <a:pt x="19000" y="8706"/>
                </a:cubicBezTo>
                <a:cubicBezTo>
                  <a:pt x="18964" y="8714"/>
                  <a:pt x="18800" y="8725"/>
                  <a:pt x="18777" y="8682"/>
                </a:cubicBezTo>
                <a:cubicBezTo>
                  <a:pt x="18777" y="8640"/>
                  <a:pt x="18777" y="8632"/>
                  <a:pt x="18777" y="8607"/>
                </a:cubicBezTo>
              </a:path>
              <a:path w="7095" h="1911">
                <a:moveTo>
                  <a:pt x="19422" y="8235"/>
                </a:moveTo>
                <a:cubicBezTo>
                  <a:pt x="19398" y="8379"/>
                  <a:pt x="19357" y="8491"/>
                  <a:pt x="19323" y="8632"/>
                </a:cubicBezTo>
                <a:cubicBezTo>
                  <a:pt x="19281" y="8805"/>
                  <a:pt x="19241" y="8979"/>
                  <a:pt x="19199" y="9153"/>
                </a:cubicBezTo>
                <a:cubicBezTo>
                  <a:pt x="19176" y="9248"/>
                  <a:pt x="19133" y="9318"/>
                  <a:pt x="19100" y="9401"/>
                </a:cubicBezTo>
                <a:cubicBezTo>
                  <a:pt x="19091" y="9425"/>
                  <a:pt x="19077" y="9471"/>
                  <a:pt x="19100" y="9426"/>
                </a:cubicBezTo>
              </a:path>
              <a:path w="7095" h="1911">
                <a:moveTo>
                  <a:pt x="19422" y="8930"/>
                </a:moveTo>
                <a:cubicBezTo>
                  <a:pt x="19422" y="9001"/>
                  <a:pt x="19420" y="9065"/>
                  <a:pt x="19447" y="9103"/>
                </a:cubicBezTo>
                <a:cubicBezTo>
                  <a:pt x="19515" y="9198"/>
                  <a:pt x="19535" y="9178"/>
                  <a:pt x="19645" y="9178"/>
                </a:cubicBezTo>
                <a:cubicBezTo>
                  <a:pt x="19662" y="9178"/>
                  <a:pt x="19678" y="9178"/>
                  <a:pt x="19695" y="9178"/>
                </a:cubicBezTo>
              </a:path>
              <a:path w="7095" h="1911">
                <a:moveTo>
                  <a:pt x="19720" y="8806"/>
                </a:moveTo>
                <a:cubicBezTo>
                  <a:pt x="19679" y="8975"/>
                  <a:pt x="19586" y="9240"/>
                  <a:pt x="19596" y="9426"/>
                </a:cubicBezTo>
                <a:cubicBezTo>
                  <a:pt x="19601" y="9510"/>
                  <a:pt x="19619" y="9606"/>
                  <a:pt x="19670" y="9674"/>
                </a:cubicBezTo>
                <a:cubicBezTo>
                  <a:pt x="19678" y="9682"/>
                  <a:pt x="19687" y="9691"/>
                  <a:pt x="19695" y="9699"/>
                </a:cubicBezTo>
              </a:path>
              <a:path w="7095" h="1911">
                <a:moveTo>
                  <a:pt x="20017" y="8880"/>
                </a:moveTo>
                <a:cubicBezTo>
                  <a:pt x="20116" y="8880"/>
                  <a:pt x="20216" y="8880"/>
                  <a:pt x="20315" y="8880"/>
                </a:cubicBezTo>
              </a:path>
              <a:path w="7095" h="1911">
                <a:moveTo>
                  <a:pt x="19943" y="9153"/>
                </a:moveTo>
                <a:cubicBezTo>
                  <a:pt x="20056" y="9182"/>
                  <a:pt x="20128" y="9181"/>
                  <a:pt x="20241" y="9153"/>
                </a:cubicBezTo>
              </a:path>
              <a:path w="7095" h="1911">
                <a:moveTo>
                  <a:pt x="20737" y="8409"/>
                </a:moveTo>
                <a:cubicBezTo>
                  <a:pt x="20715" y="8606"/>
                  <a:pt x="20665" y="8828"/>
                  <a:pt x="20687" y="9029"/>
                </a:cubicBezTo>
                <a:cubicBezTo>
                  <a:pt x="20703" y="9174"/>
                  <a:pt x="20767" y="9291"/>
                  <a:pt x="20811" y="9426"/>
                </a:cubicBezTo>
                <a:cubicBezTo>
                  <a:pt x="20839" y="9511"/>
                  <a:pt x="20836" y="9540"/>
                  <a:pt x="20836" y="96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40160" y="3687840"/>
            <a:ext cx="4027680" cy="893520"/>
          </a:xfrm>
          <a:custGeom>
            <a:avLst/>
            <a:gdLst/>
            <a:ahLst/>
            <a:rect l="l" t="t" r="r" b="b"/>
            <a:pathLst>
              <a:path w="11188" h="2482">
                <a:moveTo>
                  <a:pt x="12055" y="10765"/>
                </a:moveTo>
                <a:cubicBezTo>
                  <a:pt x="12069" y="10748"/>
                  <a:pt x="12061" y="10684"/>
                  <a:pt x="12080" y="10666"/>
                </a:cubicBezTo>
                <a:cubicBezTo>
                  <a:pt x="12127" y="10620"/>
                  <a:pt x="12169" y="10596"/>
                  <a:pt x="12229" y="10567"/>
                </a:cubicBezTo>
                <a:cubicBezTo>
                  <a:pt x="12434" y="10467"/>
                  <a:pt x="12699" y="10427"/>
                  <a:pt x="12923" y="10393"/>
                </a:cubicBezTo>
                <a:cubicBezTo>
                  <a:pt x="13149" y="10358"/>
                  <a:pt x="13389" y="10353"/>
                  <a:pt x="13618" y="10368"/>
                </a:cubicBezTo>
                <a:cubicBezTo>
                  <a:pt x="13809" y="10381"/>
                  <a:pt x="14024" y="10412"/>
                  <a:pt x="14213" y="10443"/>
                </a:cubicBezTo>
                <a:cubicBezTo>
                  <a:pt x="14409" y="10475"/>
                  <a:pt x="14593" y="10544"/>
                  <a:pt x="14784" y="10592"/>
                </a:cubicBezTo>
                <a:cubicBezTo>
                  <a:pt x="14974" y="10639"/>
                  <a:pt x="15165" y="10659"/>
                  <a:pt x="15354" y="10691"/>
                </a:cubicBezTo>
                <a:cubicBezTo>
                  <a:pt x="15525" y="10720"/>
                  <a:pt x="15678" y="10727"/>
                  <a:pt x="15850" y="10740"/>
                </a:cubicBezTo>
                <a:cubicBezTo>
                  <a:pt x="16040" y="10754"/>
                  <a:pt x="16208" y="10744"/>
                  <a:pt x="16396" y="10740"/>
                </a:cubicBezTo>
                <a:cubicBezTo>
                  <a:pt x="16593" y="10736"/>
                  <a:pt x="16770" y="10723"/>
                  <a:pt x="16966" y="10691"/>
                </a:cubicBezTo>
                <a:cubicBezTo>
                  <a:pt x="17406" y="10618"/>
                  <a:pt x="17857" y="10527"/>
                  <a:pt x="18281" y="10393"/>
                </a:cubicBezTo>
                <a:cubicBezTo>
                  <a:pt x="18463" y="10336"/>
                  <a:pt x="18612" y="10293"/>
                  <a:pt x="18802" y="10269"/>
                </a:cubicBezTo>
                <a:cubicBezTo>
                  <a:pt x="18985" y="10246"/>
                  <a:pt x="19185" y="10222"/>
                  <a:pt x="19372" y="10244"/>
                </a:cubicBezTo>
                <a:cubicBezTo>
                  <a:pt x="19750" y="10288"/>
                  <a:pt x="20120" y="10409"/>
                  <a:pt x="20489" y="10492"/>
                </a:cubicBezTo>
                <a:cubicBezTo>
                  <a:pt x="20635" y="10525"/>
                  <a:pt x="20787" y="10558"/>
                  <a:pt x="20935" y="10567"/>
                </a:cubicBezTo>
                <a:cubicBezTo>
                  <a:pt x="21422" y="10596"/>
                  <a:pt x="21899" y="10544"/>
                  <a:pt x="22374" y="10443"/>
                </a:cubicBezTo>
                <a:cubicBezTo>
                  <a:pt x="22565" y="10403"/>
                  <a:pt x="22757" y="10360"/>
                  <a:pt x="22944" y="10319"/>
                </a:cubicBezTo>
                <a:cubicBezTo>
                  <a:pt x="23021" y="10302"/>
                  <a:pt x="23095" y="10289"/>
                  <a:pt x="23168" y="10269"/>
                </a:cubicBezTo>
                <a:cubicBezTo>
                  <a:pt x="23203" y="10259"/>
                  <a:pt x="23182" y="10256"/>
                  <a:pt x="23217" y="10244"/>
                </a:cubicBezTo>
              </a:path>
              <a:path w="11188" h="2482">
                <a:moveTo>
                  <a:pt x="13022" y="11212"/>
                </a:moveTo>
                <a:cubicBezTo>
                  <a:pt x="13052" y="11249"/>
                  <a:pt x="13073" y="11305"/>
                  <a:pt x="13097" y="11336"/>
                </a:cubicBezTo>
                <a:cubicBezTo>
                  <a:pt x="13169" y="11428"/>
                  <a:pt x="13199" y="11535"/>
                  <a:pt x="13271" y="11633"/>
                </a:cubicBezTo>
                <a:cubicBezTo>
                  <a:pt x="13329" y="11712"/>
                  <a:pt x="13392" y="11775"/>
                  <a:pt x="13444" y="11857"/>
                </a:cubicBezTo>
                <a:cubicBezTo>
                  <a:pt x="13467" y="11893"/>
                  <a:pt x="13500" y="11962"/>
                  <a:pt x="13543" y="11981"/>
                </a:cubicBezTo>
                <a:cubicBezTo>
                  <a:pt x="13551" y="11981"/>
                  <a:pt x="13560" y="11981"/>
                  <a:pt x="13568" y="11981"/>
                </a:cubicBezTo>
              </a:path>
              <a:path w="11188" h="2482">
                <a:moveTo>
                  <a:pt x="13667" y="11187"/>
                </a:moveTo>
                <a:cubicBezTo>
                  <a:pt x="13706" y="11290"/>
                  <a:pt x="13659" y="11288"/>
                  <a:pt x="13643" y="11385"/>
                </a:cubicBezTo>
                <a:cubicBezTo>
                  <a:pt x="13618" y="11534"/>
                  <a:pt x="13590" y="11683"/>
                  <a:pt x="13568" y="11832"/>
                </a:cubicBezTo>
                <a:cubicBezTo>
                  <a:pt x="13546" y="11982"/>
                  <a:pt x="13488" y="12128"/>
                  <a:pt x="13469" y="12278"/>
                </a:cubicBezTo>
                <a:cubicBezTo>
                  <a:pt x="13455" y="12386"/>
                  <a:pt x="13434" y="12494"/>
                  <a:pt x="13419" y="12601"/>
                </a:cubicBezTo>
                <a:cubicBezTo>
                  <a:pt x="13412" y="12650"/>
                  <a:pt x="13419" y="12650"/>
                  <a:pt x="13419" y="12700"/>
                </a:cubicBezTo>
              </a:path>
              <a:path w="11188" h="2482">
                <a:moveTo>
                  <a:pt x="13891" y="11509"/>
                </a:moveTo>
                <a:cubicBezTo>
                  <a:pt x="13962" y="11516"/>
                  <a:pt x="14018" y="11534"/>
                  <a:pt x="14089" y="11534"/>
                </a:cubicBezTo>
                <a:cubicBezTo>
                  <a:pt x="14106" y="11534"/>
                  <a:pt x="14122" y="11534"/>
                  <a:pt x="14139" y="11534"/>
                </a:cubicBezTo>
              </a:path>
              <a:path w="11188" h="2482">
                <a:moveTo>
                  <a:pt x="14511" y="11336"/>
                </a:moveTo>
                <a:cubicBezTo>
                  <a:pt x="14533" y="11417"/>
                  <a:pt x="14536" y="11476"/>
                  <a:pt x="14536" y="11559"/>
                </a:cubicBezTo>
                <a:cubicBezTo>
                  <a:pt x="14536" y="11679"/>
                  <a:pt x="14521" y="11850"/>
                  <a:pt x="14560" y="11931"/>
                </a:cubicBezTo>
                <a:cubicBezTo>
                  <a:pt x="14560" y="11956"/>
                  <a:pt x="14560" y="11964"/>
                  <a:pt x="14560" y="11931"/>
                </a:cubicBezTo>
              </a:path>
              <a:path w="11188" h="2482">
                <a:moveTo>
                  <a:pt x="14610" y="11038"/>
                </a:moveTo>
                <a:cubicBezTo>
                  <a:pt x="14635" y="11005"/>
                  <a:pt x="14643" y="10961"/>
                  <a:pt x="14660" y="11013"/>
                </a:cubicBezTo>
              </a:path>
              <a:path w="11188" h="2482">
                <a:moveTo>
                  <a:pt x="14808" y="11633"/>
                </a:moveTo>
                <a:cubicBezTo>
                  <a:pt x="14825" y="11723"/>
                  <a:pt x="14833" y="11772"/>
                  <a:pt x="14833" y="11857"/>
                </a:cubicBezTo>
                <a:cubicBezTo>
                  <a:pt x="14833" y="11865"/>
                  <a:pt x="14833" y="11873"/>
                  <a:pt x="14833" y="11881"/>
                </a:cubicBezTo>
                <a:cubicBezTo>
                  <a:pt x="14833" y="11834"/>
                  <a:pt x="14855" y="11802"/>
                  <a:pt x="14858" y="11757"/>
                </a:cubicBezTo>
                <a:cubicBezTo>
                  <a:pt x="14862" y="11692"/>
                  <a:pt x="14863" y="11641"/>
                  <a:pt x="14883" y="11584"/>
                </a:cubicBezTo>
                <a:cubicBezTo>
                  <a:pt x="14904" y="11526"/>
                  <a:pt x="14917" y="11463"/>
                  <a:pt x="14932" y="11410"/>
                </a:cubicBezTo>
                <a:cubicBezTo>
                  <a:pt x="14938" y="11390"/>
                  <a:pt x="14932" y="11357"/>
                  <a:pt x="14932" y="11336"/>
                </a:cubicBezTo>
                <a:cubicBezTo>
                  <a:pt x="14968" y="11348"/>
                  <a:pt x="14965" y="11371"/>
                  <a:pt x="14982" y="11410"/>
                </a:cubicBezTo>
                <a:cubicBezTo>
                  <a:pt x="15019" y="11495"/>
                  <a:pt x="15037" y="11570"/>
                  <a:pt x="15081" y="11658"/>
                </a:cubicBezTo>
                <a:cubicBezTo>
                  <a:pt x="15115" y="11726"/>
                  <a:pt x="15150" y="11761"/>
                  <a:pt x="15205" y="11807"/>
                </a:cubicBezTo>
                <a:cubicBezTo>
                  <a:pt x="15242" y="11838"/>
                  <a:pt x="15299" y="11880"/>
                  <a:pt x="15354" y="11857"/>
                </a:cubicBezTo>
                <a:cubicBezTo>
                  <a:pt x="15362" y="11849"/>
                  <a:pt x="15371" y="11840"/>
                  <a:pt x="15379" y="11832"/>
                </a:cubicBezTo>
              </a:path>
              <a:path w="11188" h="2482">
                <a:moveTo>
                  <a:pt x="15478" y="11038"/>
                </a:moveTo>
                <a:cubicBezTo>
                  <a:pt x="15484" y="11146"/>
                  <a:pt x="15503" y="11229"/>
                  <a:pt x="15503" y="11336"/>
                </a:cubicBezTo>
                <a:cubicBezTo>
                  <a:pt x="15503" y="11450"/>
                  <a:pt x="15511" y="11551"/>
                  <a:pt x="15528" y="11658"/>
                </a:cubicBezTo>
                <a:cubicBezTo>
                  <a:pt x="15538" y="11719"/>
                  <a:pt x="15567" y="11780"/>
                  <a:pt x="15577" y="11832"/>
                </a:cubicBezTo>
                <a:cubicBezTo>
                  <a:pt x="15593" y="11913"/>
                  <a:pt x="15584" y="11851"/>
                  <a:pt x="15602" y="11906"/>
                </a:cubicBezTo>
              </a:path>
              <a:path w="11188" h="2482">
                <a:moveTo>
                  <a:pt x="15230" y="11311"/>
                </a:moveTo>
                <a:cubicBezTo>
                  <a:pt x="15350" y="11245"/>
                  <a:pt x="15350" y="11271"/>
                  <a:pt x="15478" y="11286"/>
                </a:cubicBezTo>
                <a:cubicBezTo>
                  <a:pt x="15572" y="11297"/>
                  <a:pt x="15672" y="11263"/>
                  <a:pt x="15751" y="113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2240" y="3840120"/>
            <a:ext cx="1063800" cy="509760"/>
          </a:xfrm>
          <a:custGeom>
            <a:avLst/>
            <a:gdLst/>
            <a:ahLst/>
            <a:rect l="l" t="t" r="r" b="b"/>
            <a:pathLst>
              <a:path w="2953" h="1415">
                <a:moveTo>
                  <a:pt x="18033" y="10716"/>
                </a:moveTo>
                <a:cubicBezTo>
                  <a:pt x="17975" y="10808"/>
                  <a:pt x="17931" y="10913"/>
                  <a:pt x="17884" y="11013"/>
                </a:cubicBezTo>
                <a:cubicBezTo>
                  <a:pt x="17824" y="11142"/>
                  <a:pt x="17788" y="11242"/>
                  <a:pt x="17785" y="11385"/>
                </a:cubicBezTo>
                <a:cubicBezTo>
                  <a:pt x="17783" y="11502"/>
                  <a:pt x="17783" y="11654"/>
                  <a:pt x="17859" y="11757"/>
                </a:cubicBezTo>
                <a:cubicBezTo>
                  <a:pt x="17912" y="11829"/>
                  <a:pt x="17950" y="11857"/>
                  <a:pt x="18033" y="11857"/>
                </a:cubicBezTo>
              </a:path>
              <a:path w="2953" h="1415">
                <a:moveTo>
                  <a:pt x="18455" y="10914"/>
                </a:moveTo>
                <a:cubicBezTo>
                  <a:pt x="18440" y="10974"/>
                  <a:pt x="18406" y="11049"/>
                  <a:pt x="18380" y="11112"/>
                </a:cubicBezTo>
                <a:cubicBezTo>
                  <a:pt x="18349" y="11187"/>
                  <a:pt x="18339" y="11301"/>
                  <a:pt x="18355" y="11385"/>
                </a:cubicBezTo>
                <a:cubicBezTo>
                  <a:pt x="18373" y="11477"/>
                  <a:pt x="18419" y="11553"/>
                  <a:pt x="18479" y="11609"/>
                </a:cubicBezTo>
                <a:cubicBezTo>
                  <a:pt x="18536" y="11662"/>
                  <a:pt x="18594" y="11707"/>
                  <a:pt x="18678" y="11683"/>
                </a:cubicBezTo>
                <a:cubicBezTo>
                  <a:pt x="18761" y="11660"/>
                  <a:pt x="18799" y="11580"/>
                  <a:pt x="18827" y="11509"/>
                </a:cubicBezTo>
                <a:cubicBezTo>
                  <a:pt x="18878" y="11377"/>
                  <a:pt x="18866" y="11294"/>
                  <a:pt x="18852" y="11162"/>
                </a:cubicBezTo>
                <a:cubicBezTo>
                  <a:pt x="18842" y="11066"/>
                  <a:pt x="18784" y="10947"/>
                  <a:pt x="18728" y="10864"/>
                </a:cubicBezTo>
                <a:cubicBezTo>
                  <a:pt x="18684" y="10799"/>
                  <a:pt x="18602" y="10769"/>
                  <a:pt x="18529" y="10765"/>
                </a:cubicBezTo>
                <a:cubicBezTo>
                  <a:pt x="18432" y="10760"/>
                  <a:pt x="18352" y="10819"/>
                  <a:pt x="18331" y="10914"/>
                </a:cubicBezTo>
                <a:cubicBezTo>
                  <a:pt x="18331" y="10931"/>
                  <a:pt x="18331" y="10947"/>
                  <a:pt x="18331" y="10964"/>
                </a:cubicBezTo>
              </a:path>
              <a:path w="2953" h="1415">
                <a:moveTo>
                  <a:pt x="19025" y="11633"/>
                </a:moveTo>
                <a:cubicBezTo>
                  <a:pt x="19019" y="11762"/>
                  <a:pt x="19000" y="11876"/>
                  <a:pt x="19000" y="12005"/>
                </a:cubicBezTo>
                <a:cubicBezTo>
                  <a:pt x="19000" y="12040"/>
                  <a:pt x="19005" y="12058"/>
                  <a:pt x="19025" y="12080"/>
                </a:cubicBezTo>
              </a:path>
              <a:path w="2953" h="1415">
                <a:moveTo>
                  <a:pt x="19298" y="10939"/>
                </a:moveTo>
                <a:cubicBezTo>
                  <a:pt x="19412" y="10939"/>
                  <a:pt x="19516" y="10949"/>
                  <a:pt x="19621" y="10914"/>
                </a:cubicBezTo>
              </a:path>
              <a:path w="2953" h="1415">
                <a:moveTo>
                  <a:pt x="19224" y="10988"/>
                </a:moveTo>
                <a:cubicBezTo>
                  <a:pt x="19224" y="11051"/>
                  <a:pt x="19220" y="11116"/>
                  <a:pt x="19273" y="11162"/>
                </a:cubicBezTo>
                <a:cubicBezTo>
                  <a:pt x="19322" y="11204"/>
                  <a:pt x="19436" y="11209"/>
                  <a:pt x="19496" y="11212"/>
                </a:cubicBezTo>
                <a:cubicBezTo>
                  <a:pt x="19571" y="11216"/>
                  <a:pt x="19610" y="11208"/>
                  <a:pt x="19670" y="11261"/>
                </a:cubicBezTo>
                <a:cubicBezTo>
                  <a:pt x="19747" y="11329"/>
                  <a:pt x="19707" y="11352"/>
                  <a:pt x="19645" y="11410"/>
                </a:cubicBezTo>
                <a:cubicBezTo>
                  <a:pt x="19586" y="11465"/>
                  <a:pt x="19523" y="11460"/>
                  <a:pt x="19447" y="11460"/>
                </a:cubicBezTo>
                <a:cubicBezTo>
                  <a:pt x="19388" y="11460"/>
                  <a:pt x="19314" y="11441"/>
                  <a:pt x="19298" y="11385"/>
                </a:cubicBezTo>
                <a:cubicBezTo>
                  <a:pt x="19290" y="11352"/>
                  <a:pt x="19281" y="11319"/>
                  <a:pt x="19273" y="11286"/>
                </a:cubicBezTo>
              </a:path>
              <a:path w="2953" h="1415">
                <a:moveTo>
                  <a:pt x="19918" y="10790"/>
                </a:moveTo>
                <a:cubicBezTo>
                  <a:pt x="19871" y="10971"/>
                  <a:pt x="19788" y="11194"/>
                  <a:pt x="19769" y="11385"/>
                </a:cubicBezTo>
                <a:cubicBezTo>
                  <a:pt x="19758" y="11494"/>
                  <a:pt x="19726" y="11600"/>
                  <a:pt x="19720" y="11708"/>
                </a:cubicBezTo>
                <a:cubicBezTo>
                  <a:pt x="19716" y="11786"/>
                  <a:pt x="19702" y="11780"/>
                  <a:pt x="19769" y="11757"/>
                </a:cubicBezTo>
              </a:path>
              <a:path w="2953" h="1415">
                <a:moveTo>
                  <a:pt x="19968" y="11311"/>
                </a:moveTo>
                <a:cubicBezTo>
                  <a:pt x="19968" y="11396"/>
                  <a:pt x="19956" y="11384"/>
                  <a:pt x="20017" y="11435"/>
                </a:cubicBezTo>
                <a:cubicBezTo>
                  <a:pt x="20070" y="11479"/>
                  <a:pt x="20148" y="11460"/>
                  <a:pt x="20216" y="11460"/>
                </a:cubicBezTo>
              </a:path>
              <a:path w="2953" h="1415">
                <a:moveTo>
                  <a:pt x="20315" y="11063"/>
                </a:moveTo>
                <a:cubicBezTo>
                  <a:pt x="20239" y="11204"/>
                  <a:pt x="20195" y="11324"/>
                  <a:pt x="20191" y="11485"/>
                </a:cubicBezTo>
                <a:cubicBezTo>
                  <a:pt x="20188" y="11600"/>
                  <a:pt x="20192" y="11678"/>
                  <a:pt x="20241" y="11782"/>
                </a:cubicBezTo>
                <a:cubicBezTo>
                  <a:pt x="20270" y="11844"/>
                  <a:pt x="20250" y="11857"/>
                  <a:pt x="20315" y="11857"/>
                </a:cubicBezTo>
              </a:path>
              <a:path w="2953" h="1415">
                <a:moveTo>
                  <a:pt x="20389" y="10666"/>
                </a:moveTo>
                <a:cubicBezTo>
                  <a:pt x="20524" y="10753"/>
                  <a:pt x="20571" y="10836"/>
                  <a:pt x="20638" y="10988"/>
                </a:cubicBezTo>
                <a:cubicBezTo>
                  <a:pt x="20702" y="11134"/>
                  <a:pt x="20733" y="11277"/>
                  <a:pt x="20737" y="11435"/>
                </a:cubicBezTo>
                <a:cubicBezTo>
                  <a:pt x="20741" y="11573"/>
                  <a:pt x="20714" y="11754"/>
                  <a:pt x="20662" y="11881"/>
                </a:cubicBezTo>
                <a:cubicBezTo>
                  <a:pt x="20631" y="11956"/>
                  <a:pt x="20566" y="12021"/>
                  <a:pt x="20513" y="120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99000" y="4456080"/>
            <a:ext cx="1884240" cy="696960"/>
          </a:xfrm>
          <a:custGeom>
            <a:avLst/>
            <a:gdLst/>
            <a:ahLst/>
            <a:rect l="l" t="t" r="r" b="b"/>
            <a:pathLst>
              <a:path w="5235" h="1935">
                <a:moveTo>
                  <a:pt x="12774" y="12849"/>
                </a:moveTo>
                <a:cubicBezTo>
                  <a:pt x="12817" y="12909"/>
                  <a:pt x="12887" y="12953"/>
                  <a:pt x="12923" y="13022"/>
                </a:cubicBezTo>
                <a:cubicBezTo>
                  <a:pt x="12978" y="13129"/>
                  <a:pt x="13061" y="13212"/>
                  <a:pt x="13122" y="13320"/>
                </a:cubicBezTo>
                <a:cubicBezTo>
                  <a:pt x="13180" y="13423"/>
                  <a:pt x="13242" y="13504"/>
                  <a:pt x="13320" y="13593"/>
                </a:cubicBezTo>
              </a:path>
              <a:path w="5235" h="1935">
                <a:moveTo>
                  <a:pt x="13395" y="12824"/>
                </a:moveTo>
                <a:cubicBezTo>
                  <a:pt x="13351" y="12987"/>
                  <a:pt x="13286" y="13130"/>
                  <a:pt x="13246" y="13295"/>
                </a:cubicBezTo>
                <a:cubicBezTo>
                  <a:pt x="13207" y="13454"/>
                  <a:pt x="13195" y="13608"/>
                  <a:pt x="13171" y="13767"/>
                </a:cubicBezTo>
                <a:cubicBezTo>
                  <a:pt x="13151" y="13898"/>
                  <a:pt x="13135" y="14033"/>
                  <a:pt x="13122" y="14163"/>
                </a:cubicBezTo>
                <a:cubicBezTo>
                  <a:pt x="13117" y="14211"/>
                  <a:pt x="13122" y="14263"/>
                  <a:pt x="13122" y="14312"/>
                </a:cubicBezTo>
              </a:path>
              <a:path w="5235" h="1935">
                <a:moveTo>
                  <a:pt x="13742" y="13097"/>
                </a:moveTo>
                <a:cubicBezTo>
                  <a:pt x="13833" y="13082"/>
                  <a:pt x="13900" y="13072"/>
                  <a:pt x="13990" y="13072"/>
                </a:cubicBezTo>
              </a:path>
              <a:path w="5235" h="1935">
                <a:moveTo>
                  <a:pt x="13692" y="13196"/>
                </a:moveTo>
                <a:cubicBezTo>
                  <a:pt x="13763" y="13243"/>
                  <a:pt x="13868" y="13289"/>
                  <a:pt x="13965" y="13271"/>
                </a:cubicBezTo>
                <a:cubicBezTo>
                  <a:pt x="13982" y="13263"/>
                  <a:pt x="13998" y="13254"/>
                  <a:pt x="14015" y="13246"/>
                </a:cubicBezTo>
              </a:path>
              <a:path w="5235" h="1935">
                <a:moveTo>
                  <a:pt x="14412" y="12898"/>
                </a:moveTo>
                <a:cubicBezTo>
                  <a:pt x="14365" y="13011"/>
                  <a:pt x="14284" y="13140"/>
                  <a:pt x="14312" y="13271"/>
                </a:cubicBezTo>
                <a:cubicBezTo>
                  <a:pt x="14330" y="13358"/>
                  <a:pt x="14365" y="13461"/>
                  <a:pt x="14436" y="13519"/>
                </a:cubicBezTo>
                <a:cubicBezTo>
                  <a:pt x="14517" y="13585"/>
                  <a:pt x="14578" y="13637"/>
                  <a:pt x="14684" y="13643"/>
                </a:cubicBezTo>
                <a:cubicBezTo>
                  <a:pt x="14781" y="13648"/>
                  <a:pt x="14795" y="13595"/>
                  <a:pt x="14833" y="13519"/>
                </a:cubicBezTo>
                <a:cubicBezTo>
                  <a:pt x="14866" y="13452"/>
                  <a:pt x="14882" y="13293"/>
                  <a:pt x="14858" y="13221"/>
                </a:cubicBezTo>
                <a:cubicBezTo>
                  <a:pt x="14835" y="13152"/>
                  <a:pt x="14757" y="12975"/>
                  <a:pt x="14709" y="12923"/>
                </a:cubicBezTo>
                <a:cubicBezTo>
                  <a:pt x="14667" y="12877"/>
                  <a:pt x="14547" y="12818"/>
                  <a:pt x="14486" y="12799"/>
                </a:cubicBezTo>
                <a:cubicBezTo>
                  <a:pt x="14440" y="12785"/>
                  <a:pt x="14427" y="12822"/>
                  <a:pt x="14412" y="12774"/>
                </a:cubicBezTo>
              </a:path>
              <a:path w="5235" h="1935">
                <a:moveTo>
                  <a:pt x="14660" y="12378"/>
                </a:moveTo>
                <a:cubicBezTo>
                  <a:pt x="14767" y="12385"/>
                  <a:pt x="14860" y="12384"/>
                  <a:pt x="14932" y="12477"/>
                </a:cubicBezTo>
                <a:cubicBezTo>
                  <a:pt x="14978" y="12537"/>
                  <a:pt x="14993" y="12570"/>
                  <a:pt x="14982" y="12626"/>
                </a:cubicBezTo>
                <a:cubicBezTo>
                  <a:pt x="14974" y="12667"/>
                  <a:pt x="14953" y="12730"/>
                  <a:pt x="14908" y="12750"/>
                </a:cubicBezTo>
                <a:cubicBezTo>
                  <a:pt x="14884" y="12761"/>
                  <a:pt x="14857" y="12798"/>
                  <a:pt x="14908" y="12824"/>
                </a:cubicBezTo>
                <a:cubicBezTo>
                  <a:pt x="14957" y="12849"/>
                  <a:pt x="15074" y="12863"/>
                  <a:pt x="15131" y="12849"/>
                </a:cubicBezTo>
                <a:cubicBezTo>
                  <a:pt x="15147" y="12841"/>
                  <a:pt x="15164" y="12832"/>
                  <a:pt x="15180" y="12824"/>
                </a:cubicBezTo>
              </a:path>
              <a:path w="5235" h="1935">
                <a:moveTo>
                  <a:pt x="15280" y="13196"/>
                </a:moveTo>
                <a:cubicBezTo>
                  <a:pt x="15350" y="13208"/>
                  <a:pt x="15408" y="13243"/>
                  <a:pt x="15478" y="13246"/>
                </a:cubicBezTo>
                <a:cubicBezTo>
                  <a:pt x="15544" y="13246"/>
                  <a:pt x="15561" y="13246"/>
                  <a:pt x="15602" y="13246"/>
                </a:cubicBezTo>
              </a:path>
              <a:path w="5235" h="1935">
                <a:moveTo>
                  <a:pt x="15776" y="12998"/>
                </a:moveTo>
                <a:cubicBezTo>
                  <a:pt x="15753" y="13059"/>
                  <a:pt x="15730" y="13109"/>
                  <a:pt x="15726" y="13171"/>
                </a:cubicBezTo>
                <a:cubicBezTo>
                  <a:pt x="15722" y="13235"/>
                  <a:pt x="15750" y="13313"/>
                  <a:pt x="15776" y="13370"/>
                </a:cubicBezTo>
                <a:cubicBezTo>
                  <a:pt x="15812" y="13450"/>
                  <a:pt x="15877" y="13521"/>
                  <a:pt x="15949" y="13568"/>
                </a:cubicBezTo>
                <a:cubicBezTo>
                  <a:pt x="16013" y="13609"/>
                  <a:pt x="16096" y="13638"/>
                  <a:pt x="16173" y="13618"/>
                </a:cubicBezTo>
                <a:cubicBezTo>
                  <a:pt x="16213" y="13607"/>
                  <a:pt x="16312" y="13532"/>
                  <a:pt x="16321" y="13494"/>
                </a:cubicBezTo>
                <a:cubicBezTo>
                  <a:pt x="16339" y="13422"/>
                  <a:pt x="16366" y="13297"/>
                  <a:pt x="16346" y="13221"/>
                </a:cubicBezTo>
                <a:cubicBezTo>
                  <a:pt x="16311" y="13091"/>
                  <a:pt x="16239" y="13013"/>
                  <a:pt x="16148" y="12923"/>
                </a:cubicBezTo>
                <a:cubicBezTo>
                  <a:pt x="16097" y="12872"/>
                  <a:pt x="15978" y="12834"/>
                  <a:pt x="15900" y="12849"/>
                </a:cubicBezTo>
                <a:cubicBezTo>
                  <a:pt x="15862" y="12856"/>
                  <a:pt x="15778" y="12893"/>
                  <a:pt x="15776" y="12923"/>
                </a:cubicBezTo>
                <a:cubicBezTo>
                  <a:pt x="15772" y="12980"/>
                  <a:pt x="15771" y="12983"/>
                  <a:pt x="15801" y="13022"/>
                </a:cubicBezTo>
              </a:path>
              <a:path w="5235" h="1935">
                <a:moveTo>
                  <a:pt x="16594" y="12898"/>
                </a:moveTo>
                <a:cubicBezTo>
                  <a:pt x="16608" y="13017"/>
                  <a:pt x="16635" y="13132"/>
                  <a:pt x="16644" y="13246"/>
                </a:cubicBezTo>
                <a:cubicBezTo>
                  <a:pt x="16644" y="13254"/>
                  <a:pt x="16644" y="13263"/>
                  <a:pt x="16644" y="13271"/>
                </a:cubicBezTo>
              </a:path>
              <a:path w="5235" h="1935">
                <a:moveTo>
                  <a:pt x="16396" y="12998"/>
                </a:moveTo>
                <a:cubicBezTo>
                  <a:pt x="16578" y="13040"/>
                  <a:pt x="16605" y="13051"/>
                  <a:pt x="16793" y="12998"/>
                </a:cubicBezTo>
              </a:path>
              <a:path w="5235" h="1935">
                <a:moveTo>
                  <a:pt x="17090" y="12601"/>
                </a:moveTo>
                <a:cubicBezTo>
                  <a:pt x="17160" y="12583"/>
                  <a:pt x="17249" y="12598"/>
                  <a:pt x="17314" y="12576"/>
                </a:cubicBezTo>
                <a:cubicBezTo>
                  <a:pt x="17330" y="12568"/>
                  <a:pt x="17347" y="12559"/>
                  <a:pt x="17363" y="12551"/>
                </a:cubicBezTo>
              </a:path>
              <a:path w="5235" h="1935">
                <a:moveTo>
                  <a:pt x="17041" y="12526"/>
                </a:moveTo>
                <a:cubicBezTo>
                  <a:pt x="17028" y="12600"/>
                  <a:pt x="17023" y="12667"/>
                  <a:pt x="17090" y="12725"/>
                </a:cubicBezTo>
                <a:cubicBezTo>
                  <a:pt x="17151" y="12778"/>
                  <a:pt x="17238" y="12807"/>
                  <a:pt x="17289" y="12874"/>
                </a:cubicBezTo>
                <a:cubicBezTo>
                  <a:pt x="17317" y="12911"/>
                  <a:pt x="17337" y="12992"/>
                  <a:pt x="17289" y="13022"/>
                </a:cubicBezTo>
                <a:cubicBezTo>
                  <a:pt x="17253" y="13044"/>
                  <a:pt x="17212" y="13047"/>
                  <a:pt x="17165" y="13047"/>
                </a:cubicBezTo>
                <a:cubicBezTo>
                  <a:pt x="17113" y="13047"/>
                  <a:pt x="17070" y="13030"/>
                  <a:pt x="17066" y="12973"/>
                </a:cubicBezTo>
                <a:cubicBezTo>
                  <a:pt x="17066" y="12956"/>
                  <a:pt x="17066" y="12940"/>
                  <a:pt x="17066" y="12923"/>
                </a:cubicBezTo>
              </a:path>
              <a:path w="5235" h="1935">
                <a:moveTo>
                  <a:pt x="17636" y="12626"/>
                </a:moveTo>
                <a:cubicBezTo>
                  <a:pt x="17592" y="12778"/>
                  <a:pt x="17524" y="12921"/>
                  <a:pt x="17487" y="13072"/>
                </a:cubicBezTo>
                <a:cubicBezTo>
                  <a:pt x="17455" y="13204"/>
                  <a:pt x="17386" y="13339"/>
                  <a:pt x="17363" y="13469"/>
                </a:cubicBezTo>
                <a:cubicBezTo>
                  <a:pt x="17348" y="13551"/>
                  <a:pt x="17320" y="13636"/>
                  <a:pt x="17314" y="13717"/>
                </a:cubicBezTo>
                <a:cubicBezTo>
                  <a:pt x="17311" y="13763"/>
                  <a:pt x="17298" y="13770"/>
                  <a:pt x="17338" y="13742"/>
                </a:cubicBezTo>
              </a:path>
              <a:path w="5235" h="1935">
                <a:moveTo>
                  <a:pt x="17562" y="13246"/>
                </a:moveTo>
                <a:cubicBezTo>
                  <a:pt x="17574" y="13343"/>
                  <a:pt x="17599" y="13352"/>
                  <a:pt x="17686" y="13395"/>
                </a:cubicBezTo>
                <a:cubicBezTo>
                  <a:pt x="17760" y="13432"/>
                  <a:pt x="17802" y="13444"/>
                  <a:pt x="17884" y="13444"/>
                </a:cubicBezTo>
              </a:path>
              <a:path w="5235" h="1935">
                <a:moveTo>
                  <a:pt x="18008" y="12998"/>
                </a:moveTo>
                <a:cubicBezTo>
                  <a:pt x="17956" y="13075"/>
                  <a:pt x="17898" y="13175"/>
                  <a:pt x="17884" y="13271"/>
                </a:cubicBezTo>
                <a:cubicBezTo>
                  <a:pt x="17864" y="13410"/>
                  <a:pt x="17862" y="13552"/>
                  <a:pt x="17884" y="13692"/>
                </a:cubicBezTo>
                <a:cubicBezTo>
                  <a:pt x="17903" y="13811"/>
                  <a:pt x="17910" y="13928"/>
                  <a:pt x="17959" y="14039"/>
                </a:cubicBezTo>
                <a:cubicBezTo>
                  <a:pt x="17967" y="14056"/>
                  <a:pt x="17975" y="14072"/>
                  <a:pt x="17983" y="140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68280" y="5330880"/>
            <a:ext cx="2187720" cy="669960"/>
          </a:xfrm>
          <a:custGeom>
            <a:avLst/>
            <a:gdLst/>
            <a:ahLst/>
            <a:rect l="l" t="t" r="r" b="b"/>
            <a:pathLst>
              <a:path w="6078" h="1862">
                <a:moveTo>
                  <a:pt x="3597" y="15156"/>
                </a:moveTo>
                <a:cubicBezTo>
                  <a:pt x="3650" y="15223"/>
                  <a:pt x="3704" y="15303"/>
                  <a:pt x="3746" y="15379"/>
                </a:cubicBezTo>
                <a:cubicBezTo>
                  <a:pt x="3827" y="15524"/>
                  <a:pt x="3923" y="15664"/>
                  <a:pt x="4018" y="15801"/>
                </a:cubicBezTo>
                <a:cubicBezTo>
                  <a:pt x="4092" y="15908"/>
                  <a:pt x="4168" y="16017"/>
                  <a:pt x="4242" y="16123"/>
                </a:cubicBezTo>
                <a:cubicBezTo>
                  <a:pt x="4289" y="16190"/>
                  <a:pt x="4280" y="16126"/>
                  <a:pt x="4291" y="16098"/>
                </a:cubicBezTo>
              </a:path>
              <a:path w="6078" h="1862">
                <a:moveTo>
                  <a:pt x="3944" y="15156"/>
                </a:moveTo>
                <a:cubicBezTo>
                  <a:pt x="3857" y="15283"/>
                  <a:pt x="3788" y="15412"/>
                  <a:pt x="3721" y="15553"/>
                </a:cubicBezTo>
                <a:cubicBezTo>
                  <a:pt x="3662" y="15678"/>
                  <a:pt x="3602" y="15799"/>
                  <a:pt x="3547" y="15925"/>
                </a:cubicBezTo>
                <a:cubicBezTo>
                  <a:pt x="3525" y="15975"/>
                  <a:pt x="3522" y="15995"/>
                  <a:pt x="3522" y="16049"/>
                </a:cubicBezTo>
              </a:path>
              <a:path w="6078" h="1862">
                <a:moveTo>
                  <a:pt x="4242" y="15304"/>
                </a:moveTo>
                <a:cubicBezTo>
                  <a:pt x="4358" y="15311"/>
                  <a:pt x="4455" y="15337"/>
                  <a:pt x="4564" y="15354"/>
                </a:cubicBezTo>
                <a:cubicBezTo>
                  <a:pt x="4581" y="15354"/>
                  <a:pt x="4597" y="15354"/>
                  <a:pt x="4614" y="15354"/>
                </a:cubicBezTo>
              </a:path>
              <a:path w="6078" h="1862">
                <a:moveTo>
                  <a:pt x="4316" y="15503"/>
                </a:moveTo>
                <a:cubicBezTo>
                  <a:pt x="4393" y="15541"/>
                  <a:pt x="4478" y="15589"/>
                  <a:pt x="4564" y="15602"/>
                </a:cubicBezTo>
                <a:cubicBezTo>
                  <a:pt x="4584" y="15605"/>
                  <a:pt x="4749" y="15634"/>
                  <a:pt x="4762" y="15627"/>
                </a:cubicBezTo>
                <a:cubicBezTo>
                  <a:pt x="4762" y="15602"/>
                  <a:pt x="4762" y="15594"/>
                  <a:pt x="4762" y="15577"/>
                </a:cubicBezTo>
              </a:path>
              <a:path w="6078" h="1862">
                <a:moveTo>
                  <a:pt x="5085" y="16049"/>
                </a:moveTo>
                <a:cubicBezTo>
                  <a:pt x="5096" y="16052"/>
                  <a:pt x="5169" y="16064"/>
                  <a:pt x="5209" y="16073"/>
                </a:cubicBezTo>
                <a:cubicBezTo>
                  <a:pt x="5318" y="16096"/>
                  <a:pt x="5421" y="16081"/>
                  <a:pt x="5531" y="16098"/>
                </a:cubicBezTo>
                <a:cubicBezTo>
                  <a:pt x="5666" y="16119"/>
                  <a:pt x="5790" y="16123"/>
                  <a:pt x="5928" y="16123"/>
                </a:cubicBezTo>
                <a:cubicBezTo>
                  <a:pt x="6118" y="16123"/>
                  <a:pt x="6287" y="16157"/>
                  <a:pt x="6474" y="16173"/>
                </a:cubicBezTo>
                <a:cubicBezTo>
                  <a:pt x="6663" y="16189"/>
                  <a:pt x="6856" y="16211"/>
                  <a:pt x="7045" y="16222"/>
                </a:cubicBezTo>
                <a:cubicBezTo>
                  <a:pt x="7228" y="16232"/>
                  <a:pt x="7435" y="16270"/>
                  <a:pt x="7615" y="16321"/>
                </a:cubicBezTo>
                <a:cubicBezTo>
                  <a:pt x="7806" y="16375"/>
                  <a:pt x="7992" y="16409"/>
                  <a:pt x="8186" y="16446"/>
                </a:cubicBezTo>
                <a:cubicBezTo>
                  <a:pt x="8286" y="16465"/>
                  <a:pt x="8385" y="16495"/>
                  <a:pt x="8483" y="16520"/>
                </a:cubicBezTo>
                <a:cubicBezTo>
                  <a:pt x="8560" y="16539"/>
                  <a:pt x="8630" y="16567"/>
                  <a:pt x="8706" y="16594"/>
                </a:cubicBezTo>
                <a:cubicBezTo>
                  <a:pt x="8745" y="16608"/>
                  <a:pt x="8771" y="16619"/>
                  <a:pt x="8806" y="16644"/>
                </a:cubicBezTo>
                <a:cubicBezTo>
                  <a:pt x="8814" y="16652"/>
                  <a:pt x="8822" y="16661"/>
                  <a:pt x="8830" y="16669"/>
                </a:cubicBezTo>
                <a:cubicBezTo>
                  <a:pt x="8835" y="16648"/>
                  <a:pt x="8855" y="16581"/>
                  <a:pt x="8855" y="16520"/>
                </a:cubicBezTo>
              </a:path>
              <a:path w="6078" h="1862">
                <a:moveTo>
                  <a:pt x="5308" y="14957"/>
                </a:moveTo>
                <a:cubicBezTo>
                  <a:pt x="5308" y="15042"/>
                  <a:pt x="5331" y="15120"/>
                  <a:pt x="5333" y="15205"/>
                </a:cubicBezTo>
                <a:cubicBezTo>
                  <a:pt x="5340" y="15452"/>
                  <a:pt x="5346" y="15712"/>
                  <a:pt x="5308" y="15949"/>
                </a:cubicBezTo>
                <a:cubicBezTo>
                  <a:pt x="5308" y="15991"/>
                  <a:pt x="5308" y="15999"/>
                  <a:pt x="5308" y="16024"/>
                </a:cubicBezTo>
              </a:path>
              <a:path w="6078" h="1862">
                <a:moveTo>
                  <a:pt x="5953" y="14808"/>
                </a:moveTo>
                <a:cubicBezTo>
                  <a:pt x="5953" y="14935"/>
                  <a:pt x="5963" y="15057"/>
                  <a:pt x="5978" y="15180"/>
                </a:cubicBezTo>
                <a:cubicBezTo>
                  <a:pt x="5988" y="15266"/>
                  <a:pt x="6003" y="15340"/>
                  <a:pt x="6003" y="15429"/>
                </a:cubicBezTo>
              </a:path>
              <a:path w="6078" h="1862">
                <a:moveTo>
                  <a:pt x="5779" y="15131"/>
                </a:moveTo>
                <a:cubicBezTo>
                  <a:pt x="5944" y="15163"/>
                  <a:pt x="6090" y="15193"/>
                  <a:pt x="6251" y="15205"/>
                </a:cubicBezTo>
              </a:path>
              <a:path w="6078" h="1862">
                <a:moveTo>
                  <a:pt x="5854" y="15577"/>
                </a:moveTo>
                <a:cubicBezTo>
                  <a:pt x="5985" y="15633"/>
                  <a:pt x="6085" y="15694"/>
                  <a:pt x="6226" y="15627"/>
                </a:cubicBezTo>
                <a:cubicBezTo>
                  <a:pt x="6234" y="15619"/>
                  <a:pt x="6243" y="15610"/>
                  <a:pt x="6251" y="15602"/>
                </a:cubicBezTo>
              </a:path>
              <a:path w="6078" h="1862">
                <a:moveTo>
                  <a:pt x="6672" y="15379"/>
                </a:moveTo>
                <a:cubicBezTo>
                  <a:pt x="6672" y="15549"/>
                  <a:pt x="6682" y="15711"/>
                  <a:pt x="6697" y="15875"/>
                </a:cubicBezTo>
                <a:cubicBezTo>
                  <a:pt x="6701" y="15916"/>
                  <a:pt x="6694" y="15958"/>
                  <a:pt x="6697" y="15999"/>
                </a:cubicBezTo>
                <a:cubicBezTo>
                  <a:pt x="6702" y="15875"/>
                  <a:pt x="6719" y="15780"/>
                  <a:pt x="6722" y="15652"/>
                </a:cubicBezTo>
                <a:cubicBezTo>
                  <a:pt x="6725" y="15549"/>
                  <a:pt x="6762" y="15427"/>
                  <a:pt x="6747" y="15329"/>
                </a:cubicBezTo>
                <a:cubicBezTo>
                  <a:pt x="6732" y="15229"/>
                  <a:pt x="6742" y="15176"/>
                  <a:pt x="6747" y="15081"/>
                </a:cubicBezTo>
                <a:cubicBezTo>
                  <a:pt x="6751" y="15006"/>
                  <a:pt x="6757" y="15003"/>
                  <a:pt x="6796" y="14957"/>
                </a:cubicBezTo>
                <a:cubicBezTo>
                  <a:pt x="6839" y="14907"/>
                  <a:pt x="6811" y="14913"/>
                  <a:pt x="6896" y="14908"/>
                </a:cubicBezTo>
                <a:cubicBezTo>
                  <a:pt x="6985" y="14902"/>
                  <a:pt x="7055" y="14929"/>
                  <a:pt x="7144" y="14932"/>
                </a:cubicBezTo>
                <a:cubicBezTo>
                  <a:pt x="7473" y="14942"/>
                  <a:pt x="7812" y="14900"/>
                  <a:pt x="8136" y="14957"/>
                </a:cubicBezTo>
                <a:cubicBezTo>
                  <a:pt x="8338" y="14992"/>
                  <a:pt x="8551" y="15017"/>
                  <a:pt x="8756" y="15032"/>
                </a:cubicBezTo>
                <a:cubicBezTo>
                  <a:pt x="8889" y="15042"/>
                  <a:pt x="9021" y="15044"/>
                  <a:pt x="9153" y="15056"/>
                </a:cubicBezTo>
                <a:cubicBezTo>
                  <a:pt x="9244" y="15065"/>
                  <a:pt x="9316" y="15040"/>
                  <a:pt x="9401" y="15032"/>
                </a:cubicBezTo>
                <a:cubicBezTo>
                  <a:pt x="9445" y="15028"/>
                  <a:pt x="9493" y="15011"/>
                  <a:pt x="9525" y="15007"/>
                </a:cubicBezTo>
                <a:cubicBezTo>
                  <a:pt x="9570" y="15001"/>
                  <a:pt x="9589" y="15030"/>
                  <a:pt x="9599" y="15032"/>
                </a:cubicBezTo>
                <a:cubicBezTo>
                  <a:pt x="9553" y="15032"/>
                  <a:pt x="9527" y="15020"/>
                  <a:pt x="9500" y="14982"/>
                </a:cubicBezTo>
              </a:path>
              <a:path w="6078" h="1862">
                <a:moveTo>
                  <a:pt x="7144" y="15528"/>
                </a:moveTo>
                <a:cubicBezTo>
                  <a:pt x="7244" y="15539"/>
                  <a:pt x="7301" y="15608"/>
                  <a:pt x="7392" y="15627"/>
                </a:cubicBezTo>
                <a:cubicBezTo>
                  <a:pt x="7468" y="15627"/>
                  <a:pt x="7494" y="15628"/>
                  <a:pt x="7541" y="15652"/>
                </a:cubicBezTo>
              </a:path>
              <a:path w="6078" h="1862">
                <a:moveTo>
                  <a:pt x="7962" y="15478"/>
                </a:moveTo>
                <a:cubicBezTo>
                  <a:pt x="7900" y="15530"/>
                  <a:pt x="7846" y="15552"/>
                  <a:pt x="7838" y="15627"/>
                </a:cubicBezTo>
                <a:cubicBezTo>
                  <a:pt x="7832" y="15679"/>
                  <a:pt x="7853" y="15681"/>
                  <a:pt x="7863" y="15701"/>
                </a:cubicBezTo>
                <a:cubicBezTo>
                  <a:pt x="7891" y="15756"/>
                  <a:pt x="7908" y="15761"/>
                  <a:pt x="7962" y="15801"/>
                </a:cubicBezTo>
                <a:cubicBezTo>
                  <a:pt x="8000" y="15829"/>
                  <a:pt x="8039" y="15832"/>
                  <a:pt x="8086" y="15850"/>
                </a:cubicBezTo>
              </a:path>
              <a:path w="6078" h="1862">
                <a:moveTo>
                  <a:pt x="8285" y="15255"/>
                </a:moveTo>
                <a:cubicBezTo>
                  <a:pt x="8274" y="15349"/>
                  <a:pt x="8238" y="15436"/>
                  <a:pt x="8210" y="15528"/>
                </a:cubicBezTo>
                <a:cubicBezTo>
                  <a:pt x="8179" y="15630"/>
                  <a:pt x="8165" y="15743"/>
                  <a:pt x="8161" y="15850"/>
                </a:cubicBezTo>
                <a:cubicBezTo>
                  <a:pt x="8157" y="15955"/>
                  <a:pt x="8126" y="16047"/>
                  <a:pt x="8111" y="16148"/>
                </a:cubicBezTo>
                <a:cubicBezTo>
                  <a:pt x="8111" y="16189"/>
                  <a:pt x="8111" y="16197"/>
                  <a:pt x="8111" y="162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41920" y="5072040"/>
            <a:ext cx="1751040" cy="509760"/>
          </a:xfrm>
          <a:custGeom>
            <a:avLst/>
            <a:gdLst/>
            <a:ahLst/>
            <a:rect l="l" t="t" r="r" b="b"/>
            <a:pathLst>
              <a:path w="4863" h="1415">
                <a:moveTo>
                  <a:pt x="13271" y="14858"/>
                </a:moveTo>
                <a:cubicBezTo>
                  <a:pt x="13271" y="14972"/>
                  <a:pt x="13251" y="15070"/>
                  <a:pt x="13246" y="15180"/>
                </a:cubicBezTo>
                <a:cubicBezTo>
                  <a:pt x="13243" y="15257"/>
                  <a:pt x="13234" y="15308"/>
                  <a:pt x="13221" y="15379"/>
                </a:cubicBezTo>
                <a:cubicBezTo>
                  <a:pt x="13221" y="15387"/>
                  <a:pt x="13221" y="15396"/>
                  <a:pt x="13221" y="15404"/>
                </a:cubicBezTo>
                <a:cubicBezTo>
                  <a:pt x="13203" y="15373"/>
                  <a:pt x="13207" y="15342"/>
                  <a:pt x="13196" y="15280"/>
                </a:cubicBezTo>
                <a:cubicBezTo>
                  <a:pt x="13171" y="15139"/>
                  <a:pt x="13184" y="15048"/>
                  <a:pt x="13196" y="14908"/>
                </a:cubicBezTo>
                <a:cubicBezTo>
                  <a:pt x="13208" y="14768"/>
                  <a:pt x="13216" y="14624"/>
                  <a:pt x="13221" y="14486"/>
                </a:cubicBezTo>
                <a:cubicBezTo>
                  <a:pt x="13224" y="14410"/>
                  <a:pt x="13209" y="14349"/>
                  <a:pt x="13246" y="14288"/>
                </a:cubicBezTo>
                <a:cubicBezTo>
                  <a:pt x="13279" y="14342"/>
                  <a:pt x="13297" y="14419"/>
                  <a:pt x="13320" y="14486"/>
                </a:cubicBezTo>
                <a:cubicBezTo>
                  <a:pt x="13362" y="14607"/>
                  <a:pt x="13411" y="14718"/>
                  <a:pt x="13469" y="14833"/>
                </a:cubicBezTo>
                <a:cubicBezTo>
                  <a:pt x="13525" y="14945"/>
                  <a:pt x="13584" y="15064"/>
                  <a:pt x="13667" y="15156"/>
                </a:cubicBezTo>
                <a:cubicBezTo>
                  <a:pt x="13704" y="15197"/>
                  <a:pt x="13755" y="15229"/>
                  <a:pt x="13791" y="15255"/>
                </a:cubicBezTo>
                <a:cubicBezTo>
                  <a:pt x="13802" y="15236"/>
                  <a:pt x="13835" y="15180"/>
                  <a:pt x="13841" y="15131"/>
                </a:cubicBezTo>
                <a:cubicBezTo>
                  <a:pt x="13883" y="14813"/>
                  <a:pt x="13764" y="14360"/>
                  <a:pt x="13866" y="14089"/>
                </a:cubicBezTo>
              </a:path>
              <a:path w="4863" h="1415">
                <a:moveTo>
                  <a:pt x="14064" y="14833"/>
                </a:moveTo>
                <a:cubicBezTo>
                  <a:pt x="14091" y="14981"/>
                  <a:pt x="14073" y="15172"/>
                  <a:pt x="14213" y="15255"/>
                </a:cubicBezTo>
                <a:cubicBezTo>
                  <a:pt x="14263" y="15285"/>
                  <a:pt x="14364" y="15304"/>
                  <a:pt x="14412" y="15255"/>
                </a:cubicBezTo>
                <a:cubicBezTo>
                  <a:pt x="14453" y="15213"/>
                  <a:pt x="14502" y="15112"/>
                  <a:pt x="14511" y="15056"/>
                </a:cubicBezTo>
                <a:cubicBezTo>
                  <a:pt x="14525" y="14965"/>
                  <a:pt x="14500" y="14889"/>
                  <a:pt x="14461" y="14808"/>
                </a:cubicBezTo>
                <a:cubicBezTo>
                  <a:pt x="14426" y="14734"/>
                  <a:pt x="14367" y="14684"/>
                  <a:pt x="14288" y="14660"/>
                </a:cubicBezTo>
                <a:cubicBezTo>
                  <a:pt x="14249" y="14648"/>
                  <a:pt x="14177" y="14662"/>
                  <a:pt x="14163" y="14709"/>
                </a:cubicBezTo>
                <a:cubicBezTo>
                  <a:pt x="14163" y="14726"/>
                  <a:pt x="14163" y="14742"/>
                  <a:pt x="14163" y="14759"/>
                </a:cubicBezTo>
              </a:path>
              <a:path w="4863" h="1415">
                <a:moveTo>
                  <a:pt x="15453" y="14536"/>
                </a:moveTo>
                <a:cubicBezTo>
                  <a:pt x="15493" y="14685"/>
                  <a:pt x="15558" y="14774"/>
                  <a:pt x="15627" y="14908"/>
                </a:cubicBezTo>
                <a:cubicBezTo>
                  <a:pt x="15706" y="15062"/>
                  <a:pt x="15780" y="15200"/>
                  <a:pt x="15900" y="15329"/>
                </a:cubicBezTo>
                <a:cubicBezTo>
                  <a:pt x="15925" y="15354"/>
                  <a:pt x="15949" y="15379"/>
                  <a:pt x="15974" y="15404"/>
                </a:cubicBezTo>
              </a:path>
              <a:path w="4863" h="1415">
                <a:moveTo>
                  <a:pt x="16173" y="14585"/>
                </a:moveTo>
                <a:cubicBezTo>
                  <a:pt x="16052" y="14626"/>
                  <a:pt x="15961" y="14658"/>
                  <a:pt x="15875" y="14759"/>
                </a:cubicBezTo>
                <a:cubicBezTo>
                  <a:pt x="15795" y="14853"/>
                  <a:pt x="15730" y="14960"/>
                  <a:pt x="15652" y="15056"/>
                </a:cubicBezTo>
                <a:cubicBezTo>
                  <a:pt x="15603" y="15116"/>
                  <a:pt x="15553" y="15149"/>
                  <a:pt x="15553" y="15230"/>
                </a:cubicBezTo>
              </a:path>
              <a:path w="4863" h="1415">
                <a:moveTo>
                  <a:pt x="16545" y="15081"/>
                </a:moveTo>
                <a:cubicBezTo>
                  <a:pt x="16558" y="15228"/>
                  <a:pt x="16570" y="15359"/>
                  <a:pt x="16570" y="15503"/>
                </a:cubicBezTo>
              </a:path>
              <a:path w="4863" h="1415">
                <a:moveTo>
                  <a:pt x="16619" y="14635"/>
                </a:moveTo>
                <a:cubicBezTo>
                  <a:pt x="16655" y="14543"/>
                  <a:pt x="16632" y="14501"/>
                  <a:pt x="16718" y="14536"/>
                </a:cubicBezTo>
              </a:path>
              <a:path w="4863" h="1415">
                <a:moveTo>
                  <a:pt x="16818" y="15230"/>
                </a:moveTo>
                <a:cubicBezTo>
                  <a:pt x="16837" y="15307"/>
                  <a:pt x="16829" y="15325"/>
                  <a:pt x="16867" y="15354"/>
                </a:cubicBezTo>
                <a:cubicBezTo>
                  <a:pt x="16891" y="15283"/>
                  <a:pt x="16897" y="15202"/>
                  <a:pt x="16917" y="15131"/>
                </a:cubicBezTo>
                <a:cubicBezTo>
                  <a:pt x="16937" y="15058"/>
                  <a:pt x="16957" y="14950"/>
                  <a:pt x="16991" y="14883"/>
                </a:cubicBezTo>
                <a:cubicBezTo>
                  <a:pt x="17014" y="14860"/>
                  <a:pt x="17022" y="14856"/>
                  <a:pt x="17016" y="14833"/>
                </a:cubicBezTo>
                <a:cubicBezTo>
                  <a:pt x="17045" y="14876"/>
                  <a:pt x="17069" y="14929"/>
                  <a:pt x="17090" y="14982"/>
                </a:cubicBezTo>
                <a:cubicBezTo>
                  <a:pt x="17122" y="15065"/>
                  <a:pt x="17161" y="15188"/>
                  <a:pt x="17214" y="15255"/>
                </a:cubicBezTo>
                <a:cubicBezTo>
                  <a:pt x="17255" y="15308"/>
                  <a:pt x="17356" y="15429"/>
                  <a:pt x="17438" y="15429"/>
                </a:cubicBezTo>
                <a:cubicBezTo>
                  <a:pt x="17491" y="15429"/>
                  <a:pt x="17569" y="15297"/>
                  <a:pt x="17587" y="15255"/>
                </a:cubicBezTo>
                <a:cubicBezTo>
                  <a:pt x="17629" y="15156"/>
                  <a:pt x="17651" y="15036"/>
                  <a:pt x="17661" y="14932"/>
                </a:cubicBezTo>
                <a:cubicBezTo>
                  <a:pt x="17671" y="14819"/>
                  <a:pt x="17661" y="14699"/>
                  <a:pt x="17661" y="14585"/>
                </a:cubicBezTo>
                <a:cubicBezTo>
                  <a:pt x="17642" y="14635"/>
                  <a:pt x="17618" y="14699"/>
                  <a:pt x="17611" y="14759"/>
                </a:cubicBezTo>
                <a:cubicBezTo>
                  <a:pt x="17596" y="14888"/>
                  <a:pt x="17605" y="15032"/>
                  <a:pt x="17636" y="15156"/>
                </a:cubicBezTo>
                <a:cubicBezTo>
                  <a:pt x="17660" y="15252"/>
                  <a:pt x="17686" y="15330"/>
                  <a:pt x="17686" y="15429"/>
                </a:cubicBezTo>
                <a:cubicBezTo>
                  <a:pt x="17686" y="15437"/>
                  <a:pt x="17686" y="15445"/>
                  <a:pt x="17686" y="15453"/>
                </a:cubicBezTo>
              </a:path>
              <a:path w="4863" h="1415">
                <a:moveTo>
                  <a:pt x="17388" y="14883"/>
                </a:moveTo>
                <a:cubicBezTo>
                  <a:pt x="17415" y="14842"/>
                  <a:pt x="17546" y="14850"/>
                  <a:pt x="17611" y="14858"/>
                </a:cubicBezTo>
                <a:cubicBezTo>
                  <a:pt x="17788" y="14880"/>
                  <a:pt x="17843" y="14897"/>
                  <a:pt x="18033" y="148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01920" y="5983200"/>
            <a:ext cx="206280" cy="295200"/>
          </a:xfrm>
          <a:custGeom>
            <a:avLst/>
            <a:gdLst/>
            <a:ahLst/>
            <a:rect l="l" t="t" r="r" b="b"/>
            <a:pathLst>
              <a:path w="572" h="820">
                <a:moveTo>
                  <a:pt x="6722" y="16743"/>
                </a:moveTo>
                <a:cubicBezTo>
                  <a:pt x="6655" y="16810"/>
                  <a:pt x="6760" y="16706"/>
                  <a:pt x="6772" y="16694"/>
                </a:cubicBezTo>
                <a:cubicBezTo>
                  <a:pt x="6801" y="16665"/>
                  <a:pt x="6835" y="16631"/>
                  <a:pt x="6871" y="16619"/>
                </a:cubicBezTo>
                <a:cubicBezTo>
                  <a:pt x="6915" y="16604"/>
                  <a:pt x="6983" y="16619"/>
                  <a:pt x="7020" y="16644"/>
                </a:cubicBezTo>
                <a:cubicBezTo>
                  <a:pt x="7060" y="16671"/>
                  <a:pt x="7108" y="16772"/>
                  <a:pt x="7119" y="16818"/>
                </a:cubicBezTo>
                <a:cubicBezTo>
                  <a:pt x="7154" y="16965"/>
                  <a:pt x="7131" y="17059"/>
                  <a:pt x="7069" y="17190"/>
                </a:cubicBezTo>
                <a:cubicBezTo>
                  <a:pt x="7036" y="17261"/>
                  <a:pt x="6988" y="17303"/>
                  <a:pt x="6921" y="17338"/>
                </a:cubicBezTo>
                <a:cubicBezTo>
                  <a:pt x="6856" y="17372"/>
                  <a:pt x="6831" y="17369"/>
                  <a:pt x="6772" y="17338"/>
                </a:cubicBezTo>
                <a:cubicBezTo>
                  <a:pt x="6704" y="17302"/>
                  <a:pt x="6693" y="17322"/>
                  <a:pt x="6672" y="17239"/>
                </a:cubicBezTo>
                <a:cubicBezTo>
                  <a:pt x="6672" y="17231"/>
                  <a:pt x="6672" y="17222"/>
                  <a:pt x="6672" y="17214"/>
                </a:cubicBezTo>
                <a:cubicBezTo>
                  <a:pt x="6748" y="17172"/>
                  <a:pt x="6810" y="17165"/>
                  <a:pt x="6896" y="17165"/>
                </a:cubicBezTo>
                <a:cubicBezTo>
                  <a:pt x="7000" y="17165"/>
                  <a:pt x="7018" y="17234"/>
                  <a:pt x="7094" y="17289"/>
                </a:cubicBezTo>
                <a:cubicBezTo>
                  <a:pt x="7159" y="17336"/>
                  <a:pt x="7193" y="17376"/>
                  <a:pt x="7243" y="174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27200" y="3081240"/>
            <a:ext cx="36720" cy="27000"/>
          </a:xfrm>
          <a:custGeom>
            <a:avLst/>
            <a:gdLst/>
            <a:ahLst/>
            <a:rect l="l" t="t" r="r" b="b"/>
            <a:pathLst>
              <a:path w="100" h="75">
                <a:moveTo>
                  <a:pt x="7045" y="8607"/>
                </a:moveTo>
                <a:cubicBezTo>
                  <a:pt x="7090" y="8622"/>
                  <a:pt x="7112" y="8634"/>
                  <a:pt x="7119" y="8582"/>
                </a:cubicBezTo>
                <a:cubicBezTo>
                  <a:pt x="7119" y="8574"/>
                  <a:pt x="7119" y="8566"/>
                  <a:pt x="7119" y="8558"/>
                </a:cubicBezTo>
                <a:cubicBezTo>
                  <a:pt x="7079" y="8568"/>
                  <a:pt x="7060" y="8599"/>
                  <a:pt x="7045" y="8607"/>
                </a:cubicBezTo>
                <a:cubicBezTo>
                  <a:pt x="7017" y="8607"/>
                  <a:pt x="7011" y="8609"/>
                  <a:pt x="7045" y="86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57680" y="3062160"/>
            <a:ext cx="44280" cy="27000"/>
          </a:xfrm>
          <a:custGeom>
            <a:avLst/>
            <a:gdLst/>
            <a:ahLst/>
            <a:rect l="l" t="t" r="r" b="b"/>
            <a:pathLst>
              <a:path w="125" h="75">
                <a:moveTo>
                  <a:pt x="7987" y="8533"/>
                </a:moveTo>
                <a:cubicBezTo>
                  <a:pt x="7987" y="8565"/>
                  <a:pt x="7989" y="8608"/>
                  <a:pt x="8037" y="8582"/>
                </a:cubicBezTo>
                <a:cubicBezTo>
                  <a:pt x="8045" y="8574"/>
                  <a:pt x="8054" y="8566"/>
                  <a:pt x="8062" y="8558"/>
                </a:cubicBezTo>
                <a:cubicBezTo>
                  <a:pt x="8024" y="8520"/>
                  <a:pt x="8015" y="8508"/>
                  <a:pt x="7962" y="8508"/>
                </a:cubicBezTo>
                <a:cubicBezTo>
                  <a:pt x="7954" y="8508"/>
                  <a:pt x="7946" y="8508"/>
                  <a:pt x="7938" y="85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60720" y="2367000"/>
            <a:ext cx="36360" cy="27000"/>
          </a:xfrm>
          <a:custGeom>
            <a:avLst/>
            <a:gdLst/>
            <a:ahLst/>
            <a:rect l="l" t="t" r="r" b="b"/>
            <a:pathLst>
              <a:path w="100" h="76">
                <a:moveTo>
                  <a:pt x="6077" y="6623"/>
                </a:moveTo>
                <a:cubicBezTo>
                  <a:pt x="6077" y="6580"/>
                  <a:pt x="6087" y="6585"/>
                  <a:pt x="6052" y="6573"/>
                </a:cubicBezTo>
                <a:cubicBezTo>
                  <a:pt x="6021" y="6584"/>
                  <a:pt x="6013" y="6592"/>
                  <a:pt x="6003" y="6623"/>
                </a:cubicBezTo>
                <a:cubicBezTo>
                  <a:pt x="6046" y="6640"/>
                  <a:pt x="6087" y="6644"/>
                  <a:pt x="6102" y="65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14800" y="2357280"/>
            <a:ext cx="36360" cy="9720"/>
          </a:xfrm>
          <a:custGeom>
            <a:avLst/>
            <a:gdLst/>
            <a:ahLst/>
            <a:rect l="l" t="t" r="r" b="b"/>
            <a:pathLst>
              <a:path w="100" h="26">
                <a:moveTo>
                  <a:pt x="9029" y="6573"/>
                </a:moveTo>
                <a:cubicBezTo>
                  <a:pt x="9029" y="6565"/>
                  <a:pt x="9029" y="6556"/>
                  <a:pt x="9029" y="6548"/>
                </a:cubicBezTo>
                <a:cubicBezTo>
                  <a:pt x="9004" y="6548"/>
                  <a:pt x="8979" y="6548"/>
                  <a:pt x="8954" y="6548"/>
                </a:cubicBezTo>
                <a:cubicBezTo>
                  <a:pt x="8954" y="6573"/>
                  <a:pt x="8954" y="6581"/>
                  <a:pt x="8930" y="65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54160" y="1911240"/>
            <a:ext cx="339840" cy="938160"/>
          </a:xfrm>
          <a:custGeom>
            <a:avLst/>
            <a:gdLst/>
            <a:ahLst/>
            <a:rect l="l" t="t" r="r" b="b"/>
            <a:pathLst>
              <a:path w="944" h="2606">
                <a:moveTo>
                  <a:pt x="5705" y="5308"/>
                </a:moveTo>
                <a:cubicBezTo>
                  <a:pt x="5726" y="5381"/>
                  <a:pt x="5746" y="5440"/>
                  <a:pt x="5755" y="5507"/>
                </a:cubicBezTo>
                <a:cubicBezTo>
                  <a:pt x="5763" y="5563"/>
                  <a:pt x="5764" y="5603"/>
                  <a:pt x="5779" y="5655"/>
                </a:cubicBezTo>
                <a:cubicBezTo>
                  <a:pt x="5791" y="5697"/>
                  <a:pt x="5811" y="5761"/>
                  <a:pt x="5829" y="5804"/>
                </a:cubicBezTo>
                <a:cubicBezTo>
                  <a:pt x="5856" y="5871"/>
                  <a:pt x="5880" y="5936"/>
                  <a:pt x="5904" y="6003"/>
                </a:cubicBezTo>
                <a:cubicBezTo>
                  <a:pt x="5921" y="6052"/>
                  <a:pt x="5914" y="6104"/>
                  <a:pt x="5928" y="6152"/>
                </a:cubicBezTo>
                <a:cubicBezTo>
                  <a:pt x="5947" y="6218"/>
                  <a:pt x="5992" y="6279"/>
                  <a:pt x="6003" y="6350"/>
                </a:cubicBezTo>
                <a:cubicBezTo>
                  <a:pt x="6012" y="6410"/>
                  <a:pt x="6022" y="6465"/>
                  <a:pt x="6028" y="6524"/>
                </a:cubicBezTo>
                <a:cubicBezTo>
                  <a:pt x="6033" y="6578"/>
                  <a:pt x="6039" y="6621"/>
                  <a:pt x="6052" y="6672"/>
                </a:cubicBezTo>
                <a:cubicBezTo>
                  <a:pt x="6067" y="6734"/>
                  <a:pt x="6079" y="6785"/>
                  <a:pt x="6102" y="6846"/>
                </a:cubicBezTo>
                <a:cubicBezTo>
                  <a:pt x="6120" y="6893"/>
                  <a:pt x="6134" y="6946"/>
                  <a:pt x="6152" y="6995"/>
                </a:cubicBezTo>
                <a:cubicBezTo>
                  <a:pt x="6171" y="7046"/>
                  <a:pt x="6180" y="7094"/>
                  <a:pt x="6201" y="7144"/>
                </a:cubicBezTo>
                <a:cubicBezTo>
                  <a:pt x="6223" y="7196"/>
                  <a:pt x="6254" y="7244"/>
                  <a:pt x="6276" y="7293"/>
                </a:cubicBezTo>
                <a:cubicBezTo>
                  <a:pt x="6298" y="7343"/>
                  <a:pt x="6316" y="7370"/>
                  <a:pt x="6350" y="7417"/>
                </a:cubicBezTo>
                <a:cubicBezTo>
                  <a:pt x="6390" y="7473"/>
                  <a:pt x="6418" y="7529"/>
                  <a:pt x="6449" y="7590"/>
                </a:cubicBezTo>
                <a:cubicBezTo>
                  <a:pt x="6471" y="7633"/>
                  <a:pt x="6500" y="7666"/>
                  <a:pt x="6524" y="7714"/>
                </a:cubicBezTo>
                <a:cubicBezTo>
                  <a:pt x="6548" y="7763"/>
                  <a:pt x="6575" y="7795"/>
                  <a:pt x="6598" y="7838"/>
                </a:cubicBezTo>
                <a:cubicBezTo>
                  <a:pt x="6613" y="7867"/>
                  <a:pt x="6622" y="7883"/>
                  <a:pt x="6648" y="79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74920" y="1955880"/>
            <a:ext cx="1117440" cy="1231920"/>
          </a:xfrm>
          <a:custGeom>
            <a:avLst/>
            <a:gdLst/>
            <a:ahLst/>
            <a:rect l="l" t="t" r="r" b="b"/>
            <a:pathLst>
              <a:path w="3102" h="3424">
                <a:moveTo>
                  <a:pt x="6598" y="7838"/>
                </a:moveTo>
                <a:cubicBezTo>
                  <a:pt x="6619" y="7883"/>
                  <a:pt x="6630" y="7922"/>
                  <a:pt x="6648" y="7962"/>
                </a:cubicBezTo>
                <a:cubicBezTo>
                  <a:pt x="6665" y="8000"/>
                  <a:pt x="6680" y="8046"/>
                  <a:pt x="6697" y="8086"/>
                </a:cubicBezTo>
                <a:cubicBezTo>
                  <a:pt x="6711" y="8119"/>
                  <a:pt x="6732" y="8154"/>
                  <a:pt x="6747" y="8186"/>
                </a:cubicBezTo>
                <a:cubicBezTo>
                  <a:pt x="6769" y="8233"/>
                  <a:pt x="6792" y="8273"/>
                  <a:pt x="6821" y="8310"/>
                </a:cubicBezTo>
                <a:cubicBezTo>
                  <a:pt x="6843" y="8339"/>
                  <a:pt x="6881" y="8365"/>
                  <a:pt x="6896" y="8384"/>
                </a:cubicBezTo>
                <a:cubicBezTo>
                  <a:pt x="6924" y="8420"/>
                  <a:pt x="6976" y="8460"/>
                  <a:pt x="6995" y="8483"/>
                </a:cubicBezTo>
                <a:cubicBezTo>
                  <a:pt x="7013" y="8505"/>
                  <a:pt x="7031" y="8542"/>
                  <a:pt x="7045" y="8558"/>
                </a:cubicBezTo>
                <a:cubicBezTo>
                  <a:pt x="7077" y="8594"/>
                  <a:pt x="7085" y="8596"/>
                  <a:pt x="7119" y="8632"/>
                </a:cubicBezTo>
                <a:cubicBezTo>
                  <a:pt x="7149" y="8663"/>
                  <a:pt x="7194" y="8685"/>
                  <a:pt x="7218" y="8706"/>
                </a:cubicBezTo>
                <a:cubicBezTo>
                  <a:pt x="7240" y="8725"/>
                  <a:pt x="7239" y="8738"/>
                  <a:pt x="7268" y="8756"/>
                </a:cubicBezTo>
                <a:cubicBezTo>
                  <a:pt x="7312" y="8784"/>
                  <a:pt x="7324" y="8788"/>
                  <a:pt x="7367" y="8806"/>
                </a:cubicBezTo>
                <a:cubicBezTo>
                  <a:pt x="7375" y="8806"/>
                  <a:pt x="7384" y="8806"/>
                  <a:pt x="7392" y="8806"/>
                </a:cubicBezTo>
                <a:cubicBezTo>
                  <a:pt x="7440" y="8834"/>
                  <a:pt x="7385" y="8838"/>
                  <a:pt x="7466" y="8855"/>
                </a:cubicBezTo>
                <a:cubicBezTo>
                  <a:pt x="7571" y="8876"/>
                  <a:pt x="7624" y="8827"/>
                  <a:pt x="7689" y="8806"/>
                </a:cubicBezTo>
                <a:cubicBezTo>
                  <a:pt x="7733" y="8791"/>
                  <a:pt x="7746" y="8805"/>
                  <a:pt x="7789" y="8781"/>
                </a:cubicBezTo>
                <a:cubicBezTo>
                  <a:pt x="7827" y="8759"/>
                  <a:pt x="7850" y="8733"/>
                  <a:pt x="7888" y="8706"/>
                </a:cubicBezTo>
                <a:cubicBezTo>
                  <a:pt x="7919" y="8685"/>
                  <a:pt x="7953" y="8663"/>
                  <a:pt x="7987" y="8632"/>
                </a:cubicBezTo>
                <a:cubicBezTo>
                  <a:pt x="8005" y="8615"/>
                  <a:pt x="8045" y="8575"/>
                  <a:pt x="8062" y="8558"/>
                </a:cubicBezTo>
                <a:cubicBezTo>
                  <a:pt x="8089" y="8531"/>
                  <a:pt x="8129" y="8499"/>
                  <a:pt x="8161" y="8458"/>
                </a:cubicBezTo>
                <a:cubicBezTo>
                  <a:pt x="8190" y="8421"/>
                  <a:pt x="8214" y="8398"/>
                  <a:pt x="8235" y="8359"/>
                </a:cubicBezTo>
                <a:cubicBezTo>
                  <a:pt x="8258" y="8316"/>
                  <a:pt x="8287" y="8257"/>
                  <a:pt x="8310" y="8210"/>
                </a:cubicBezTo>
                <a:cubicBezTo>
                  <a:pt x="8339" y="8152"/>
                  <a:pt x="8365" y="8091"/>
                  <a:pt x="8384" y="8037"/>
                </a:cubicBezTo>
                <a:cubicBezTo>
                  <a:pt x="8410" y="7966"/>
                  <a:pt x="8437" y="7902"/>
                  <a:pt x="8458" y="7838"/>
                </a:cubicBezTo>
                <a:cubicBezTo>
                  <a:pt x="8481" y="7770"/>
                  <a:pt x="8510" y="7709"/>
                  <a:pt x="8533" y="7640"/>
                </a:cubicBezTo>
                <a:cubicBezTo>
                  <a:pt x="8556" y="7572"/>
                  <a:pt x="8584" y="7510"/>
                  <a:pt x="8607" y="7441"/>
                </a:cubicBezTo>
                <a:cubicBezTo>
                  <a:pt x="8628" y="7379"/>
                  <a:pt x="8663" y="7308"/>
                  <a:pt x="8682" y="7243"/>
                </a:cubicBezTo>
                <a:cubicBezTo>
                  <a:pt x="8702" y="7174"/>
                  <a:pt x="8708" y="7088"/>
                  <a:pt x="8731" y="7020"/>
                </a:cubicBezTo>
                <a:cubicBezTo>
                  <a:pt x="8758" y="6939"/>
                  <a:pt x="8795" y="6850"/>
                  <a:pt x="8830" y="6772"/>
                </a:cubicBezTo>
                <a:cubicBezTo>
                  <a:pt x="8864" y="6697"/>
                  <a:pt x="8899" y="6624"/>
                  <a:pt x="8930" y="6548"/>
                </a:cubicBezTo>
                <a:cubicBezTo>
                  <a:pt x="8984" y="6416"/>
                  <a:pt x="9068" y="6299"/>
                  <a:pt x="9128" y="6176"/>
                </a:cubicBezTo>
                <a:cubicBezTo>
                  <a:pt x="9175" y="6081"/>
                  <a:pt x="9208" y="5976"/>
                  <a:pt x="9252" y="5879"/>
                </a:cubicBezTo>
                <a:cubicBezTo>
                  <a:pt x="9284" y="5809"/>
                  <a:pt x="9301" y="5742"/>
                  <a:pt x="9327" y="5680"/>
                </a:cubicBezTo>
                <a:cubicBezTo>
                  <a:pt x="9351" y="5622"/>
                  <a:pt x="9380" y="5564"/>
                  <a:pt x="9401" y="5507"/>
                </a:cubicBezTo>
                <a:cubicBezTo>
                  <a:pt x="9411" y="5480"/>
                  <a:pt x="9417" y="5461"/>
                  <a:pt x="9426" y="5432"/>
                </a:cubicBezTo>
                <a:cubicBezTo>
                  <a:pt x="9379" y="5476"/>
                  <a:pt x="9342" y="5509"/>
                  <a:pt x="9302" y="5556"/>
                </a:cubicBezTo>
                <a:cubicBezTo>
                  <a:pt x="9259" y="5607"/>
                  <a:pt x="9228" y="5646"/>
                  <a:pt x="9178" y="5680"/>
                </a:cubicBezTo>
                <a:cubicBezTo>
                  <a:pt x="9135" y="5709"/>
                  <a:pt x="9125" y="5722"/>
                  <a:pt x="9153" y="5680"/>
                </a:cubicBezTo>
                <a:cubicBezTo>
                  <a:pt x="9187" y="5628"/>
                  <a:pt x="9256" y="5515"/>
                  <a:pt x="9302" y="5482"/>
                </a:cubicBezTo>
                <a:cubicBezTo>
                  <a:pt x="9339" y="5455"/>
                  <a:pt x="9353" y="5454"/>
                  <a:pt x="9401" y="5457"/>
                </a:cubicBezTo>
                <a:cubicBezTo>
                  <a:pt x="9450" y="5460"/>
                  <a:pt x="9481" y="5516"/>
                  <a:pt x="9525" y="5531"/>
                </a:cubicBezTo>
                <a:cubicBezTo>
                  <a:pt x="9610" y="5560"/>
                  <a:pt x="9657" y="5586"/>
                  <a:pt x="9699" y="56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73160" y="1857240"/>
            <a:ext cx="179640" cy="187560"/>
          </a:xfrm>
          <a:custGeom>
            <a:avLst/>
            <a:gdLst/>
            <a:ahLst/>
            <a:rect l="l" t="t" r="r" b="b"/>
            <a:pathLst>
              <a:path w="497" h="522">
                <a:moveTo>
                  <a:pt x="5482" y="5631"/>
                </a:moveTo>
                <a:cubicBezTo>
                  <a:pt x="5490" y="5647"/>
                  <a:pt x="5499" y="5664"/>
                  <a:pt x="5507" y="5680"/>
                </a:cubicBezTo>
                <a:cubicBezTo>
                  <a:pt x="5559" y="5640"/>
                  <a:pt x="5556" y="5659"/>
                  <a:pt x="5556" y="5581"/>
                </a:cubicBezTo>
                <a:cubicBezTo>
                  <a:pt x="5556" y="5535"/>
                  <a:pt x="5591" y="5450"/>
                  <a:pt x="5606" y="5407"/>
                </a:cubicBezTo>
                <a:cubicBezTo>
                  <a:pt x="5629" y="5338"/>
                  <a:pt x="5684" y="5278"/>
                  <a:pt x="5705" y="5209"/>
                </a:cubicBezTo>
                <a:cubicBezTo>
                  <a:pt x="5705" y="5181"/>
                  <a:pt x="5707" y="5170"/>
                  <a:pt x="5730" y="5159"/>
                </a:cubicBezTo>
                <a:cubicBezTo>
                  <a:pt x="5771" y="5201"/>
                  <a:pt x="5812" y="5232"/>
                  <a:pt x="5854" y="5259"/>
                </a:cubicBezTo>
                <a:cubicBezTo>
                  <a:pt x="5897" y="5301"/>
                  <a:pt x="5928" y="5320"/>
                  <a:pt x="5978" y="53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11800" y="4894200"/>
            <a:ext cx="3749400" cy="312840"/>
          </a:xfrm>
          <a:custGeom>
            <a:avLst/>
            <a:gdLst/>
            <a:ahLst/>
            <a:rect l="l" t="t" r="r" b="b"/>
            <a:pathLst>
              <a:path w="10418" h="869">
                <a:moveTo>
                  <a:pt x="12278" y="13965"/>
                </a:moveTo>
                <a:cubicBezTo>
                  <a:pt x="12292" y="13937"/>
                  <a:pt x="12238" y="13859"/>
                  <a:pt x="12278" y="13816"/>
                </a:cubicBezTo>
                <a:cubicBezTo>
                  <a:pt x="12344" y="13746"/>
                  <a:pt x="12465" y="13704"/>
                  <a:pt x="12551" y="13667"/>
                </a:cubicBezTo>
                <a:cubicBezTo>
                  <a:pt x="12645" y="13627"/>
                  <a:pt x="12796" y="13593"/>
                  <a:pt x="12898" y="13593"/>
                </a:cubicBezTo>
                <a:cubicBezTo>
                  <a:pt x="13056" y="13593"/>
                  <a:pt x="13214" y="13619"/>
                  <a:pt x="13370" y="13643"/>
                </a:cubicBezTo>
                <a:cubicBezTo>
                  <a:pt x="13602" y="13679"/>
                  <a:pt x="13793" y="13768"/>
                  <a:pt x="14015" y="13841"/>
                </a:cubicBezTo>
                <a:cubicBezTo>
                  <a:pt x="14242" y="13916"/>
                  <a:pt x="14460" y="14004"/>
                  <a:pt x="14684" y="14089"/>
                </a:cubicBezTo>
                <a:cubicBezTo>
                  <a:pt x="14974" y="14199"/>
                  <a:pt x="15299" y="14325"/>
                  <a:pt x="15602" y="14387"/>
                </a:cubicBezTo>
                <a:cubicBezTo>
                  <a:pt x="15993" y="14467"/>
                  <a:pt x="16401" y="14491"/>
                  <a:pt x="16793" y="14412"/>
                </a:cubicBezTo>
                <a:cubicBezTo>
                  <a:pt x="16995" y="14371"/>
                  <a:pt x="17189" y="14315"/>
                  <a:pt x="17388" y="14263"/>
                </a:cubicBezTo>
                <a:cubicBezTo>
                  <a:pt x="17573" y="14214"/>
                  <a:pt x="17749" y="14142"/>
                  <a:pt x="17934" y="14089"/>
                </a:cubicBezTo>
                <a:cubicBezTo>
                  <a:pt x="18297" y="13985"/>
                  <a:pt x="18700" y="13989"/>
                  <a:pt x="19075" y="14039"/>
                </a:cubicBezTo>
                <a:cubicBezTo>
                  <a:pt x="19332" y="14073"/>
                  <a:pt x="19585" y="14126"/>
                  <a:pt x="19844" y="14163"/>
                </a:cubicBezTo>
                <a:cubicBezTo>
                  <a:pt x="20111" y="14201"/>
                  <a:pt x="20372" y="14270"/>
                  <a:pt x="20638" y="14312"/>
                </a:cubicBezTo>
                <a:cubicBezTo>
                  <a:pt x="20942" y="14360"/>
                  <a:pt x="21250" y="14385"/>
                  <a:pt x="21555" y="14412"/>
                </a:cubicBezTo>
                <a:cubicBezTo>
                  <a:pt x="21803" y="14434"/>
                  <a:pt x="22053" y="14458"/>
                  <a:pt x="22299" y="14412"/>
                </a:cubicBezTo>
                <a:cubicBezTo>
                  <a:pt x="22454" y="14383"/>
                  <a:pt x="22585" y="14318"/>
                  <a:pt x="22647" y="14163"/>
                </a:cubicBezTo>
                <a:cubicBezTo>
                  <a:pt x="22715" y="13993"/>
                  <a:pt x="22637" y="13908"/>
                  <a:pt x="22597" y="137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Y=-x</a:t>
            </a:r>
            <a:r>
              <a:rPr b="1" lang="en-US" sz="4400" spc="-1" strike="noStrike" baseline="30000">
                <a:solidFill>
                  <a:srgbClr val="dddddd"/>
                </a:solidFill>
                <a:latin typeface="Garamond"/>
              </a:rPr>
              <a:t>2</a:t>
            </a: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+2x+5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227" name="handygraph1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4381560" cy="44960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11280" y="1393920"/>
            <a:ext cx="1231920" cy="1008000"/>
          </a:xfrm>
          <a:custGeom>
            <a:avLst/>
            <a:gdLst/>
            <a:ahLst/>
            <a:rect l="l" t="t" r="r" b="b"/>
            <a:pathLst>
              <a:path w="3424" h="2803">
                <a:moveTo>
                  <a:pt x="8558" y="3944"/>
                </a:moveTo>
                <a:cubicBezTo>
                  <a:pt x="8558" y="3919"/>
                  <a:pt x="8558" y="3911"/>
                  <a:pt x="8558" y="3894"/>
                </a:cubicBezTo>
                <a:cubicBezTo>
                  <a:pt x="8547" y="3909"/>
                  <a:pt x="8499" y="3962"/>
                  <a:pt x="8508" y="3969"/>
                </a:cubicBezTo>
                <a:cubicBezTo>
                  <a:pt x="8537" y="3991"/>
                  <a:pt x="8589" y="3958"/>
                  <a:pt x="8607" y="3944"/>
                </a:cubicBezTo>
                <a:cubicBezTo>
                  <a:pt x="8591" y="3895"/>
                  <a:pt x="8571" y="3911"/>
                  <a:pt x="8533" y="3919"/>
                </a:cubicBezTo>
                <a:cubicBezTo>
                  <a:pt x="8505" y="3919"/>
                  <a:pt x="8494" y="3921"/>
                  <a:pt x="8483" y="3944"/>
                </a:cubicBezTo>
              </a:path>
              <a:path w="3424" h="2803">
                <a:moveTo>
                  <a:pt x="7491" y="5085"/>
                </a:moveTo>
                <a:cubicBezTo>
                  <a:pt x="7544" y="5055"/>
                  <a:pt x="7585" y="5024"/>
                  <a:pt x="7615" y="4986"/>
                </a:cubicBezTo>
                <a:cubicBezTo>
                  <a:pt x="7640" y="4961"/>
                  <a:pt x="7648" y="4953"/>
                  <a:pt x="7665" y="4936"/>
                </a:cubicBezTo>
                <a:cubicBezTo>
                  <a:pt x="7637" y="4915"/>
                  <a:pt x="7588" y="4901"/>
                  <a:pt x="7565" y="4936"/>
                </a:cubicBezTo>
                <a:cubicBezTo>
                  <a:pt x="7558" y="4947"/>
                  <a:pt x="7565" y="4997"/>
                  <a:pt x="7565" y="5011"/>
                </a:cubicBezTo>
              </a:path>
              <a:path w="3424" h="2803">
                <a:moveTo>
                  <a:pt x="9624" y="4911"/>
                </a:moveTo>
                <a:cubicBezTo>
                  <a:pt x="9601" y="4911"/>
                  <a:pt x="9414" y="4901"/>
                  <a:pt x="9426" y="4936"/>
                </a:cubicBezTo>
                <a:cubicBezTo>
                  <a:pt x="9434" y="4936"/>
                  <a:pt x="9443" y="4936"/>
                  <a:pt x="9451" y="4936"/>
                </a:cubicBezTo>
              </a:path>
              <a:path w="3424" h="2803">
                <a:moveTo>
                  <a:pt x="6846" y="6573"/>
                </a:moveTo>
                <a:cubicBezTo>
                  <a:pt x="6860" y="6516"/>
                  <a:pt x="6859" y="6478"/>
                  <a:pt x="6871" y="6424"/>
                </a:cubicBezTo>
                <a:cubicBezTo>
                  <a:pt x="6885" y="6359"/>
                  <a:pt x="6905" y="6291"/>
                  <a:pt x="6921" y="6226"/>
                </a:cubicBezTo>
                <a:cubicBezTo>
                  <a:pt x="6939" y="6155"/>
                  <a:pt x="6966" y="6097"/>
                  <a:pt x="6995" y="6028"/>
                </a:cubicBezTo>
                <a:cubicBezTo>
                  <a:pt x="7058" y="5876"/>
                  <a:pt x="7134" y="5723"/>
                  <a:pt x="7218" y="5581"/>
                </a:cubicBezTo>
                <a:cubicBezTo>
                  <a:pt x="7271" y="5491"/>
                  <a:pt x="7308" y="5398"/>
                  <a:pt x="7367" y="5308"/>
                </a:cubicBezTo>
                <a:cubicBezTo>
                  <a:pt x="7427" y="5217"/>
                  <a:pt x="7454" y="5097"/>
                  <a:pt x="7516" y="5011"/>
                </a:cubicBezTo>
                <a:cubicBezTo>
                  <a:pt x="7579" y="4924"/>
                  <a:pt x="7630" y="4853"/>
                  <a:pt x="7689" y="4762"/>
                </a:cubicBezTo>
                <a:cubicBezTo>
                  <a:pt x="7777" y="4627"/>
                  <a:pt x="7870" y="4496"/>
                  <a:pt x="7962" y="4366"/>
                </a:cubicBezTo>
                <a:cubicBezTo>
                  <a:pt x="8021" y="4283"/>
                  <a:pt x="8105" y="4183"/>
                  <a:pt x="8186" y="4118"/>
                </a:cubicBezTo>
                <a:cubicBezTo>
                  <a:pt x="8258" y="4060"/>
                  <a:pt x="8332" y="4022"/>
                  <a:pt x="8409" y="3969"/>
                </a:cubicBezTo>
                <a:cubicBezTo>
                  <a:pt x="8465" y="3930"/>
                  <a:pt x="8562" y="3885"/>
                  <a:pt x="8632" y="3870"/>
                </a:cubicBezTo>
                <a:cubicBezTo>
                  <a:pt x="8709" y="3853"/>
                  <a:pt x="8810" y="3867"/>
                  <a:pt x="8880" y="3894"/>
                </a:cubicBezTo>
                <a:cubicBezTo>
                  <a:pt x="8959" y="3925"/>
                  <a:pt x="9035" y="3970"/>
                  <a:pt x="9103" y="4018"/>
                </a:cubicBezTo>
                <a:cubicBezTo>
                  <a:pt x="9162" y="4059"/>
                  <a:pt x="9214" y="4107"/>
                  <a:pt x="9252" y="4167"/>
                </a:cubicBezTo>
                <a:cubicBezTo>
                  <a:pt x="9296" y="4236"/>
                  <a:pt x="9319" y="4320"/>
                  <a:pt x="9351" y="4390"/>
                </a:cubicBezTo>
                <a:cubicBezTo>
                  <a:pt x="9393" y="4482"/>
                  <a:pt x="9451" y="4553"/>
                  <a:pt x="9500" y="4638"/>
                </a:cubicBezTo>
                <a:cubicBezTo>
                  <a:pt x="9550" y="4724"/>
                  <a:pt x="9608" y="4824"/>
                  <a:pt x="9649" y="4911"/>
                </a:cubicBezTo>
                <a:cubicBezTo>
                  <a:pt x="9687" y="4990"/>
                  <a:pt x="9704" y="5074"/>
                  <a:pt x="9723" y="5159"/>
                </a:cubicBezTo>
                <a:cubicBezTo>
                  <a:pt x="9740" y="5234"/>
                  <a:pt x="9755" y="5310"/>
                  <a:pt x="9773" y="5383"/>
                </a:cubicBezTo>
                <a:cubicBezTo>
                  <a:pt x="9790" y="5454"/>
                  <a:pt x="9810" y="5513"/>
                  <a:pt x="9847" y="5581"/>
                </a:cubicBezTo>
                <a:cubicBezTo>
                  <a:pt x="9868" y="5619"/>
                  <a:pt x="9900" y="5675"/>
                  <a:pt x="9922" y="5705"/>
                </a:cubicBezTo>
                <a:cubicBezTo>
                  <a:pt x="9930" y="5713"/>
                  <a:pt x="9939" y="5722"/>
                  <a:pt x="9947" y="5730"/>
                </a:cubicBezTo>
              </a:path>
              <a:path w="3424" h="2803">
                <a:moveTo>
                  <a:pt x="9624" y="5606"/>
                </a:moveTo>
                <a:cubicBezTo>
                  <a:pt x="9634" y="5682"/>
                  <a:pt x="9664" y="5712"/>
                  <a:pt x="9699" y="5779"/>
                </a:cubicBezTo>
                <a:cubicBezTo>
                  <a:pt x="9730" y="5838"/>
                  <a:pt x="9748" y="5899"/>
                  <a:pt x="9773" y="5953"/>
                </a:cubicBezTo>
                <a:cubicBezTo>
                  <a:pt x="9791" y="5993"/>
                  <a:pt x="9818" y="6033"/>
                  <a:pt x="9823" y="6077"/>
                </a:cubicBezTo>
                <a:cubicBezTo>
                  <a:pt x="9823" y="6085"/>
                  <a:pt x="9823" y="6094"/>
                  <a:pt x="9823" y="6102"/>
                </a:cubicBezTo>
                <a:cubicBezTo>
                  <a:pt x="9869" y="6086"/>
                  <a:pt x="9854" y="6052"/>
                  <a:pt x="9872" y="6003"/>
                </a:cubicBezTo>
                <a:cubicBezTo>
                  <a:pt x="9896" y="5935"/>
                  <a:pt x="9975" y="5858"/>
                  <a:pt x="10021" y="5804"/>
                </a:cubicBezTo>
                <a:cubicBezTo>
                  <a:pt x="10059" y="5759"/>
                  <a:pt x="10099" y="5748"/>
                  <a:pt x="10120" y="5705"/>
                </a:cubicBezTo>
              </a:path>
              <a:path w="3424" h="2803">
                <a:moveTo>
                  <a:pt x="6697" y="6276"/>
                </a:moveTo>
                <a:cubicBezTo>
                  <a:pt x="6714" y="6284"/>
                  <a:pt x="6730" y="6292"/>
                  <a:pt x="6747" y="6300"/>
                </a:cubicBezTo>
              </a:path>
              <a:path w="3424" h="2803">
                <a:moveTo>
                  <a:pt x="6796" y="6400"/>
                </a:moveTo>
                <a:cubicBezTo>
                  <a:pt x="6828" y="6477"/>
                  <a:pt x="6875" y="6567"/>
                  <a:pt x="6896" y="6648"/>
                </a:cubicBezTo>
                <a:cubicBezTo>
                  <a:pt x="6902" y="6671"/>
                  <a:pt x="6937" y="6690"/>
                  <a:pt x="6970" y="6672"/>
                </a:cubicBezTo>
                <a:cubicBezTo>
                  <a:pt x="7036" y="6636"/>
                  <a:pt x="7091" y="6578"/>
                  <a:pt x="7144" y="6524"/>
                </a:cubicBezTo>
                <a:cubicBezTo>
                  <a:pt x="7213" y="6454"/>
                  <a:pt x="7245" y="6412"/>
                  <a:pt x="7342" y="64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19760" y="1660680"/>
            <a:ext cx="1305000" cy="438120"/>
          </a:xfrm>
          <a:custGeom>
            <a:avLst/>
            <a:gdLst/>
            <a:ahLst/>
            <a:rect l="l" t="t" r="r" b="b"/>
            <a:pathLst>
              <a:path w="3623" h="1216">
                <a:moveTo>
                  <a:pt x="14039" y="4614"/>
                </a:moveTo>
                <a:cubicBezTo>
                  <a:pt x="14021" y="4650"/>
                  <a:pt x="13973" y="4719"/>
                  <a:pt x="13940" y="4762"/>
                </a:cubicBezTo>
                <a:cubicBezTo>
                  <a:pt x="13882" y="4837"/>
                  <a:pt x="13811" y="4924"/>
                  <a:pt x="13767" y="5011"/>
                </a:cubicBezTo>
                <a:cubicBezTo>
                  <a:pt x="13718" y="5109"/>
                  <a:pt x="13695" y="5226"/>
                  <a:pt x="13692" y="5333"/>
                </a:cubicBezTo>
                <a:cubicBezTo>
                  <a:pt x="13688" y="5473"/>
                  <a:pt x="13660" y="5549"/>
                  <a:pt x="13742" y="5680"/>
                </a:cubicBezTo>
                <a:cubicBezTo>
                  <a:pt x="13768" y="5720"/>
                  <a:pt x="13790" y="5776"/>
                  <a:pt x="13841" y="5779"/>
                </a:cubicBezTo>
                <a:cubicBezTo>
                  <a:pt x="13893" y="5779"/>
                  <a:pt x="13911" y="5778"/>
                  <a:pt x="13940" y="5755"/>
                </a:cubicBezTo>
              </a:path>
              <a:path w="3623" h="1216">
                <a:moveTo>
                  <a:pt x="14412" y="4738"/>
                </a:moveTo>
                <a:cubicBezTo>
                  <a:pt x="14371" y="4853"/>
                  <a:pt x="14325" y="4965"/>
                  <a:pt x="14312" y="5085"/>
                </a:cubicBezTo>
                <a:cubicBezTo>
                  <a:pt x="14302" y="5174"/>
                  <a:pt x="14292" y="5270"/>
                  <a:pt x="14288" y="5358"/>
                </a:cubicBezTo>
                <a:cubicBezTo>
                  <a:pt x="14285" y="5440"/>
                  <a:pt x="14288" y="5524"/>
                  <a:pt x="14288" y="5606"/>
                </a:cubicBezTo>
              </a:path>
              <a:path w="3623" h="1216">
                <a:moveTo>
                  <a:pt x="14511" y="5407"/>
                </a:moveTo>
                <a:cubicBezTo>
                  <a:pt x="14491" y="5506"/>
                  <a:pt x="14442" y="5629"/>
                  <a:pt x="14436" y="5730"/>
                </a:cubicBezTo>
                <a:cubicBezTo>
                  <a:pt x="14434" y="5755"/>
                  <a:pt x="14406" y="5866"/>
                  <a:pt x="14436" y="5804"/>
                </a:cubicBezTo>
              </a:path>
              <a:path w="3623" h="1216">
                <a:moveTo>
                  <a:pt x="14833" y="4986"/>
                </a:moveTo>
                <a:cubicBezTo>
                  <a:pt x="14792" y="5111"/>
                  <a:pt x="14740" y="5228"/>
                  <a:pt x="14734" y="5358"/>
                </a:cubicBezTo>
                <a:cubicBezTo>
                  <a:pt x="14732" y="5402"/>
                  <a:pt x="14746" y="5481"/>
                  <a:pt x="14784" y="5507"/>
                </a:cubicBezTo>
                <a:cubicBezTo>
                  <a:pt x="14818" y="5530"/>
                  <a:pt x="14919" y="5552"/>
                  <a:pt x="14957" y="5531"/>
                </a:cubicBezTo>
                <a:cubicBezTo>
                  <a:pt x="15032" y="5490"/>
                  <a:pt x="15079" y="5421"/>
                  <a:pt x="15131" y="5358"/>
                </a:cubicBezTo>
                <a:cubicBezTo>
                  <a:pt x="15195" y="5281"/>
                  <a:pt x="15205" y="5259"/>
                  <a:pt x="15205" y="5159"/>
                </a:cubicBezTo>
                <a:cubicBezTo>
                  <a:pt x="15205" y="5151"/>
                  <a:pt x="15205" y="5143"/>
                  <a:pt x="15205" y="5135"/>
                </a:cubicBezTo>
                <a:cubicBezTo>
                  <a:pt x="15121" y="5135"/>
                  <a:pt x="15119" y="5145"/>
                  <a:pt x="15056" y="5209"/>
                </a:cubicBezTo>
                <a:cubicBezTo>
                  <a:pt x="14996" y="5270"/>
                  <a:pt x="14964" y="5298"/>
                  <a:pt x="14957" y="5383"/>
                </a:cubicBezTo>
                <a:cubicBezTo>
                  <a:pt x="14955" y="5414"/>
                  <a:pt x="14920" y="5458"/>
                  <a:pt x="14957" y="5482"/>
                </a:cubicBezTo>
                <a:cubicBezTo>
                  <a:pt x="14982" y="5482"/>
                  <a:pt x="14990" y="5482"/>
                  <a:pt x="14982" y="5457"/>
                </a:cubicBezTo>
              </a:path>
              <a:path w="3623" h="1216">
                <a:moveTo>
                  <a:pt x="15503" y="4713"/>
                </a:moveTo>
                <a:cubicBezTo>
                  <a:pt x="15541" y="4858"/>
                  <a:pt x="15598" y="5006"/>
                  <a:pt x="15577" y="5159"/>
                </a:cubicBezTo>
                <a:cubicBezTo>
                  <a:pt x="15560" y="5285"/>
                  <a:pt x="15534" y="5391"/>
                  <a:pt x="15478" y="5507"/>
                </a:cubicBezTo>
                <a:cubicBezTo>
                  <a:pt x="15444" y="5577"/>
                  <a:pt x="15384" y="5582"/>
                  <a:pt x="15329" y="5631"/>
                </a:cubicBezTo>
                <a:cubicBezTo>
                  <a:pt x="15287" y="5668"/>
                  <a:pt x="15259" y="5680"/>
                  <a:pt x="15205" y="5680"/>
                </a:cubicBezTo>
                <a:cubicBezTo>
                  <a:pt x="15177" y="5680"/>
                  <a:pt x="15166" y="5682"/>
                  <a:pt x="15156" y="5705"/>
                </a:cubicBezTo>
              </a:path>
              <a:path w="3623" h="1216">
                <a:moveTo>
                  <a:pt x="15925" y="5184"/>
                </a:moveTo>
                <a:cubicBezTo>
                  <a:pt x="15934" y="5292"/>
                  <a:pt x="15927" y="5425"/>
                  <a:pt x="15949" y="5531"/>
                </a:cubicBezTo>
                <a:cubicBezTo>
                  <a:pt x="15952" y="5545"/>
                  <a:pt x="15987" y="5647"/>
                  <a:pt x="15999" y="5655"/>
                </a:cubicBezTo>
                <a:cubicBezTo>
                  <a:pt x="16027" y="5655"/>
                  <a:pt x="16038" y="5657"/>
                  <a:pt x="16049" y="5680"/>
                </a:cubicBezTo>
                <a:cubicBezTo>
                  <a:pt x="16049" y="5635"/>
                  <a:pt x="16070" y="5621"/>
                  <a:pt x="16073" y="5581"/>
                </a:cubicBezTo>
                <a:cubicBezTo>
                  <a:pt x="16078" y="5512"/>
                  <a:pt x="16112" y="5453"/>
                  <a:pt x="16123" y="5383"/>
                </a:cubicBezTo>
                <a:cubicBezTo>
                  <a:pt x="16134" y="5314"/>
                  <a:pt x="16155" y="5245"/>
                  <a:pt x="16197" y="5184"/>
                </a:cubicBezTo>
                <a:cubicBezTo>
                  <a:pt x="16227" y="5140"/>
                  <a:pt x="16266" y="5126"/>
                  <a:pt x="16297" y="5085"/>
                </a:cubicBezTo>
              </a:path>
              <a:path w="3623" h="1216">
                <a:moveTo>
                  <a:pt x="16272" y="5432"/>
                </a:moveTo>
                <a:cubicBezTo>
                  <a:pt x="16356" y="5406"/>
                  <a:pt x="16406" y="5392"/>
                  <a:pt x="16470" y="5333"/>
                </a:cubicBezTo>
                <a:cubicBezTo>
                  <a:pt x="16510" y="5297"/>
                  <a:pt x="16541" y="5237"/>
                  <a:pt x="16545" y="5184"/>
                </a:cubicBezTo>
                <a:cubicBezTo>
                  <a:pt x="16545" y="5143"/>
                  <a:pt x="16545" y="5135"/>
                  <a:pt x="16545" y="5110"/>
                </a:cubicBezTo>
              </a:path>
              <a:path w="3623" h="1216">
                <a:moveTo>
                  <a:pt x="16346" y="5184"/>
                </a:moveTo>
                <a:cubicBezTo>
                  <a:pt x="16299" y="5269"/>
                  <a:pt x="16228" y="5362"/>
                  <a:pt x="16222" y="5457"/>
                </a:cubicBezTo>
                <a:cubicBezTo>
                  <a:pt x="16219" y="5503"/>
                  <a:pt x="16250" y="5560"/>
                  <a:pt x="16297" y="5581"/>
                </a:cubicBezTo>
                <a:cubicBezTo>
                  <a:pt x="16334" y="5598"/>
                  <a:pt x="16425" y="5584"/>
                  <a:pt x="16446" y="5556"/>
                </a:cubicBezTo>
                <a:cubicBezTo>
                  <a:pt x="16470" y="5507"/>
                  <a:pt x="16479" y="5490"/>
                  <a:pt x="16520" y="5482"/>
                </a:cubicBezTo>
              </a:path>
              <a:path w="3623" h="1216">
                <a:moveTo>
                  <a:pt x="16619" y="5383"/>
                </a:moveTo>
                <a:cubicBezTo>
                  <a:pt x="16619" y="5432"/>
                  <a:pt x="16619" y="5482"/>
                  <a:pt x="16619" y="5531"/>
                </a:cubicBezTo>
                <a:cubicBezTo>
                  <a:pt x="16619" y="5424"/>
                  <a:pt x="16601" y="5306"/>
                  <a:pt x="16644" y="5209"/>
                </a:cubicBezTo>
                <a:cubicBezTo>
                  <a:pt x="16669" y="5153"/>
                  <a:pt x="16712" y="5111"/>
                  <a:pt x="16743" y="5060"/>
                </a:cubicBezTo>
                <a:cubicBezTo>
                  <a:pt x="16789" y="4985"/>
                  <a:pt x="16847" y="4985"/>
                  <a:pt x="16917" y="4936"/>
                </a:cubicBezTo>
                <a:cubicBezTo>
                  <a:pt x="16944" y="4917"/>
                  <a:pt x="17026" y="4910"/>
                  <a:pt x="17041" y="4887"/>
                </a:cubicBezTo>
                <a:cubicBezTo>
                  <a:pt x="17041" y="4879"/>
                  <a:pt x="17041" y="4870"/>
                  <a:pt x="17041" y="4862"/>
                </a:cubicBezTo>
                <a:cubicBezTo>
                  <a:pt x="17041" y="4936"/>
                  <a:pt x="17004" y="4973"/>
                  <a:pt x="16991" y="5060"/>
                </a:cubicBezTo>
                <a:cubicBezTo>
                  <a:pt x="16974" y="5171"/>
                  <a:pt x="16999" y="5280"/>
                  <a:pt x="17016" y="5383"/>
                </a:cubicBezTo>
                <a:cubicBezTo>
                  <a:pt x="17018" y="5395"/>
                  <a:pt x="17056" y="5495"/>
                  <a:pt x="17041" y="5507"/>
                </a:cubicBezTo>
                <a:cubicBezTo>
                  <a:pt x="17033" y="5507"/>
                  <a:pt x="17024" y="5507"/>
                  <a:pt x="17016" y="5507"/>
                </a:cubicBezTo>
              </a:path>
              <a:path w="3623" h="1216">
                <a:moveTo>
                  <a:pt x="16768" y="5184"/>
                </a:moveTo>
                <a:cubicBezTo>
                  <a:pt x="16786" y="5130"/>
                  <a:pt x="16879" y="5159"/>
                  <a:pt x="16942" y="5159"/>
                </a:cubicBezTo>
                <a:cubicBezTo>
                  <a:pt x="17040" y="5159"/>
                  <a:pt x="17210" y="5192"/>
                  <a:pt x="17289" y="51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40200" y="2313000"/>
            <a:ext cx="1197000" cy="473040"/>
          </a:xfrm>
          <a:custGeom>
            <a:avLst/>
            <a:gdLst/>
            <a:ahLst/>
            <a:rect l="l" t="t" r="r" b="b"/>
            <a:pathLst>
              <a:path w="3325" h="1316">
                <a:moveTo>
                  <a:pt x="13494" y="6896"/>
                </a:moveTo>
                <a:cubicBezTo>
                  <a:pt x="13504" y="6945"/>
                  <a:pt x="13537" y="6996"/>
                  <a:pt x="13543" y="7045"/>
                </a:cubicBezTo>
                <a:cubicBezTo>
                  <a:pt x="13556" y="7140"/>
                  <a:pt x="13590" y="7159"/>
                  <a:pt x="13618" y="7243"/>
                </a:cubicBezTo>
                <a:cubicBezTo>
                  <a:pt x="13632" y="7284"/>
                  <a:pt x="13660" y="7331"/>
                  <a:pt x="13692" y="7342"/>
                </a:cubicBezTo>
              </a:path>
              <a:path w="3325" h="1316">
                <a:moveTo>
                  <a:pt x="13667" y="6821"/>
                </a:moveTo>
                <a:cubicBezTo>
                  <a:pt x="13644" y="6940"/>
                  <a:pt x="13625" y="7051"/>
                  <a:pt x="13593" y="7169"/>
                </a:cubicBezTo>
                <a:cubicBezTo>
                  <a:pt x="13562" y="7284"/>
                  <a:pt x="13559" y="7407"/>
                  <a:pt x="13519" y="7516"/>
                </a:cubicBezTo>
                <a:cubicBezTo>
                  <a:pt x="13502" y="7564"/>
                  <a:pt x="13489" y="7650"/>
                  <a:pt x="13469" y="7689"/>
                </a:cubicBezTo>
                <a:cubicBezTo>
                  <a:pt x="13448" y="7730"/>
                  <a:pt x="13451" y="7767"/>
                  <a:pt x="13469" y="7714"/>
                </a:cubicBezTo>
              </a:path>
              <a:path w="3325" h="1316">
                <a:moveTo>
                  <a:pt x="13915" y="7069"/>
                </a:moveTo>
                <a:cubicBezTo>
                  <a:pt x="13915" y="7178"/>
                  <a:pt x="13917" y="7244"/>
                  <a:pt x="13940" y="7342"/>
                </a:cubicBezTo>
                <a:cubicBezTo>
                  <a:pt x="13940" y="7350"/>
                  <a:pt x="13940" y="7359"/>
                  <a:pt x="13940" y="7367"/>
                </a:cubicBezTo>
              </a:path>
              <a:path w="3325" h="1316">
                <a:moveTo>
                  <a:pt x="13965" y="6722"/>
                </a:moveTo>
                <a:cubicBezTo>
                  <a:pt x="13965" y="6694"/>
                  <a:pt x="13967" y="6683"/>
                  <a:pt x="13990" y="6672"/>
                </a:cubicBezTo>
              </a:path>
              <a:path w="3325" h="1316">
                <a:moveTo>
                  <a:pt x="14114" y="7169"/>
                </a:moveTo>
                <a:cubicBezTo>
                  <a:pt x="14114" y="7185"/>
                  <a:pt x="14114" y="7202"/>
                  <a:pt x="14114" y="7218"/>
                </a:cubicBezTo>
                <a:cubicBezTo>
                  <a:pt x="14126" y="7160"/>
                  <a:pt x="14139" y="7101"/>
                  <a:pt x="14163" y="7045"/>
                </a:cubicBezTo>
                <a:cubicBezTo>
                  <a:pt x="14190" y="6985"/>
                  <a:pt x="14217" y="6942"/>
                  <a:pt x="14263" y="6896"/>
                </a:cubicBezTo>
                <a:cubicBezTo>
                  <a:pt x="14317" y="6842"/>
                  <a:pt x="14325" y="6877"/>
                  <a:pt x="14362" y="6921"/>
                </a:cubicBezTo>
                <a:cubicBezTo>
                  <a:pt x="14411" y="6980"/>
                  <a:pt x="14427" y="7066"/>
                  <a:pt x="14412" y="7144"/>
                </a:cubicBezTo>
                <a:cubicBezTo>
                  <a:pt x="14398" y="7216"/>
                  <a:pt x="14372" y="7256"/>
                  <a:pt x="14412" y="7317"/>
                </a:cubicBezTo>
                <a:cubicBezTo>
                  <a:pt x="14427" y="7341"/>
                  <a:pt x="14483" y="7357"/>
                  <a:pt x="14511" y="7342"/>
                </a:cubicBezTo>
                <a:cubicBezTo>
                  <a:pt x="14519" y="7334"/>
                  <a:pt x="14528" y="7325"/>
                  <a:pt x="14536" y="7317"/>
                </a:cubicBezTo>
              </a:path>
              <a:path w="3325" h="1316">
                <a:moveTo>
                  <a:pt x="14635" y="6648"/>
                </a:moveTo>
                <a:cubicBezTo>
                  <a:pt x="14668" y="6735"/>
                  <a:pt x="14681" y="6825"/>
                  <a:pt x="14684" y="6921"/>
                </a:cubicBezTo>
                <a:cubicBezTo>
                  <a:pt x="14687" y="7022"/>
                  <a:pt x="14686" y="7100"/>
                  <a:pt x="14709" y="7193"/>
                </a:cubicBezTo>
                <a:cubicBezTo>
                  <a:pt x="14709" y="7218"/>
                  <a:pt x="14709" y="7226"/>
                  <a:pt x="14709" y="7243"/>
                </a:cubicBezTo>
              </a:path>
              <a:path w="3325" h="1316">
                <a:moveTo>
                  <a:pt x="14511" y="6896"/>
                </a:moveTo>
                <a:cubicBezTo>
                  <a:pt x="14583" y="6896"/>
                  <a:pt x="14643" y="6882"/>
                  <a:pt x="14709" y="6871"/>
                </a:cubicBezTo>
                <a:cubicBezTo>
                  <a:pt x="14759" y="6871"/>
                  <a:pt x="14775" y="6871"/>
                  <a:pt x="14808" y="6871"/>
                </a:cubicBezTo>
              </a:path>
              <a:path w="3325" h="1316">
                <a:moveTo>
                  <a:pt x="15354" y="6424"/>
                </a:moveTo>
                <a:cubicBezTo>
                  <a:pt x="15317" y="6526"/>
                  <a:pt x="15270" y="6622"/>
                  <a:pt x="15230" y="6722"/>
                </a:cubicBezTo>
                <a:cubicBezTo>
                  <a:pt x="15195" y="6810"/>
                  <a:pt x="15139" y="6949"/>
                  <a:pt x="15156" y="7045"/>
                </a:cubicBezTo>
                <a:cubicBezTo>
                  <a:pt x="15167" y="7108"/>
                  <a:pt x="15229" y="7184"/>
                  <a:pt x="15280" y="7218"/>
                </a:cubicBezTo>
                <a:cubicBezTo>
                  <a:pt x="15328" y="7242"/>
                  <a:pt x="15342" y="7251"/>
                  <a:pt x="15379" y="7243"/>
                </a:cubicBezTo>
              </a:path>
              <a:path w="3325" h="1316">
                <a:moveTo>
                  <a:pt x="15751" y="6598"/>
                </a:moveTo>
                <a:cubicBezTo>
                  <a:pt x="15726" y="6697"/>
                  <a:pt x="15629" y="6932"/>
                  <a:pt x="15652" y="7045"/>
                </a:cubicBezTo>
                <a:cubicBezTo>
                  <a:pt x="15660" y="7086"/>
                  <a:pt x="15713" y="7197"/>
                  <a:pt x="15751" y="7218"/>
                </a:cubicBezTo>
                <a:cubicBezTo>
                  <a:pt x="15798" y="7244"/>
                  <a:pt x="15852" y="7235"/>
                  <a:pt x="15900" y="7218"/>
                </a:cubicBezTo>
                <a:cubicBezTo>
                  <a:pt x="15999" y="7182"/>
                  <a:pt x="16035" y="7035"/>
                  <a:pt x="16049" y="6945"/>
                </a:cubicBezTo>
                <a:cubicBezTo>
                  <a:pt x="16062" y="6861"/>
                  <a:pt x="16057" y="6784"/>
                  <a:pt x="15999" y="6722"/>
                </a:cubicBezTo>
                <a:cubicBezTo>
                  <a:pt x="15937" y="6656"/>
                  <a:pt x="15903" y="6674"/>
                  <a:pt x="15825" y="6648"/>
                </a:cubicBezTo>
                <a:cubicBezTo>
                  <a:pt x="15757" y="6625"/>
                  <a:pt x="15779" y="6608"/>
                  <a:pt x="15726" y="6648"/>
                </a:cubicBezTo>
              </a:path>
              <a:path w="3325" h="1316">
                <a:moveTo>
                  <a:pt x="16123" y="7094"/>
                </a:moveTo>
                <a:cubicBezTo>
                  <a:pt x="16101" y="7224"/>
                  <a:pt x="16073" y="7336"/>
                  <a:pt x="16073" y="7466"/>
                </a:cubicBezTo>
              </a:path>
              <a:path w="3325" h="1316">
                <a:moveTo>
                  <a:pt x="16421" y="6623"/>
                </a:moveTo>
                <a:cubicBezTo>
                  <a:pt x="16470" y="6615"/>
                  <a:pt x="16671" y="6624"/>
                  <a:pt x="16718" y="6598"/>
                </a:cubicBezTo>
                <a:cubicBezTo>
                  <a:pt x="16735" y="6581"/>
                  <a:pt x="16751" y="6565"/>
                  <a:pt x="16768" y="6548"/>
                </a:cubicBezTo>
              </a:path>
              <a:path w="3325" h="1316">
                <a:moveTo>
                  <a:pt x="16396" y="6648"/>
                </a:moveTo>
                <a:cubicBezTo>
                  <a:pt x="16377" y="6722"/>
                  <a:pt x="16369" y="6729"/>
                  <a:pt x="16371" y="6772"/>
                </a:cubicBezTo>
                <a:cubicBezTo>
                  <a:pt x="16426" y="6783"/>
                  <a:pt x="16461" y="6796"/>
                  <a:pt x="16520" y="6796"/>
                </a:cubicBezTo>
                <a:cubicBezTo>
                  <a:pt x="16589" y="6796"/>
                  <a:pt x="16657" y="6783"/>
                  <a:pt x="16718" y="6821"/>
                </a:cubicBezTo>
                <a:cubicBezTo>
                  <a:pt x="16820" y="6884"/>
                  <a:pt x="16751" y="6950"/>
                  <a:pt x="16718" y="6995"/>
                </a:cubicBezTo>
                <a:cubicBezTo>
                  <a:pt x="16663" y="7071"/>
                  <a:pt x="16633" y="7071"/>
                  <a:pt x="16545" y="7094"/>
                </a:cubicBezTo>
                <a:cubicBezTo>
                  <a:pt x="16475" y="7112"/>
                  <a:pt x="16441" y="7119"/>
                  <a:pt x="16371" y="71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75120" y="3027240"/>
            <a:ext cx="189000" cy="250920"/>
          </a:xfrm>
          <a:custGeom>
            <a:avLst/>
            <a:gdLst/>
            <a:ahLst/>
            <a:rect l="l" t="t" r="r" b="b"/>
            <a:pathLst>
              <a:path w="522" h="695">
                <a:moveTo>
                  <a:pt x="13717" y="8582"/>
                </a:moveTo>
                <a:cubicBezTo>
                  <a:pt x="13754" y="8666"/>
                  <a:pt x="13804" y="8742"/>
                  <a:pt x="13841" y="8806"/>
                </a:cubicBezTo>
                <a:cubicBezTo>
                  <a:pt x="13888" y="8887"/>
                  <a:pt x="13907" y="8935"/>
                  <a:pt x="13965" y="9004"/>
                </a:cubicBezTo>
                <a:cubicBezTo>
                  <a:pt x="13990" y="9034"/>
                  <a:pt x="14036" y="9065"/>
                  <a:pt x="14064" y="9079"/>
                </a:cubicBezTo>
              </a:path>
              <a:path w="522" h="695">
                <a:moveTo>
                  <a:pt x="14015" y="8409"/>
                </a:moveTo>
                <a:cubicBezTo>
                  <a:pt x="13949" y="8493"/>
                  <a:pt x="13903" y="8589"/>
                  <a:pt x="13841" y="8682"/>
                </a:cubicBezTo>
                <a:cubicBezTo>
                  <a:pt x="13794" y="8752"/>
                  <a:pt x="13726" y="8875"/>
                  <a:pt x="13667" y="8930"/>
                </a:cubicBezTo>
                <a:cubicBezTo>
                  <a:pt x="13615" y="8979"/>
                  <a:pt x="13600" y="9047"/>
                  <a:pt x="13568" y="9079"/>
                </a:cubicBezTo>
                <a:cubicBezTo>
                  <a:pt x="13549" y="9098"/>
                  <a:pt x="13543" y="9107"/>
                  <a:pt x="13543" y="90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91080" y="2776680"/>
            <a:ext cx="1332000" cy="501480"/>
          </a:xfrm>
          <a:custGeom>
            <a:avLst/>
            <a:gdLst/>
            <a:ahLst/>
            <a:rect l="l" t="t" r="r" b="b"/>
            <a:pathLst>
              <a:path w="3697" h="1390">
                <a:moveTo>
                  <a:pt x="15528" y="7888"/>
                </a:moveTo>
                <a:cubicBezTo>
                  <a:pt x="15513" y="7964"/>
                  <a:pt x="15464" y="8041"/>
                  <a:pt x="15429" y="8111"/>
                </a:cubicBezTo>
                <a:cubicBezTo>
                  <a:pt x="15394" y="8181"/>
                  <a:pt x="15319" y="8260"/>
                  <a:pt x="15304" y="8334"/>
                </a:cubicBezTo>
                <a:cubicBezTo>
                  <a:pt x="15286" y="8421"/>
                  <a:pt x="15267" y="8517"/>
                  <a:pt x="15255" y="8607"/>
                </a:cubicBezTo>
                <a:cubicBezTo>
                  <a:pt x="15236" y="8744"/>
                  <a:pt x="15269" y="8836"/>
                  <a:pt x="15304" y="8954"/>
                </a:cubicBezTo>
                <a:cubicBezTo>
                  <a:pt x="15321" y="9013"/>
                  <a:pt x="15356" y="9041"/>
                  <a:pt x="15379" y="9079"/>
                </a:cubicBezTo>
                <a:cubicBezTo>
                  <a:pt x="15398" y="9111"/>
                  <a:pt x="15405" y="9103"/>
                  <a:pt x="15453" y="9103"/>
                </a:cubicBezTo>
              </a:path>
              <a:path w="3697" h="1390">
                <a:moveTo>
                  <a:pt x="15999" y="8260"/>
                </a:moveTo>
                <a:cubicBezTo>
                  <a:pt x="15982" y="8379"/>
                  <a:pt x="15936" y="8537"/>
                  <a:pt x="15949" y="8657"/>
                </a:cubicBezTo>
                <a:cubicBezTo>
                  <a:pt x="15958" y="8744"/>
                  <a:pt x="15974" y="8797"/>
                  <a:pt x="15974" y="8880"/>
                </a:cubicBezTo>
                <a:cubicBezTo>
                  <a:pt x="15974" y="8921"/>
                  <a:pt x="15974" y="8929"/>
                  <a:pt x="15974" y="8954"/>
                </a:cubicBezTo>
              </a:path>
              <a:path w="3697" h="1390">
                <a:moveTo>
                  <a:pt x="16470" y="8235"/>
                </a:moveTo>
                <a:cubicBezTo>
                  <a:pt x="16470" y="8339"/>
                  <a:pt x="16457" y="8433"/>
                  <a:pt x="16446" y="8533"/>
                </a:cubicBezTo>
                <a:cubicBezTo>
                  <a:pt x="16436" y="8624"/>
                  <a:pt x="16452" y="8698"/>
                  <a:pt x="16470" y="8781"/>
                </a:cubicBezTo>
                <a:cubicBezTo>
                  <a:pt x="16480" y="8826"/>
                  <a:pt x="16471" y="8838"/>
                  <a:pt x="16446" y="8855"/>
                </a:cubicBezTo>
              </a:path>
              <a:path w="3697" h="1390">
                <a:moveTo>
                  <a:pt x="16222" y="8533"/>
                </a:moveTo>
                <a:cubicBezTo>
                  <a:pt x="16366" y="8509"/>
                  <a:pt x="16497" y="8508"/>
                  <a:pt x="16644" y="8508"/>
                </a:cubicBezTo>
              </a:path>
              <a:path w="3697" h="1390">
                <a:moveTo>
                  <a:pt x="16917" y="8508"/>
                </a:moveTo>
                <a:cubicBezTo>
                  <a:pt x="16917" y="8614"/>
                  <a:pt x="16897" y="8704"/>
                  <a:pt x="16892" y="8806"/>
                </a:cubicBezTo>
                <a:cubicBezTo>
                  <a:pt x="16889" y="8863"/>
                  <a:pt x="16917" y="8892"/>
                  <a:pt x="16917" y="8954"/>
                </a:cubicBezTo>
                <a:cubicBezTo>
                  <a:pt x="16959" y="8941"/>
                  <a:pt x="16942" y="8906"/>
                  <a:pt x="16942" y="8855"/>
                </a:cubicBezTo>
                <a:cubicBezTo>
                  <a:pt x="16942" y="8776"/>
                  <a:pt x="16920" y="8709"/>
                  <a:pt x="16917" y="8632"/>
                </a:cubicBezTo>
                <a:cubicBezTo>
                  <a:pt x="16913" y="8538"/>
                  <a:pt x="16908" y="8445"/>
                  <a:pt x="16942" y="8359"/>
                </a:cubicBezTo>
                <a:cubicBezTo>
                  <a:pt x="16969" y="8292"/>
                  <a:pt x="17049" y="8261"/>
                  <a:pt x="17115" y="8235"/>
                </a:cubicBezTo>
                <a:cubicBezTo>
                  <a:pt x="17191" y="8205"/>
                  <a:pt x="17285" y="8174"/>
                  <a:pt x="17363" y="8161"/>
                </a:cubicBezTo>
                <a:cubicBezTo>
                  <a:pt x="17407" y="8154"/>
                  <a:pt x="17444" y="8145"/>
                  <a:pt x="17487" y="8136"/>
                </a:cubicBezTo>
              </a:path>
              <a:path w="3697" h="1390">
                <a:moveTo>
                  <a:pt x="17314" y="8508"/>
                </a:moveTo>
                <a:cubicBezTo>
                  <a:pt x="17310" y="8535"/>
                  <a:pt x="17249" y="8764"/>
                  <a:pt x="17314" y="8806"/>
                </a:cubicBezTo>
                <a:cubicBezTo>
                  <a:pt x="17336" y="8820"/>
                  <a:pt x="17393" y="8888"/>
                  <a:pt x="17438" y="8880"/>
                </a:cubicBezTo>
                <a:cubicBezTo>
                  <a:pt x="17501" y="8869"/>
                  <a:pt x="17517" y="8835"/>
                  <a:pt x="17562" y="8806"/>
                </a:cubicBezTo>
                <a:cubicBezTo>
                  <a:pt x="17610" y="8774"/>
                  <a:pt x="17611" y="8779"/>
                  <a:pt x="17611" y="8706"/>
                </a:cubicBezTo>
                <a:cubicBezTo>
                  <a:pt x="17611" y="8655"/>
                  <a:pt x="17597" y="8649"/>
                  <a:pt x="17587" y="8607"/>
                </a:cubicBezTo>
                <a:cubicBezTo>
                  <a:pt x="17523" y="8643"/>
                  <a:pt x="17475" y="8668"/>
                  <a:pt x="17438" y="8731"/>
                </a:cubicBezTo>
                <a:cubicBezTo>
                  <a:pt x="17411" y="8777"/>
                  <a:pt x="17369" y="8822"/>
                  <a:pt x="17388" y="8880"/>
                </a:cubicBezTo>
                <a:cubicBezTo>
                  <a:pt x="17405" y="8932"/>
                  <a:pt x="17418" y="8943"/>
                  <a:pt x="17462" y="8954"/>
                </a:cubicBezTo>
              </a:path>
              <a:path w="3697" h="1390">
                <a:moveTo>
                  <a:pt x="17859" y="8706"/>
                </a:moveTo>
                <a:cubicBezTo>
                  <a:pt x="17839" y="8813"/>
                  <a:pt x="17801" y="8923"/>
                  <a:pt x="17785" y="9029"/>
                </a:cubicBezTo>
                <a:cubicBezTo>
                  <a:pt x="17785" y="9070"/>
                  <a:pt x="17785" y="9078"/>
                  <a:pt x="17785" y="9103"/>
                </a:cubicBezTo>
              </a:path>
              <a:path w="3697" h="1390">
                <a:moveTo>
                  <a:pt x="18182" y="8285"/>
                </a:moveTo>
                <a:cubicBezTo>
                  <a:pt x="18147" y="8428"/>
                  <a:pt x="18114" y="8561"/>
                  <a:pt x="18107" y="8706"/>
                </a:cubicBezTo>
                <a:cubicBezTo>
                  <a:pt x="18104" y="8780"/>
                  <a:pt x="18138" y="8851"/>
                  <a:pt x="18207" y="8880"/>
                </a:cubicBezTo>
                <a:cubicBezTo>
                  <a:pt x="18259" y="8902"/>
                  <a:pt x="18333" y="8968"/>
                  <a:pt x="18405" y="8930"/>
                </a:cubicBezTo>
                <a:cubicBezTo>
                  <a:pt x="18442" y="8911"/>
                  <a:pt x="18554" y="8797"/>
                  <a:pt x="18554" y="8756"/>
                </a:cubicBezTo>
                <a:cubicBezTo>
                  <a:pt x="18554" y="8611"/>
                  <a:pt x="18523" y="8474"/>
                  <a:pt x="18405" y="8384"/>
                </a:cubicBezTo>
                <a:cubicBezTo>
                  <a:pt x="18349" y="8341"/>
                  <a:pt x="18269" y="8321"/>
                  <a:pt x="18207" y="8285"/>
                </a:cubicBezTo>
              </a:path>
              <a:path w="3697" h="1390">
                <a:moveTo>
                  <a:pt x="18479" y="7714"/>
                </a:moveTo>
                <a:cubicBezTo>
                  <a:pt x="18708" y="7913"/>
                  <a:pt x="18779" y="7988"/>
                  <a:pt x="18876" y="8260"/>
                </a:cubicBezTo>
                <a:cubicBezTo>
                  <a:pt x="18926" y="8400"/>
                  <a:pt x="18966" y="8512"/>
                  <a:pt x="18926" y="8657"/>
                </a:cubicBezTo>
                <a:cubicBezTo>
                  <a:pt x="18908" y="8724"/>
                  <a:pt x="18868" y="8819"/>
                  <a:pt x="18802" y="8855"/>
                </a:cubicBezTo>
                <a:cubicBezTo>
                  <a:pt x="18777" y="8863"/>
                  <a:pt x="18753" y="8872"/>
                  <a:pt x="18728" y="88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73800" y="3330720"/>
            <a:ext cx="1393560" cy="509400"/>
          </a:xfrm>
          <a:custGeom>
            <a:avLst/>
            <a:gdLst/>
            <a:ahLst/>
            <a:rect l="l" t="t" r="r" b="b"/>
            <a:pathLst>
              <a:path w="3871" h="1415">
                <a:moveTo>
                  <a:pt x="15503" y="9252"/>
                </a:moveTo>
                <a:cubicBezTo>
                  <a:pt x="15409" y="9362"/>
                  <a:pt x="15324" y="9486"/>
                  <a:pt x="15280" y="9624"/>
                </a:cubicBezTo>
                <a:cubicBezTo>
                  <a:pt x="15248" y="9724"/>
                  <a:pt x="15193" y="9889"/>
                  <a:pt x="15205" y="9996"/>
                </a:cubicBezTo>
                <a:cubicBezTo>
                  <a:pt x="15225" y="10178"/>
                  <a:pt x="15266" y="10305"/>
                  <a:pt x="15354" y="10468"/>
                </a:cubicBezTo>
                <a:cubicBezTo>
                  <a:pt x="15395" y="10544"/>
                  <a:pt x="15432" y="10596"/>
                  <a:pt x="15503" y="10616"/>
                </a:cubicBezTo>
              </a:path>
              <a:path w="3871" h="1415">
                <a:moveTo>
                  <a:pt x="15801" y="9699"/>
                </a:moveTo>
                <a:cubicBezTo>
                  <a:pt x="15801" y="9811"/>
                  <a:pt x="15760" y="9964"/>
                  <a:pt x="15776" y="10071"/>
                </a:cubicBezTo>
                <a:cubicBezTo>
                  <a:pt x="15788" y="10149"/>
                  <a:pt x="15801" y="10213"/>
                  <a:pt x="15801" y="10294"/>
                </a:cubicBezTo>
                <a:cubicBezTo>
                  <a:pt x="15801" y="10377"/>
                  <a:pt x="15808" y="10317"/>
                  <a:pt x="15825" y="10368"/>
                </a:cubicBezTo>
              </a:path>
              <a:path w="3871" h="1415">
                <a:moveTo>
                  <a:pt x="15974" y="9971"/>
                </a:moveTo>
                <a:cubicBezTo>
                  <a:pt x="16082" y="9990"/>
                  <a:pt x="16164" y="9996"/>
                  <a:pt x="16272" y="9996"/>
                </a:cubicBezTo>
                <a:cubicBezTo>
                  <a:pt x="16321" y="9996"/>
                  <a:pt x="16338" y="9996"/>
                  <a:pt x="16371" y="9996"/>
                </a:cubicBezTo>
              </a:path>
              <a:path w="3871" h="1415">
                <a:moveTo>
                  <a:pt x="16694" y="9996"/>
                </a:moveTo>
                <a:cubicBezTo>
                  <a:pt x="16673" y="10221"/>
                  <a:pt x="16678" y="10221"/>
                  <a:pt x="16694" y="10393"/>
                </a:cubicBezTo>
                <a:cubicBezTo>
                  <a:pt x="16694" y="10418"/>
                  <a:pt x="16694" y="10426"/>
                  <a:pt x="16694" y="10443"/>
                </a:cubicBezTo>
                <a:cubicBezTo>
                  <a:pt x="16729" y="10431"/>
                  <a:pt x="16731" y="10366"/>
                  <a:pt x="16718" y="10319"/>
                </a:cubicBezTo>
                <a:cubicBezTo>
                  <a:pt x="16697" y="10242"/>
                  <a:pt x="16678" y="10152"/>
                  <a:pt x="16669" y="10071"/>
                </a:cubicBezTo>
                <a:cubicBezTo>
                  <a:pt x="16660" y="9996"/>
                  <a:pt x="16641" y="9764"/>
                  <a:pt x="16694" y="9699"/>
                </a:cubicBezTo>
                <a:cubicBezTo>
                  <a:pt x="16756" y="9623"/>
                  <a:pt x="16807" y="9642"/>
                  <a:pt x="16892" y="9599"/>
                </a:cubicBezTo>
                <a:cubicBezTo>
                  <a:pt x="16996" y="9547"/>
                  <a:pt x="17045" y="9550"/>
                  <a:pt x="17165" y="9550"/>
                </a:cubicBezTo>
                <a:cubicBezTo>
                  <a:pt x="17223" y="9550"/>
                  <a:pt x="17231" y="9550"/>
                  <a:pt x="17264" y="9550"/>
                </a:cubicBezTo>
              </a:path>
              <a:path w="3871" h="1415">
                <a:moveTo>
                  <a:pt x="17041" y="9847"/>
                </a:moveTo>
                <a:cubicBezTo>
                  <a:pt x="17000" y="10029"/>
                  <a:pt x="16965" y="10070"/>
                  <a:pt x="17041" y="10220"/>
                </a:cubicBezTo>
                <a:cubicBezTo>
                  <a:pt x="17085" y="10307"/>
                  <a:pt x="17139" y="10327"/>
                  <a:pt x="17239" y="10344"/>
                </a:cubicBezTo>
                <a:cubicBezTo>
                  <a:pt x="17326" y="10359"/>
                  <a:pt x="17363" y="10349"/>
                  <a:pt x="17413" y="10294"/>
                </a:cubicBezTo>
                <a:cubicBezTo>
                  <a:pt x="17424" y="10282"/>
                  <a:pt x="17513" y="10183"/>
                  <a:pt x="17512" y="10170"/>
                </a:cubicBezTo>
                <a:cubicBezTo>
                  <a:pt x="17509" y="10129"/>
                  <a:pt x="17480" y="10083"/>
                  <a:pt x="17462" y="10071"/>
                </a:cubicBezTo>
                <a:cubicBezTo>
                  <a:pt x="17406" y="10071"/>
                  <a:pt x="17370" y="10096"/>
                  <a:pt x="17338" y="10145"/>
                </a:cubicBezTo>
                <a:cubicBezTo>
                  <a:pt x="17308" y="10190"/>
                  <a:pt x="17270" y="10263"/>
                  <a:pt x="17289" y="10319"/>
                </a:cubicBezTo>
                <a:cubicBezTo>
                  <a:pt x="17304" y="10363"/>
                  <a:pt x="17332" y="10386"/>
                  <a:pt x="17363" y="10418"/>
                </a:cubicBezTo>
              </a:path>
              <a:path w="3871" h="1415">
                <a:moveTo>
                  <a:pt x="17909" y="10244"/>
                </a:moveTo>
                <a:cubicBezTo>
                  <a:pt x="17903" y="10344"/>
                  <a:pt x="17909" y="10477"/>
                  <a:pt x="17859" y="10567"/>
                </a:cubicBezTo>
                <a:cubicBezTo>
                  <a:pt x="17838" y="10605"/>
                  <a:pt x="17835" y="10619"/>
                  <a:pt x="17835" y="10666"/>
                </a:cubicBezTo>
              </a:path>
              <a:path w="3871" h="1415">
                <a:moveTo>
                  <a:pt x="18182" y="9847"/>
                </a:moveTo>
                <a:cubicBezTo>
                  <a:pt x="18129" y="9959"/>
                  <a:pt x="18057" y="10065"/>
                  <a:pt x="18083" y="10195"/>
                </a:cubicBezTo>
                <a:cubicBezTo>
                  <a:pt x="18104" y="10301"/>
                  <a:pt x="18159" y="10341"/>
                  <a:pt x="18256" y="10344"/>
                </a:cubicBezTo>
                <a:cubicBezTo>
                  <a:pt x="18389" y="10348"/>
                  <a:pt x="18447" y="10307"/>
                  <a:pt x="18529" y="10220"/>
                </a:cubicBezTo>
                <a:cubicBezTo>
                  <a:pt x="18588" y="10158"/>
                  <a:pt x="18633" y="10089"/>
                  <a:pt x="18604" y="9996"/>
                </a:cubicBezTo>
                <a:cubicBezTo>
                  <a:pt x="18581" y="9922"/>
                  <a:pt x="18510" y="9871"/>
                  <a:pt x="18455" y="9847"/>
                </a:cubicBezTo>
                <a:cubicBezTo>
                  <a:pt x="18376" y="9812"/>
                  <a:pt x="18303" y="9801"/>
                  <a:pt x="18231" y="9773"/>
                </a:cubicBezTo>
                <a:cubicBezTo>
                  <a:pt x="18223" y="9765"/>
                  <a:pt x="18215" y="9756"/>
                  <a:pt x="18207" y="9748"/>
                </a:cubicBezTo>
              </a:path>
              <a:path w="3871" h="1415">
                <a:moveTo>
                  <a:pt x="18653" y="9252"/>
                </a:moveTo>
                <a:cubicBezTo>
                  <a:pt x="18857" y="9477"/>
                  <a:pt x="18943" y="9573"/>
                  <a:pt x="19025" y="9847"/>
                </a:cubicBezTo>
                <a:cubicBezTo>
                  <a:pt x="19066" y="9985"/>
                  <a:pt x="19084" y="10081"/>
                  <a:pt x="19050" y="10220"/>
                </a:cubicBezTo>
                <a:cubicBezTo>
                  <a:pt x="19022" y="10335"/>
                  <a:pt x="19023" y="10399"/>
                  <a:pt x="18951" y="104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68920" y="4054320"/>
            <a:ext cx="3446280" cy="660600"/>
          </a:xfrm>
          <a:custGeom>
            <a:avLst/>
            <a:gdLst/>
            <a:ahLst/>
            <a:rect l="l" t="t" r="r" b="b"/>
            <a:pathLst>
              <a:path w="9575" h="1837">
                <a:moveTo>
                  <a:pt x="13271" y="12229"/>
                </a:moveTo>
                <a:cubicBezTo>
                  <a:pt x="13321" y="12321"/>
                  <a:pt x="13363" y="12414"/>
                  <a:pt x="13419" y="12502"/>
                </a:cubicBezTo>
                <a:cubicBezTo>
                  <a:pt x="13505" y="12638"/>
                  <a:pt x="13641" y="12733"/>
                  <a:pt x="13742" y="12849"/>
                </a:cubicBezTo>
                <a:cubicBezTo>
                  <a:pt x="13816" y="12934"/>
                  <a:pt x="13890" y="13009"/>
                  <a:pt x="13965" y="13097"/>
                </a:cubicBezTo>
                <a:cubicBezTo>
                  <a:pt x="13965" y="13056"/>
                  <a:pt x="13965" y="13014"/>
                  <a:pt x="13965" y="12973"/>
                </a:cubicBezTo>
              </a:path>
              <a:path w="9575" h="1837">
                <a:moveTo>
                  <a:pt x="13742" y="12204"/>
                </a:moveTo>
                <a:cubicBezTo>
                  <a:pt x="13653" y="12345"/>
                  <a:pt x="13574" y="12484"/>
                  <a:pt x="13494" y="12626"/>
                </a:cubicBezTo>
                <a:cubicBezTo>
                  <a:pt x="13443" y="12717"/>
                  <a:pt x="13394" y="12805"/>
                  <a:pt x="13345" y="12898"/>
                </a:cubicBezTo>
                <a:cubicBezTo>
                  <a:pt x="13336" y="12914"/>
                  <a:pt x="13279" y="13056"/>
                  <a:pt x="13246" y="13047"/>
                </a:cubicBezTo>
                <a:cubicBezTo>
                  <a:pt x="13246" y="13039"/>
                  <a:pt x="13246" y="13030"/>
                  <a:pt x="13246" y="13022"/>
                </a:cubicBezTo>
              </a:path>
              <a:path w="9575" h="1837">
                <a:moveTo>
                  <a:pt x="13990" y="12477"/>
                </a:moveTo>
                <a:cubicBezTo>
                  <a:pt x="14099" y="12477"/>
                  <a:pt x="14184" y="12496"/>
                  <a:pt x="14288" y="12502"/>
                </a:cubicBezTo>
                <a:cubicBezTo>
                  <a:pt x="14329" y="12502"/>
                  <a:pt x="14337" y="12502"/>
                  <a:pt x="14362" y="12502"/>
                </a:cubicBezTo>
              </a:path>
              <a:path w="9575" h="1837">
                <a:moveTo>
                  <a:pt x="14064" y="12626"/>
                </a:moveTo>
                <a:cubicBezTo>
                  <a:pt x="14178" y="12674"/>
                  <a:pt x="14225" y="12684"/>
                  <a:pt x="14337" y="12675"/>
                </a:cubicBezTo>
                <a:cubicBezTo>
                  <a:pt x="14362" y="12675"/>
                  <a:pt x="14387" y="12675"/>
                  <a:pt x="14412" y="12675"/>
                </a:cubicBezTo>
              </a:path>
              <a:path w="9575" h="1837">
                <a:moveTo>
                  <a:pt x="14908" y="12303"/>
                </a:moveTo>
                <a:cubicBezTo>
                  <a:pt x="14885" y="12280"/>
                  <a:pt x="14881" y="12272"/>
                  <a:pt x="14858" y="12278"/>
                </a:cubicBezTo>
                <a:cubicBezTo>
                  <a:pt x="14907" y="12243"/>
                  <a:pt x="14940" y="12254"/>
                  <a:pt x="15007" y="12254"/>
                </a:cubicBezTo>
                <a:cubicBezTo>
                  <a:pt x="15129" y="12254"/>
                  <a:pt x="15235" y="12260"/>
                  <a:pt x="15354" y="12278"/>
                </a:cubicBezTo>
                <a:cubicBezTo>
                  <a:pt x="15389" y="12278"/>
                  <a:pt x="15402" y="12269"/>
                  <a:pt x="15404" y="12229"/>
                </a:cubicBezTo>
              </a:path>
              <a:path w="9575" h="1837">
                <a:moveTo>
                  <a:pt x="15528" y="11857"/>
                </a:moveTo>
                <a:cubicBezTo>
                  <a:pt x="15581" y="11830"/>
                  <a:pt x="15652" y="11792"/>
                  <a:pt x="15701" y="11782"/>
                </a:cubicBezTo>
                <a:cubicBezTo>
                  <a:pt x="15760" y="11770"/>
                  <a:pt x="15847" y="11789"/>
                  <a:pt x="15900" y="11807"/>
                </a:cubicBezTo>
                <a:cubicBezTo>
                  <a:pt x="15939" y="11820"/>
                  <a:pt x="16028" y="11841"/>
                  <a:pt x="16049" y="11881"/>
                </a:cubicBezTo>
                <a:cubicBezTo>
                  <a:pt x="16088" y="11956"/>
                  <a:pt x="16098" y="11983"/>
                  <a:pt x="16073" y="12055"/>
                </a:cubicBezTo>
                <a:cubicBezTo>
                  <a:pt x="16045" y="12136"/>
                  <a:pt x="16021" y="12159"/>
                  <a:pt x="15974" y="12229"/>
                </a:cubicBezTo>
                <a:cubicBezTo>
                  <a:pt x="15930" y="12294"/>
                  <a:pt x="15900" y="12366"/>
                  <a:pt x="15850" y="12427"/>
                </a:cubicBezTo>
                <a:cubicBezTo>
                  <a:pt x="15793" y="12495"/>
                  <a:pt x="15744" y="12571"/>
                  <a:pt x="15701" y="12650"/>
                </a:cubicBezTo>
                <a:cubicBezTo>
                  <a:pt x="15669" y="12709"/>
                  <a:pt x="15636" y="12768"/>
                  <a:pt x="15602" y="12824"/>
                </a:cubicBezTo>
                <a:cubicBezTo>
                  <a:pt x="15571" y="12876"/>
                  <a:pt x="15583" y="12895"/>
                  <a:pt x="15577" y="12948"/>
                </a:cubicBezTo>
                <a:cubicBezTo>
                  <a:pt x="15672" y="12948"/>
                  <a:pt x="15762" y="12964"/>
                  <a:pt x="15850" y="12973"/>
                </a:cubicBezTo>
                <a:cubicBezTo>
                  <a:pt x="15888" y="12977"/>
                  <a:pt x="16095" y="13003"/>
                  <a:pt x="16123" y="12998"/>
                </a:cubicBezTo>
                <a:cubicBezTo>
                  <a:pt x="16169" y="12990"/>
                  <a:pt x="16144" y="12994"/>
                  <a:pt x="16148" y="12973"/>
                </a:cubicBezTo>
                <a:cubicBezTo>
                  <a:pt x="16148" y="12965"/>
                  <a:pt x="16148" y="12956"/>
                  <a:pt x="16148" y="12948"/>
                </a:cubicBezTo>
              </a:path>
              <a:path w="9575" h="1837">
                <a:moveTo>
                  <a:pt x="17066" y="11757"/>
                </a:moveTo>
                <a:cubicBezTo>
                  <a:pt x="17043" y="11865"/>
                  <a:pt x="17021" y="11994"/>
                  <a:pt x="17041" y="12105"/>
                </a:cubicBezTo>
                <a:cubicBezTo>
                  <a:pt x="17054" y="12180"/>
                  <a:pt x="17084" y="12250"/>
                  <a:pt x="17090" y="12328"/>
                </a:cubicBezTo>
                <a:cubicBezTo>
                  <a:pt x="17094" y="12381"/>
                  <a:pt x="17143" y="12409"/>
                  <a:pt x="17090" y="12427"/>
                </a:cubicBezTo>
              </a:path>
              <a:path w="9575" h="1837">
                <a:moveTo>
                  <a:pt x="16669" y="11981"/>
                </a:moveTo>
                <a:cubicBezTo>
                  <a:pt x="16791" y="11981"/>
                  <a:pt x="16922" y="11982"/>
                  <a:pt x="17041" y="12005"/>
                </a:cubicBezTo>
                <a:cubicBezTo>
                  <a:pt x="17127" y="12022"/>
                  <a:pt x="17205" y="12044"/>
                  <a:pt x="17289" y="12055"/>
                </a:cubicBezTo>
              </a:path>
              <a:path w="9575" h="1837">
                <a:moveTo>
                  <a:pt x="16743" y="12576"/>
                </a:moveTo>
                <a:cubicBezTo>
                  <a:pt x="16890" y="12592"/>
                  <a:pt x="17019" y="12601"/>
                  <a:pt x="17165" y="12601"/>
                </a:cubicBezTo>
                <a:cubicBezTo>
                  <a:pt x="17181" y="12601"/>
                  <a:pt x="17198" y="12601"/>
                  <a:pt x="17214" y="12601"/>
                </a:cubicBezTo>
              </a:path>
              <a:path w="9575" h="1837">
                <a:moveTo>
                  <a:pt x="17760" y="12005"/>
                </a:moveTo>
                <a:cubicBezTo>
                  <a:pt x="17771" y="12054"/>
                  <a:pt x="17805" y="12119"/>
                  <a:pt x="17810" y="12179"/>
                </a:cubicBezTo>
                <a:cubicBezTo>
                  <a:pt x="17835" y="12475"/>
                  <a:pt x="17664" y="13232"/>
                  <a:pt x="17810" y="12973"/>
                </a:cubicBezTo>
                <a:cubicBezTo>
                  <a:pt x="17848" y="12905"/>
                  <a:pt x="17834" y="12777"/>
                  <a:pt x="17835" y="12700"/>
                </a:cubicBezTo>
                <a:cubicBezTo>
                  <a:pt x="17837" y="12565"/>
                  <a:pt x="17816" y="12434"/>
                  <a:pt x="17810" y="12303"/>
                </a:cubicBezTo>
                <a:cubicBezTo>
                  <a:pt x="17805" y="12179"/>
                  <a:pt x="17809" y="12052"/>
                  <a:pt x="17785" y="11931"/>
                </a:cubicBezTo>
                <a:cubicBezTo>
                  <a:pt x="17767" y="11841"/>
                  <a:pt x="17721" y="11745"/>
                  <a:pt x="17711" y="11658"/>
                </a:cubicBezTo>
                <a:cubicBezTo>
                  <a:pt x="17704" y="11598"/>
                  <a:pt x="17700" y="11531"/>
                  <a:pt x="17735" y="11485"/>
                </a:cubicBezTo>
                <a:cubicBezTo>
                  <a:pt x="17762" y="11450"/>
                  <a:pt x="17842" y="11437"/>
                  <a:pt x="17884" y="11435"/>
                </a:cubicBezTo>
                <a:cubicBezTo>
                  <a:pt x="17975" y="11431"/>
                  <a:pt x="18061" y="11458"/>
                  <a:pt x="18157" y="11460"/>
                </a:cubicBezTo>
                <a:cubicBezTo>
                  <a:pt x="18340" y="11463"/>
                  <a:pt x="18520" y="11482"/>
                  <a:pt x="18703" y="11485"/>
                </a:cubicBezTo>
                <a:cubicBezTo>
                  <a:pt x="19027" y="11491"/>
                  <a:pt x="19348" y="11475"/>
                  <a:pt x="19670" y="11460"/>
                </a:cubicBezTo>
                <a:cubicBezTo>
                  <a:pt x="20132" y="11438"/>
                  <a:pt x="20598" y="11453"/>
                  <a:pt x="21059" y="11435"/>
                </a:cubicBezTo>
                <a:cubicBezTo>
                  <a:pt x="21326" y="11424"/>
                  <a:pt x="21588" y="11447"/>
                  <a:pt x="21853" y="11460"/>
                </a:cubicBezTo>
                <a:cubicBezTo>
                  <a:pt x="22074" y="11471"/>
                  <a:pt x="22306" y="11472"/>
                  <a:pt x="22523" y="11435"/>
                </a:cubicBezTo>
                <a:cubicBezTo>
                  <a:pt x="22597" y="11422"/>
                  <a:pt x="22704" y="11418"/>
                  <a:pt x="22771" y="11385"/>
                </a:cubicBezTo>
                <a:cubicBezTo>
                  <a:pt x="22796" y="11361"/>
                  <a:pt x="22804" y="11353"/>
                  <a:pt x="22820" y="11336"/>
                </a:cubicBezTo>
                <a:cubicBezTo>
                  <a:pt x="22763" y="11309"/>
                  <a:pt x="22711" y="11275"/>
                  <a:pt x="22597" y="11261"/>
                </a:cubicBezTo>
                <a:cubicBezTo>
                  <a:pt x="22564" y="11261"/>
                  <a:pt x="22531" y="11261"/>
                  <a:pt x="22498" y="11261"/>
                </a:cubicBezTo>
              </a:path>
              <a:path w="9575" h="1837">
                <a:moveTo>
                  <a:pt x="18207" y="11757"/>
                </a:moveTo>
                <a:cubicBezTo>
                  <a:pt x="18306" y="11708"/>
                  <a:pt x="18349" y="11683"/>
                  <a:pt x="18455" y="11683"/>
                </a:cubicBezTo>
                <a:cubicBezTo>
                  <a:pt x="18519" y="11683"/>
                  <a:pt x="18624" y="11694"/>
                  <a:pt x="18678" y="11733"/>
                </a:cubicBezTo>
                <a:cubicBezTo>
                  <a:pt x="18730" y="11770"/>
                  <a:pt x="18747" y="11818"/>
                  <a:pt x="18777" y="11857"/>
                </a:cubicBezTo>
                <a:cubicBezTo>
                  <a:pt x="18811" y="11902"/>
                  <a:pt x="18777" y="11958"/>
                  <a:pt x="18752" y="12005"/>
                </a:cubicBezTo>
                <a:cubicBezTo>
                  <a:pt x="18715" y="12075"/>
                  <a:pt x="18660" y="12123"/>
                  <a:pt x="18604" y="12179"/>
                </a:cubicBezTo>
                <a:cubicBezTo>
                  <a:pt x="18541" y="12242"/>
                  <a:pt x="18495" y="12314"/>
                  <a:pt x="18430" y="12378"/>
                </a:cubicBezTo>
                <a:cubicBezTo>
                  <a:pt x="18375" y="12432"/>
                  <a:pt x="18380" y="12478"/>
                  <a:pt x="18380" y="12551"/>
                </a:cubicBezTo>
                <a:cubicBezTo>
                  <a:pt x="18380" y="12616"/>
                  <a:pt x="18369" y="12681"/>
                  <a:pt x="18430" y="12725"/>
                </a:cubicBezTo>
                <a:cubicBezTo>
                  <a:pt x="18484" y="12764"/>
                  <a:pt x="18590" y="12813"/>
                  <a:pt x="18653" y="12824"/>
                </a:cubicBezTo>
                <a:cubicBezTo>
                  <a:pt x="18762" y="12842"/>
                  <a:pt x="18860" y="12828"/>
                  <a:pt x="18951" y="12774"/>
                </a:cubicBezTo>
                <a:cubicBezTo>
                  <a:pt x="18976" y="12758"/>
                  <a:pt x="19000" y="12741"/>
                  <a:pt x="19025" y="12725"/>
                </a:cubicBezTo>
              </a:path>
              <a:path w="9575" h="1837">
                <a:moveTo>
                  <a:pt x="19273" y="11782"/>
                </a:moveTo>
                <a:cubicBezTo>
                  <a:pt x="19264" y="11817"/>
                  <a:pt x="19231" y="11849"/>
                  <a:pt x="19224" y="11881"/>
                </a:cubicBezTo>
                <a:cubicBezTo>
                  <a:pt x="19211" y="11946"/>
                  <a:pt x="19222" y="12022"/>
                  <a:pt x="19248" y="12080"/>
                </a:cubicBezTo>
                <a:cubicBezTo>
                  <a:pt x="19275" y="12140"/>
                  <a:pt x="19318" y="12171"/>
                  <a:pt x="19372" y="12204"/>
                </a:cubicBezTo>
                <a:cubicBezTo>
                  <a:pt x="19429" y="12239"/>
                  <a:pt x="19428" y="12237"/>
                  <a:pt x="19472" y="12204"/>
                </a:cubicBezTo>
              </a:path>
              <a:path w="9575" h="1837">
                <a:moveTo>
                  <a:pt x="19521" y="11584"/>
                </a:moveTo>
                <a:cubicBezTo>
                  <a:pt x="19490" y="11655"/>
                  <a:pt x="19489" y="11708"/>
                  <a:pt x="19472" y="11782"/>
                </a:cubicBezTo>
                <a:cubicBezTo>
                  <a:pt x="19443" y="11907"/>
                  <a:pt x="19486" y="12003"/>
                  <a:pt x="19496" y="12129"/>
                </a:cubicBezTo>
                <a:cubicBezTo>
                  <a:pt x="19508" y="12273"/>
                  <a:pt x="19538" y="12409"/>
                  <a:pt x="19571" y="12551"/>
                </a:cubicBezTo>
                <a:cubicBezTo>
                  <a:pt x="19592" y="12641"/>
                  <a:pt x="19596" y="12707"/>
                  <a:pt x="19596" y="127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75160" y="4749840"/>
            <a:ext cx="2778120" cy="1233360"/>
          </a:xfrm>
          <a:custGeom>
            <a:avLst/>
            <a:gdLst/>
            <a:ahLst/>
            <a:rect l="l" t="t" r="r" b="b"/>
            <a:pathLst>
              <a:path w="7716" h="3424">
                <a:moveTo>
                  <a:pt x="15007" y="13395"/>
                </a:moveTo>
                <a:cubicBezTo>
                  <a:pt x="15101" y="13399"/>
                  <a:pt x="15187" y="13414"/>
                  <a:pt x="15280" y="13419"/>
                </a:cubicBezTo>
                <a:cubicBezTo>
                  <a:pt x="15889" y="13452"/>
                  <a:pt x="16511" y="13414"/>
                  <a:pt x="17115" y="13370"/>
                </a:cubicBezTo>
                <a:cubicBezTo>
                  <a:pt x="17486" y="13343"/>
                  <a:pt x="17860" y="13307"/>
                  <a:pt x="18231" y="13295"/>
                </a:cubicBezTo>
                <a:cubicBezTo>
                  <a:pt x="18570" y="13284"/>
                  <a:pt x="18910" y="13275"/>
                  <a:pt x="19248" y="13271"/>
                </a:cubicBezTo>
                <a:cubicBezTo>
                  <a:pt x="19597" y="13267"/>
                  <a:pt x="19942" y="13291"/>
                  <a:pt x="20290" y="13295"/>
                </a:cubicBezTo>
                <a:cubicBezTo>
                  <a:pt x="20589" y="13298"/>
                  <a:pt x="20885" y="13316"/>
                  <a:pt x="21183" y="13320"/>
                </a:cubicBezTo>
                <a:cubicBezTo>
                  <a:pt x="21605" y="13325"/>
                  <a:pt x="22032" y="13320"/>
                  <a:pt x="22448" y="13295"/>
                </a:cubicBezTo>
                <a:cubicBezTo>
                  <a:pt x="22457" y="13294"/>
                  <a:pt x="22645" y="13311"/>
                  <a:pt x="22647" y="13271"/>
                </a:cubicBezTo>
                <a:cubicBezTo>
                  <a:pt x="22650" y="13208"/>
                  <a:pt x="22576" y="13237"/>
                  <a:pt x="22547" y="13196"/>
                </a:cubicBezTo>
              </a:path>
              <a:path w="7716" h="3424">
                <a:moveTo>
                  <a:pt x="14932" y="16346"/>
                </a:moveTo>
                <a:cubicBezTo>
                  <a:pt x="14940" y="16348"/>
                  <a:pt x="15015" y="16364"/>
                  <a:pt x="15056" y="16371"/>
                </a:cubicBezTo>
                <a:cubicBezTo>
                  <a:pt x="15137" y="16384"/>
                  <a:pt x="15223" y="16382"/>
                  <a:pt x="15304" y="16396"/>
                </a:cubicBezTo>
                <a:cubicBezTo>
                  <a:pt x="15430" y="16418"/>
                  <a:pt x="15551" y="16443"/>
                  <a:pt x="15677" y="16470"/>
                </a:cubicBezTo>
                <a:cubicBezTo>
                  <a:pt x="15871" y="16512"/>
                  <a:pt x="16074" y="16541"/>
                  <a:pt x="16272" y="16545"/>
                </a:cubicBezTo>
                <a:cubicBezTo>
                  <a:pt x="16467" y="16549"/>
                  <a:pt x="16672" y="16553"/>
                  <a:pt x="16867" y="16570"/>
                </a:cubicBezTo>
                <a:cubicBezTo>
                  <a:pt x="17083" y="16588"/>
                  <a:pt x="17295" y="16615"/>
                  <a:pt x="17512" y="16619"/>
                </a:cubicBezTo>
                <a:cubicBezTo>
                  <a:pt x="17722" y="16623"/>
                  <a:pt x="17925" y="16605"/>
                  <a:pt x="18132" y="16594"/>
                </a:cubicBezTo>
                <a:cubicBezTo>
                  <a:pt x="18305" y="16584"/>
                  <a:pt x="18480" y="16574"/>
                  <a:pt x="18653" y="16570"/>
                </a:cubicBezTo>
                <a:cubicBezTo>
                  <a:pt x="18773" y="16567"/>
                  <a:pt x="18883" y="16549"/>
                  <a:pt x="19000" y="16545"/>
                </a:cubicBezTo>
                <a:cubicBezTo>
                  <a:pt x="19058" y="16543"/>
                  <a:pt x="19116" y="16545"/>
                  <a:pt x="19174" y="16545"/>
                </a:cubicBezTo>
                <a:cubicBezTo>
                  <a:pt x="19155" y="16450"/>
                  <a:pt x="19156" y="16446"/>
                  <a:pt x="19100" y="163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84840" y="4964040"/>
            <a:ext cx="1822320" cy="911160"/>
          </a:xfrm>
          <a:custGeom>
            <a:avLst/>
            <a:gdLst/>
            <a:ahLst/>
            <a:rect l="l" t="t" r="r" b="b"/>
            <a:pathLst>
              <a:path w="5061" h="2531">
                <a:moveTo>
                  <a:pt x="16991" y="14238"/>
                </a:moveTo>
                <a:cubicBezTo>
                  <a:pt x="17055" y="14200"/>
                  <a:pt x="17135" y="14192"/>
                  <a:pt x="17214" y="14188"/>
                </a:cubicBezTo>
                <a:cubicBezTo>
                  <a:pt x="17273" y="14188"/>
                  <a:pt x="17299" y="14185"/>
                  <a:pt x="17338" y="14163"/>
                </a:cubicBezTo>
              </a:path>
              <a:path w="5061" h="2531">
                <a:moveTo>
                  <a:pt x="17735" y="13866"/>
                </a:moveTo>
                <a:cubicBezTo>
                  <a:pt x="17821" y="13829"/>
                  <a:pt x="17891" y="13796"/>
                  <a:pt x="17983" y="13791"/>
                </a:cubicBezTo>
                <a:cubicBezTo>
                  <a:pt x="18043" y="13788"/>
                  <a:pt x="18130" y="13792"/>
                  <a:pt x="18182" y="13816"/>
                </a:cubicBezTo>
                <a:cubicBezTo>
                  <a:pt x="18234" y="13840"/>
                  <a:pt x="18246" y="13880"/>
                  <a:pt x="18281" y="13915"/>
                </a:cubicBezTo>
                <a:cubicBezTo>
                  <a:pt x="18309" y="13943"/>
                  <a:pt x="18313" y="13974"/>
                  <a:pt x="18306" y="14015"/>
                </a:cubicBezTo>
                <a:cubicBezTo>
                  <a:pt x="18291" y="14101"/>
                  <a:pt x="18249" y="14147"/>
                  <a:pt x="18207" y="14213"/>
                </a:cubicBezTo>
                <a:cubicBezTo>
                  <a:pt x="18169" y="14273"/>
                  <a:pt x="18135" y="14310"/>
                  <a:pt x="18083" y="14362"/>
                </a:cubicBezTo>
                <a:cubicBezTo>
                  <a:pt x="18028" y="14417"/>
                  <a:pt x="17986" y="14451"/>
                  <a:pt x="17934" y="14511"/>
                </a:cubicBezTo>
                <a:cubicBezTo>
                  <a:pt x="17906" y="14544"/>
                  <a:pt x="17880" y="14582"/>
                  <a:pt x="17859" y="14610"/>
                </a:cubicBezTo>
                <a:cubicBezTo>
                  <a:pt x="17853" y="14618"/>
                  <a:pt x="17818" y="14660"/>
                  <a:pt x="17859" y="14684"/>
                </a:cubicBezTo>
                <a:cubicBezTo>
                  <a:pt x="17878" y="14695"/>
                  <a:pt x="17938" y="14705"/>
                  <a:pt x="17959" y="14709"/>
                </a:cubicBezTo>
                <a:cubicBezTo>
                  <a:pt x="18049" y="14724"/>
                  <a:pt x="18154" y="14743"/>
                  <a:pt x="18231" y="14759"/>
                </a:cubicBezTo>
                <a:cubicBezTo>
                  <a:pt x="18321" y="14777"/>
                  <a:pt x="18590" y="14759"/>
                  <a:pt x="18604" y="14759"/>
                </a:cubicBezTo>
              </a:path>
              <a:path w="5061" h="2531">
                <a:moveTo>
                  <a:pt x="13568" y="14684"/>
                </a:moveTo>
                <a:cubicBezTo>
                  <a:pt x="13609" y="14767"/>
                  <a:pt x="13654" y="14850"/>
                  <a:pt x="13692" y="14932"/>
                </a:cubicBezTo>
                <a:cubicBezTo>
                  <a:pt x="13766" y="15094"/>
                  <a:pt x="13850" y="15249"/>
                  <a:pt x="13940" y="15404"/>
                </a:cubicBezTo>
                <a:cubicBezTo>
                  <a:pt x="14019" y="15541"/>
                  <a:pt x="14106" y="15667"/>
                  <a:pt x="14188" y="15801"/>
                </a:cubicBezTo>
                <a:cubicBezTo>
                  <a:pt x="14196" y="15817"/>
                  <a:pt x="14205" y="15834"/>
                  <a:pt x="14213" y="15850"/>
                </a:cubicBezTo>
              </a:path>
              <a:path w="5061" h="2531">
                <a:moveTo>
                  <a:pt x="14064" y="14709"/>
                </a:moveTo>
                <a:cubicBezTo>
                  <a:pt x="13985" y="14902"/>
                  <a:pt x="13932" y="15086"/>
                  <a:pt x="13866" y="15280"/>
                </a:cubicBezTo>
                <a:cubicBezTo>
                  <a:pt x="13816" y="15427"/>
                  <a:pt x="13736" y="15562"/>
                  <a:pt x="13667" y="15701"/>
                </a:cubicBezTo>
                <a:cubicBezTo>
                  <a:pt x="13641" y="15756"/>
                  <a:pt x="13629" y="15776"/>
                  <a:pt x="13593" y="15801"/>
                </a:cubicBezTo>
              </a:path>
              <a:path w="5061" h="2531">
                <a:moveTo>
                  <a:pt x="14188" y="15081"/>
                </a:moveTo>
                <a:cubicBezTo>
                  <a:pt x="14298" y="15102"/>
                  <a:pt x="14406" y="15129"/>
                  <a:pt x="14511" y="15156"/>
                </a:cubicBezTo>
                <a:cubicBezTo>
                  <a:pt x="14536" y="15164"/>
                  <a:pt x="14560" y="15172"/>
                  <a:pt x="14585" y="15180"/>
                </a:cubicBezTo>
              </a:path>
              <a:path w="5061" h="2531">
                <a:moveTo>
                  <a:pt x="14238" y="15404"/>
                </a:moveTo>
                <a:cubicBezTo>
                  <a:pt x="14406" y="15467"/>
                  <a:pt x="14466" y="15478"/>
                  <a:pt x="14635" y="15478"/>
                </a:cubicBezTo>
              </a:path>
              <a:path w="5061" h="2531">
                <a:moveTo>
                  <a:pt x="14858" y="15131"/>
                </a:moveTo>
                <a:cubicBezTo>
                  <a:pt x="14957" y="15131"/>
                  <a:pt x="15057" y="15131"/>
                  <a:pt x="15156" y="15131"/>
                </a:cubicBezTo>
              </a:path>
              <a:path w="5061" h="2531">
                <a:moveTo>
                  <a:pt x="15379" y="14932"/>
                </a:moveTo>
                <a:cubicBezTo>
                  <a:pt x="15497" y="14932"/>
                  <a:pt x="15506" y="14937"/>
                  <a:pt x="15577" y="15032"/>
                </a:cubicBezTo>
                <a:cubicBezTo>
                  <a:pt x="15645" y="15124"/>
                  <a:pt x="15672" y="15217"/>
                  <a:pt x="15677" y="15329"/>
                </a:cubicBezTo>
                <a:cubicBezTo>
                  <a:pt x="15682" y="15436"/>
                  <a:pt x="15623" y="15483"/>
                  <a:pt x="15553" y="15553"/>
                </a:cubicBezTo>
                <a:cubicBezTo>
                  <a:pt x="15497" y="15609"/>
                  <a:pt x="15403" y="15644"/>
                  <a:pt x="15354" y="15701"/>
                </a:cubicBezTo>
                <a:cubicBezTo>
                  <a:pt x="15305" y="15757"/>
                  <a:pt x="15304" y="15804"/>
                  <a:pt x="15304" y="15875"/>
                </a:cubicBezTo>
                <a:cubicBezTo>
                  <a:pt x="15304" y="15941"/>
                  <a:pt x="15369" y="16015"/>
                  <a:pt x="15429" y="16049"/>
                </a:cubicBezTo>
                <a:cubicBezTo>
                  <a:pt x="15549" y="16117"/>
                  <a:pt x="15595" y="16080"/>
                  <a:pt x="15726" y="16049"/>
                </a:cubicBezTo>
              </a:path>
              <a:path w="5061" h="2531">
                <a:moveTo>
                  <a:pt x="16173" y="15007"/>
                </a:moveTo>
                <a:cubicBezTo>
                  <a:pt x="16173" y="15144"/>
                  <a:pt x="16182" y="15271"/>
                  <a:pt x="16197" y="15404"/>
                </a:cubicBezTo>
                <a:cubicBezTo>
                  <a:pt x="16197" y="15465"/>
                  <a:pt x="16206" y="15480"/>
                  <a:pt x="16173" y="15503"/>
                </a:cubicBezTo>
              </a:path>
              <a:path w="5061" h="2531">
                <a:moveTo>
                  <a:pt x="15875" y="15329"/>
                </a:moveTo>
                <a:cubicBezTo>
                  <a:pt x="15991" y="15355"/>
                  <a:pt x="16109" y="15379"/>
                  <a:pt x="16222" y="15404"/>
                </a:cubicBezTo>
                <a:cubicBezTo>
                  <a:pt x="16295" y="15428"/>
                  <a:pt x="16319" y="15437"/>
                  <a:pt x="16371" y="15429"/>
                </a:cubicBezTo>
              </a:path>
              <a:path w="5061" h="2531">
                <a:moveTo>
                  <a:pt x="17016" y="15131"/>
                </a:moveTo>
                <a:cubicBezTo>
                  <a:pt x="17074" y="15115"/>
                  <a:pt x="17177" y="15082"/>
                  <a:pt x="17239" y="15106"/>
                </a:cubicBezTo>
                <a:cubicBezTo>
                  <a:pt x="17274" y="15120"/>
                  <a:pt x="17378" y="15247"/>
                  <a:pt x="17388" y="15280"/>
                </a:cubicBezTo>
                <a:cubicBezTo>
                  <a:pt x="17421" y="15389"/>
                  <a:pt x="17417" y="15517"/>
                  <a:pt x="17388" y="15627"/>
                </a:cubicBezTo>
                <a:cubicBezTo>
                  <a:pt x="17355" y="15755"/>
                  <a:pt x="17322" y="15893"/>
                  <a:pt x="17239" y="15999"/>
                </a:cubicBezTo>
                <a:cubicBezTo>
                  <a:pt x="17187" y="16065"/>
                  <a:pt x="17128" y="16063"/>
                  <a:pt x="17066" y="16098"/>
                </a:cubicBezTo>
                <a:cubicBezTo>
                  <a:pt x="17006" y="16132"/>
                  <a:pt x="17050" y="16122"/>
                  <a:pt x="16991" y="16098"/>
                </a:cubicBezTo>
                <a:cubicBezTo>
                  <a:pt x="16979" y="16049"/>
                  <a:pt x="16965" y="16029"/>
                  <a:pt x="16991" y="15974"/>
                </a:cubicBezTo>
                <a:cubicBezTo>
                  <a:pt x="17027" y="15898"/>
                  <a:pt x="17136" y="15925"/>
                  <a:pt x="17190" y="15949"/>
                </a:cubicBezTo>
                <a:cubicBezTo>
                  <a:pt x="17249" y="15975"/>
                  <a:pt x="17324" y="16068"/>
                  <a:pt x="17363" y="16123"/>
                </a:cubicBezTo>
                <a:cubicBezTo>
                  <a:pt x="17412" y="16192"/>
                  <a:pt x="17447" y="16244"/>
                  <a:pt x="17512" y="16272"/>
                </a:cubicBezTo>
              </a:path>
              <a:path w="5061" h="2531">
                <a:moveTo>
                  <a:pt x="17711" y="15602"/>
                </a:moveTo>
                <a:cubicBezTo>
                  <a:pt x="17717" y="15768"/>
                  <a:pt x="17728" y="15813"/>
                  <a:pt x="17760" y="15949"/>
                </a:cubicBezTo>
                <a:cubicBezTo>
                  <a:pt x="17782" y="16042"/>
                  <a:pt x="17746" y="15948"/>
                  <a:pt x="17760" y="15900"/>
                </a:cubicBezTo>
                <a:cubicBezTo>
                  <a:pt x="17782" y="15822"/>
                  <a:pt x="17802" y="15734"/>
                  <a:pt x="17810" y="15652"/>
                </a:cubicBezTo>
                <a:cubicBezTo>
                  <a:pt x="17821" y="15540"/>
                  <a:pt x="17835" y="15439"/>
                  <a:pt x="17859" y="15329"/>
                </a:cubicBezTo>
                <a:cubicBezTo>
                  <a:pt x="17871" y="15275"/>
                  <a:pt x="17882" y="15135"/>
                  <a:pt x="17959" y="15106"/>
                </a:cubicBezTo>
                <a:cubicBezTo>
                  <a:pt x="18070" y="15064"/>
                  <a:pt x="18112" y="15109"/>
                  <a:pt x="18207" y="15156"/>
                </a:cubicBezTo>
                <a:cubicBezTo>
                  <a:pt x="18256" y="15180"/>
                  <a:pt x="18273" y="15188"/>
                  <a:pt x="18306" y="15205"/>
                </a:cubicBezTo>
              </a:path>
              <a:path w="5061" h="2531">
                <a:moveTo>
                  <a:pt x="18281" y="15528"/>
                </a:moveTo>
                <a:cubicBezTo>
                  <a:pt x="18259" y="15591"/>
                  <a:pt x="18174" y="15771"/>
                  <a:pt x="18182" y="15850"/>
                </a:cubicBezTo>
                <a:cubicBezTo>
                  <a:pt x="18189" y="15919"/>
                  <a:pt x="18225" y="16009"/>
                  <a:pt x="18256" y="16073"/>
                </a:cubicBezTo>
                <a:cubicBezTo>
                  <a:pt x="18281" y="16126"/>
                  <a:pt x="18320" y="16191"/>
                  <a:pt x="18380" y="16197"/>
                </a:cubicBezTo>
                <a:cubicBezTo>
                  <a:pt x="18427" y="16202"/>
                  <a:pt x="18475" y="16189"/>
                  <a:pt x="18504" y="16148"/>
                </a:cubicBezTo>
                <a:cubicBezTo>
                  <a:pt x="18544" y="16091"/>
                  <a:pt x="18577" y="16017"/>
                  <a:pt x="18579" y="15949"/>
                </a:cubicBezTo>
                <a:cubicBezTo>
                  <a:pt x="18581" y="15883"/>
                  <a:pt x="18577" y="15808"/>
                  <a:pt x="18504" y="15776"/>
                </a:cubicBezTo>
                <a:cubicBezTo>
                  <a:pt x="18457" y="15755"/>
                  <a:pt x="18401" y="15820"/>
                  <a:pt x="18380" y="15850"/>
                </a:cubicBezTo>
                <a:cubicBezTo>
                  <a:pt x="18319" y="15936"/>
                  <a:pt x="18302" y="16096"/>
                  <a:pt x="18281" y="16197"/>
                </a:cubicBezTo>
                <a:cubicBezTo>
                  <a:pt x="18273" y="16238"/>
                  <a:pt x="18264" y="16280"/>
                  <a:pt x="18256" y="16321"/>
                </a:cubicBezTo>
              </a:path>
              <a:path w="5061" h="2531">
                <a:moveTo>
                  <a:pt x="15900" y="15900"/>
                </a:moveTo>
                <a:cubicBezTo>
                  <a:pt x="15943" y="15933"/>
                  <a:pt x="15967" y="15944"/>
                  <a:pt x="16024" y="15949"/>
                </a:cubicBezTo>
                <a:cubicBezTo>
                  <a:pt x="16091" y="15954"/>
                  <a:pt x="16136" y="15935"/>
                  <a:pt x="16197" y="15925"/>
                </a:cubicBezTo>
                <a:cubicBezTo>
                  <a:pt x="16249" y="15925"/>
                  <a:pt x="16267" y="15924"/>
                  <a:pt x="16297" y="159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10280" y="5419800"/>
            <a:ext cx="1347840" cy="689040"/>
          </a:xfrm>
          <a:custGeom>
            <a:avLst/>
            <a:gdLst/>
            <a:ahLst/>
            <a:rect l="l" t="t" r="r" b="b"/>
            <a:pathLst>
              <a:path w="3746" h="1911">
                <a:moveTo>
                  <a:pt x="19472" y="15900"/>
                </a:moveTo>
                <a:cubicBezTo>
                  <a:pt x="19554" y="15900"/>
                  <a:pt x="19643" y="15904"/>
                  <a:pt x="19720" y="15925"/>
                </a:cubicBezTo>
                <a:cubicBezTo>
                  <a:pt x="19804" y="15948"/>
                  <a:pt x="19880" y="15970"/>
                  <a:pt x="19968" y="15974"/>
                </a:cubicBezTo>
                <a:cubicBezTo>
                  <a:pt x="20025" y="15977"/>
                  <a:pt x="20026" y="15979"/>
                  <a:pt x="20067" y="15949"/>
                </a:cubicBezTo>
              </a:path>
              <a:path w="3746" h="1911">
                <a:moveTo>
                  <a:pt x="19645" y="16446"/>
                </a:moveTo>
                <a:cubicBezTo>
                  <a:pt x="19770" y="16543"/>
                  <a:pt x="19803" y="16556"/>
                  <a:pt x="19943" y="16594"/>
                </a:cubicBezTo>
                <a:cubicBezTo>
                  <a:pt x="20024" y="16616"/>
                  <a:pt x="20036" y="16610"/>
                  <a:pt x="20117" y="16594"/>
                </a:cubicBezTo>
              </a:path>
              <a:path w="3746" h="1911">
                <a:moveTo>
                  <a:pt x="20513" y="15056"/>
                </a:moveTo>
                <a:cubicBezTo>
                  <a:pt x="20513" y="15169"/>
                  <a:pt x="20512" y="15270"/>
                  <a:pt x="20538" y="15379"/>
                </a:cubicBezTo>
                <a:cubicBezTo>
                  <a:pt x="20578" y="15550"/>
                  <a:pt x="20646" y="15749"/>
                  <a:pt x="20662" y="15925"/>
                </a:cubicBezTo>
                <a:cubicBezTo>
                  <a:pt x="20676" y="16074"/>
                  <a:pt x="20698" y="16222"/>
                  <a:pt x="20712" y="16371"/>
                </a:cubicBezTo>
                <a:cubicBezTo>
                  <a:pt x="20719" y="16448"/>
                  <a:pt x="20711" y="16573"/>
                  <a:pt x="20737" y="16644"/>
                </a:cubicBezTo>
                <a:cubicBezTo>
                  <a:pt x="20757" y="16700"/>
                  <a:pt x="20755" y="16704"/>
                  <a:pt x="20786" y="16694"/>
                </a:cubicBezTo>
              </a:path>
              <a:path w="3746" h="1911">
                <a:moveTo>
                  <a:pt x="21357" y="15156"/>
                </a:moveTo>
                <a:cubicBezTo>
                  <a:pt x="21395" y="15203"/>
                  <a:pt x="21423" y="15269"/>
                  <a:pt x="21431" y="15329"/>
                </a:cubicBezTo>
                <a:cubicBezTo>
                  <a:pt x="21447" y="15448"/>
                  <a:pt x="21481" y="15555"/>
                  <a:pt x="21481" y="15677"/>
                </a:cubicBezTo>
              </a:path>
              <a:path w="3746" h="1911">
                <a:moveTo>
                  <a:pt x="21158" y="15478"/>
                </a:moveTo>
                <a:cubicBezTo>
                  <a:pt x="21291" y="15504"/>
                  <a:pt x="21425" y="15519"/>
                  <a:pt x="21555" y="15553"/>
                </a:cubicBezTo>
                <a:cubicBezTo>
                  <a:pt x="21580" y="15561"/>
                  <a:pt x="21605" y="15569"/>
                  <a:pt x="21630" y="15577"/>
                </a:cubicBezTo>
              </a:path>
              <a:path w="3746" h="1911">
                <a:moveTo>
                  <a:pt x="21431" y="16123"/>
                </a:moveTo>
                <a:cubicBezTo>
                  <a:pt x="21556" y="16182"/>
                  <a:pt x="21598" y="16207"/>
                  <a:pt x="21729" y="16173"/>
                </a:cubicBezTo>
              </a:path>
              <a:path w="3746" h="1911">
                <a:moveTo>
                  <a:pt x="22175" y="15528"/>
                </a:moveTo>
                <a:cubicBezTo>
                  <a:pt x="22175" y="15640"/>
                  <a:pt x="22160" y="15741"/>
                  <a:pt x="22151" y="15850"/>
                </a:cubicBezTo>
                <a:cubicBezTo>
                  <a:pt x="22139" y="15999"/>
                  <a:pt x="22147" y="16122"/>
                  <a:pt x="22151" y="16272"/>
                </a:cubicBezTo>
                <a:cubicBezTo>
                  <a:pt x="22153" y="16330"/>
                  <a:pt x="22151" y="16388"/>
                  <a:pt x="22151" y="16446"/>
                </a:cubicBezTo>
                <a:cubicBezTo>
                  <a:pt x="22214" y="16391"/>
                  <a:pt x="22207" y="16367"/>
                  <a:pt x="22225" y="16272"/>
                </a:cubicBezTo>
                <a:cubicBezTo>
                  <a:pt x="22255" y="16113"/>
                  <a:pt x="22271" y="15961"/>
                  <a:pt x="22299" y="15801"/>
                </a:cubicBezTo>
                <a:cubicBezTo>
                  <a:pt x="22321" y="15676"/>
                  <a:pt x="22363" y="15550"/>
                  <a:pt x="22399" y="15429"/>
                </a:cubicBezTo>
                <a:cubicBezTo>
                  <a:pt x="22419" y="15363"/>
                  <a:pt x="22483" y="15243"/>
                  <a:pt x="22547" y="15205"/>
                </a:cubicBezTo>
                <a:cubicBezTo>
                  <a:pt x="22597" y="15175"/>
                  <a:pt x="22740" y="15147"/>
                  <a:pt x="22796" y="15156"/>
                </a:cubicBezTo>
                <a:cubicBezTo>
                  <a:pt x="22890" y="15171"/>
                  <a:pt x="22971" y="15180"/>
                  <a:pt x="23068" y="15180"/>
                </a:cubicBezTo>
                <a:cubicBezTo>
                  <a:pt x="23118" y="15180"/>
                  <a:pt x="23167" y="15180"/>
                  <a:pt x="23217" y="15180"/>
                </a:cubicBezTo>
              </a:path>
              <a:path w="3746" h="1911">
                <a:moveTo>
                  <a:pt x="22796" y="15726"/>
                </a:moveTo>
                <a:cubicBezTo>
                  <a:pt x="22747" y="15831"/>
                  <a:pt x="22687" y="15920"/>
                  <a:pt x="22647" y="16024"/>
                </a:cubicBezTo>
                <a:cubicBezTo>
                  <a:pt x="22608" y="16125"/>
                  <a:pt x="22606" y="16264"/>
                  <a:pt x="22622" y="16371"/>
                </a:cubicBezTo>
                <a:cubicBezTo>
                  <a:pt x="22632" y="16439"/>
                  <a:pt x="22664" y="16592"/>
                  <a:pt x="22721" y="16644"/>
                </a:cubicBezTo>
                <a:cubicBezTo>
                  <a:pt x="22777" y="16695"/>
                  <a:pt x="22829" y="16707"/>
                  <a:pt x="22895" y="16669"/>
                </a:cubicBezTo>
                <a:cubicBezTo>
                  <a:pt x="22978" y="16622"/>
                  <a:pt x="23067" y="16571"/>
                  <a:pt x="23093" y="16470"/>
                </a:cubicBezTo>
                <a:cubicBezTo>
                  <a:pt x="23156" y="16222"/>
                  <a:pt x="23194" y="16271"/>
                  <a:pt x="23093" y="16173"/>
                </a:cubicBezTo>
                <a:cubicBezTo>
                  <a:pt x="22982" y="16193"/>
                  <a:pt x="23002" y="16196"/>
                  <a:pt x="22944" y="16297"/>
                </a:cubicBezTo>
                <a:cubicBezTo>
                  <a:pt x="22859" y="16445"/>
                  <a:pt x="22794" y="16632"/>
                  <a:pt x="22696" y="16768"/>
                </a:cubicBezTo>
                <a:cubicBezTo>
                  <a:pt x="22604" y="16860"/>
                  <a:pt x="22575" y="16884"/>
                  <a:pt x="22547" y="169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653080" y="6027840"/>
            <a:ext cx="419040" cy="384120"/>
          </a:xfrm>
          <a:custGeom>
            <a:avLst/>
            <a:gdLst/>
            <a:ahLst/>
            <a:rect l="l" t="t" r="r" b="b"/>
            <a:pathLst>
              <a:path w="1167" h="1068">
                <a:moveTo>
                  <a:pt x="15701" y="16842"/>
                </a:moveTo>
                <a:cubicBezTo>
                  <a:pt x="15759" y="16885"/>
                  <a:pt x="15775" y="16874"/>
                  <a:pt x="15850" y="16892"/>
                </a:cubicBezTo>
                <a:cubicBezTo>
                  <a:pt x="15949" y="16916"/>
                  <a:pt x="16027" y="16899"/>
                  <a:pt x="16123" y="16867"/>
                </a:cubicBezTo>
              </a:path>
              <a:path w="1167" h="1068">
                <a:moveTo>
                  <a:pt x="16470" y="16743"/>
                </a:moveTo>
                <a:cubicBezTo>
                  <a:pt x="16546" y="16791"/>
                  <a:pt x="16624" y="16838"/>
                  <a:pt x="16694" y="16892"/>
                </a:cubicBezTo>
                <a:cubicBezTo>
                  <a:pt x="16730" y="16920"/>
                  <a:pt x="16758" y="16977"/>
                  <a:pt x="16768" y="17016"/>
                </a:cubicBezTo>
              </a:path>
              <a:path w="1167" h="1068">
                <a:moveTo>
                  <a:pt x="16743" y="17066"/>
                </a:moveTo>
                <a:cubicBezTo>
                  <a:pt x="16650" y="17152"/>
                  <a:pt x="16591" y="17173"/>
                  <a:pt x="16495" y="17239"/>
                </a:cubicBezTo>
                <a:cubicBezTo>
                  <a:pt x="16437" y="17279"/>
                  <a:pt x="16401" y="17350"/>
                  <a:pt x="16396" y="17413"/>
                </a:cubicBezTo>
                <a:cubicBezTo>
                  <a:pt x="16392" y="17458"/>
                  <a:pt x="16443" y="17552"/>
                  <a:pt x="16470" y="17587"/>
                </a:cubicBezTo>
                <a:cubicBezTo>
                  <a:pt x="16532" y="17666"/>
                  <a:pt x="16584" y="17706"/>
                  <a:pt x="16669" y="17760"/>
                </a:cubicBezTo>
                <a:cubicBezTo>
                  <a:pt x="16779" y="17829"/>
                  <a:pt x="16757" y="17820"/>
                  <a:pt x="16867" y="177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Y=4x</a:t>
            </a:r>
            <a:r>
              <a:rPr b="1" lang="en-US" sz="4400" spc="-1" strike="noStrike" baseline="30000">
                <a:solidFill>
                  <a:srgbClr val="dddddd"/>
                </a:solidFill>
                <a:latin typeface="Garamond"/>
              </a:rPr>
              <a:t>2</a:t>
            </a: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-4x+21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240" name="handygraph1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43815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2:04:05Z</dcterms:created>
  <dc:creator>jnewman</dc:creator>
  <dc:description/>
  <dc:language>en-US</dc:language>
  <cp:lastModifiedBy>abeason</cp:lastModifiedBy>
  <dcterms:modified xsi:type="dcterms:W3CDTF">2009-05-12T17:34:25Z</dcterms:modified>
  <cp:revision>10</cp:revision>
  <dc:subject/>
  <dc:title>Lesson 2.2</dc:title>
</cp:coreProperties>
</file>